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CF8-1DEB-497C-8E7B-E8714849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9C6-6A38-4EFF-BD58-9B18409B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180-7F25-4FA5-B32E-FB0E156F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7CF-B849-43F7-BE13-58A04641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A91-57B3-4A9A-AD88-104F09EA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EEA-2CAA-4C41-B6B1-5E3F7E99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BF8-B143-490A-900A-AD7F5CEC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6C3-BB2B-494B-B249-622F5E14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C34-165A-423E-9E00-85451EA6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AAE-C190-41E8-88FF-EA7623E7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812-A843-4594-972E-C83BE04F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6F5-9FEA-45B6-93FC-FF49D2FF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798B-5497-4013-8B99-5578C8528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AmikIRPGLY" TargetMode="External"/><Relationship Id="rId2" Type="http://schemas.openxmlformats.org/officeDocument/2006/relationships/hyperlink" Target="http://www.youtube.com/watch?v=J-sXRp-wh6A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lvinburgess.net/" TargetMode="External"/><Relationship Id="rId2" Type="http://schemas.openxmlformats.org/officeDocument/2006/relationships/hyperlink" Target="http://www.melvinburgess.net/" TargetMode="External"/><Relationship Id="rId3" Type="http://schemas.openxmlformats.org/officeDocument/2006/relationships/hyperlink" Target="http://www.melvinburgess.net/" TargetMode="External"/><Relationship Id="rId4" Type="http://schemas.openxmlformats.org/officeDocument/2006/relationships/hyperlink" Target="http://www.youtube.com/watch?v=6Z7Y_YD8JiA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6019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LVIN BURG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43200" y="2438280"/>
            <a:ext cx="3351240" cy="14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UNK</a:t>
            </a:r>
            <a:endParaRPr b="0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n59395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15476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junk_jacket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344016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 characters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ar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at Disco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dandelion repres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1447920"/>
            <a:ext cx="2666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562720" y="4495680"/>
            <a:ext cx="2666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the auth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371600"/>
            <a:ext cx="4267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rn April 25, 19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written 23 books in 19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book: The cry of the wo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ok was ‘Junk’ (Or Sm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236114497_a2d8f8036a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36104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ith Bak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con_bakker_narrowweb__300x416,0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3809880" cy="5283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44197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ny that you spell the name of the worst drug and a female hero the same, they both tried to kill m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site of Melvin Burg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lvinburgess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k: Alternative co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mackbig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398304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00px-MelvinBurgess_Junk" descr=""/>
          <p:cNvPicPr/>
          <p:nvPr/>
        </p:nvPicPr>
        <p:blipFill>
          <a:blip r:embed="rId1"/>
          <a:stretch/>
        </p:blipFill>
        <p:spPr>
          <a:xfrm>
            <a:off x="2743200" y="457200"/>
            <a:ext cx="3556080" cy="5583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14598569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36212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unk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3905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2:48:02Z</dcterms:created>
  <dc:creator>Wouter</dc:creator>
  <dc:description/>
  <dc:language>en-US</dc:language>
  <cp:lastModifiedBy>Wouter</cp:lastModifiedBy>
  <dcterms:modified xsi:type="dcterms:W3CDTF">2009-03-29T16:13:14Z</dcterms:modified>
  <cp:revision>9</cp:revision>
  <dc:subject/>
  <dc:title>PowerPoint-presentatie</dc:title>
</cp:coreProperties>
</file>