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54B-E5E4-4E21-AC7C-D1475C08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415-A6FB-4959-B5B1-7ACA8A70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3D4-A711-411E-B65A-9C06C332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926-5FB0-412C-889F-DDF64B68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1E4-5D10-41EC-9733-1657C18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65F-5288-4C62-A05A-0DAC3A10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8AC-A07A-4696-8783-F561B1BD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BA8-5EA1-461F-9929-9558534C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88E-9770-442B-9D0A-54AC21D4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252-B43A-4685-9780-8F6F39A2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608-435C-4931-8F25-67A9D90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DB0-9DE9-467B-B80B-540DCA7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9B8C-5797-46F7-8079-5D364110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AmikIRPGLY" TargetMode="External"/><Relationship Id="rId2" Type="http://schemas.openxmlformats.org/officeDocument/2006/relationships/hyperlink" Target="http://www.youtube.com/watch?v=J-sXRp-wh6A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lvinburgess.net/" TargetMode="External"/><Relationship Id="rId2" Type="http://schemas.openxmlformats.org/officeDocument/2006/relationships/hyperlink" Target="http://www.melvinburgess.net/" TargetMode="External"/><Relationship Id="rId3" Type="http://schemas.openxmlformats.org/officeDocument/2006/relationships/hyperlink" Target="http://www.melvinburgess.net/" TargetMode="External"/><Relationship Id="rId4" Type="http://schemas.openxmlformats.org/officeDocument/2006/relationships/hyperlink" Target="http://www.youtube.com/watch?v=6Z7Y_YD8JiA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VIN BURG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2438280"/>
            <a:ext cx="335124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UNK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59395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547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junk_jacket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4401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 characters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dandelion repres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44792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62720" y="449568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371600"/>
            <a:ext cx="4267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n April 25, 1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ritten 23 books in 19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book: The cry of the w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ok was ‘Junk’ (Or Sm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236114497_a2d8f8036a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3610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ith Bak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con_bakker_narrowweb__300x416,0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528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4197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ny that you spell the name of the worst drug and a female hero the same, they both tried to kill m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site of Melvin Burg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lvinburges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k: Alternative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mackbig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9830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00px-MelvinBurgess_Junk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55608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4598569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621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unk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905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2:48:02Z</dcterms:created>
  <dc:creator>Wouter</dc:creator>
  <dc:description/>
  <dc:language>en-US</dc:language>
  <cp:lastModifiedBy>Wouter</cp:lastModifiedBy>
  <dcterms:modified xsi:type="dcterms:W3CDTF">2009-03-29T16:13:14Z</dcterms:modified>
  <cp:revision>9</cp:revision>
  <dc:subject/>
  <dc:title>PowerPoint-presentatie</dc:title>
</cp:coreProperties>
</file>