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539-A261-493A-92D6-F5B300A6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3E5-1D66-4CDD-8183-E8C783A9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D1C-9D48-4134-BF31-6E6BCEB1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42A-8AC9-4A62-B51E-A82E7217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2B5-C875-48AA-BAA4-FF582088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A44-3DA4-4794-9A52-39B62CD7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1FC-EC4C-4A76-B512-4A8F7BF0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129-BB4F-40AB-B62B-30DA3692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629-CC4E-4E97-B4D7-4D36E0EF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4E8-735A-435E-A9A7-6B8B797E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118-E315-48E8-9E51-E2D993A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699-2A78-4ACB-9E8B-D6AC5E60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4C7C-F291-4AA5-AD34-3E0996EE9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AmikIRPGLY" TargetMode="External"/><Relationship Id="rId2" Type="http://schemas.openxmlformats.org/officeDocument/2006/relationships/hyperlink" Target="http://www.youtube.com/watch?v=J-sXRp-wh6A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lvinburgess.net/" TargetMode="External"/><Relationship Id="rId2" Type="http://schemas.openxmlformats.org/officeDocument/2006/relationships/hyperlink" Target="http://www.melvinburgess.net/" TargetMode="External"/><Relationship Id="rId3" Type="http://schemas.openxmlformats.org/officeDocument/2006/relationships/hyperlink" Target="http://www.melvinburgess.net/" TargetMode="External"/><Relationship Id="rId4" Type="http://schemas.openxmlformats.org/officeDocument/2006/relationships/hyperlink" Target="http://www.youtube.com/watch?v=6Z7Y_YD8JiA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6019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VIN BURG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2438280"/>
            <a:ext cx="335124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UNK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n59395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15476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junk_jacket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344016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 characters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dandelion repres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44792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62720" y="449568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371600"/>
            <a:ext cx="4267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n April 25, 19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written 23 books in 19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book: The cry of the w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ok was ‘Junk’ (Or Sm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236114497_a2d8f8036a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3610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ith Bak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con_bakker_narrowweb__300x416,0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528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4197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ny that you spell the name of the worst drug and a female hero the same, they both tried to kill m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site of Melvin Burg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lvinburges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k: Alternative co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mackbig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98304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00px-MelvinBurgess_Junk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556080" cy="5583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14598569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621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unk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905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2:48:02Z</dcterms:created>
  <dc:creator>Wouter</dc:creator>
  <dc:description/>
  <dc:language>en-US</dc:language>
  <cp:lastModifiedBy>Wouter</cp:lastModifiedBy>
  <dcterms:modified xsi:type="dcterms:W3CDTF">2009-03-29T16:13:14Z</dcterms:modified>
  <cp:revision>9</cp:revision>
  <dc:subject/>
  <dc:title>PowerPoint-presentatie</dc:title>
</cp:coreProperties>
</file>