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199-7F85-407A-9D6D-F59CC887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593-5D60-4356-A5BD-FBE4DDDD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E9B-D6E2-4F41-AC6C-19AF61C4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831-B7F1-46E4-8838-72DCEA19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704C-E5F2-4418-965B-D7D77263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E49B-E753-4AE3-A521-72BC1FBD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891C-9B66-4966-9201-37D2328F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9E8F-6AED-4248-9DAB-FAB94850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3A2A-1AC0-4F74-B30E-DD2926A9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75ED-2D4B-4EAA-A8AE-F0246CC5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00C6-AAD8-4315-9FE0-592F8B2F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155-2431-42B6-9A67-9EC290BF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79A-D072-4706-B261-0F8003EF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E926-9494-460E-ADB5-2F599B98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549D-22E4-442A-BBDB-6C8E593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936E-DEC9-4380-AC8A-3F1A0AFB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4F7-E42E-4A1B-B059-F53BFAD7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233B-0338-4CA9-97FA-A1DF6052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A53E-373A-4271-A56F-D147D037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C3AF-425B-4E9F-B930-50D4492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12CB-8768-4353-8C70-15BEE37B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57C6-1BED-42A1-80C8-4A38D1B1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826-5820-427D-9ED4-C0719EE9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85F4-72FA-4437-8EC4-D31E137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5309-126C-481E-8363-6B0D913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0D10-BC15-49B4-B288-31A827B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5E5E-BA23-43B7-A932-1A55745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9FE9-F07A-4F25-BDBC-1CF954FF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8725A-BFA9-4C62-839B-A1406EBA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705C-FB16-41F8-8BE3-AF41DF18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2D30-C832-42BE-8BE3-173FD9D6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F915-4181-4263-9061-BB48486A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2EEF-F389-4717-B9BE-7BCAAEE2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7CF-6060-4D23-B564-6D4DAF1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6F596-F728-4847-A914-4A9B895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89D82-D525-49ED-B1EA-7FACDBA3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5C3F-78BA-49B5-A25D-9AEAA1DA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7583-D323-4E86-A62C-BC45D33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BD73-C708-4440-BB2B-8D8429A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270E1-155B-47F7-9164-1BC5527C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DD4C-0B3A-467B-9A43-D4C1139A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98FE-E836-4DE9-B1BA-30B345F0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88828-A560-4B08-AF66-FB38C3F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9D7A-50F9-47EA-888B-F1115815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79F-D947-4BC9-9460-9C1AC5F0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EC097-36A1-4CF4-9811-F0CD4AFE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8CC35-22B0-48C2-969C-DC2906CA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CB5C-154B-4642-98ED-A78C7B29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7057-1160-4167-8073-B3E259FA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FBF9-E44B-440F-91D7-4704760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3B17-033B-4111-947A-4558586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58473-98AF-4709-9395-246F94EC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8DF7-BD28-45F7-B96B-7B8F54C9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905E-E6F0-4AE7-92EB-F1B9D6E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A2BA1-3E81-47AF-A259-188CCAC1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FB4-5E27-4890-ACA8-F43F595A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ADFF9-CAE9-4DDB-93C2-A9B19685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98000-5672-4708-982F-7FD64036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BF3A-695A-42A2-9A61-832E864F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505D-709F-48F6-A4FC-EBABE3BA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B47B0-7447-4C87-97A0-E5169AEE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B78A-DDEB-40AA-905A-37A1BD7A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2957A-F648-499D-BDCA-3740214D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9588-F744-4168-BE72-5948A6B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3191C-DD07-4434-8872-7FA4734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EDCA9-4311-49C6-9862-C4B343F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7D4-1AA2-4C7F-BCE2-1B724C26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FD10-5DBA-4E89-A146-A88FF3D8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1693-D454-496E-A7D1-02F8AD3E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3B179-BCBA-4A61-9085-7C3CF559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E9F3D-E39D-4571-A2C8-34D037D6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0D821-B780-4F4A-B350-F28E851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21F1A-59F8-43E3-BE40-D21B9399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EC5A9-A2B0-422A-B561-17EC7E4F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1B76B-3B7A-4750-9BB5-920DB6A0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AADF-1717-4FF5-BDC9-89BDE15D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BF1D-AA73-4091-A3BC-4EFB9A5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4E1-6F80-46D8-AABC-7851A73A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0E1CE-2CAB-4E04-9E9F-999B7FC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F1FDD-6A96-4EAF-B047-A009CE4D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42A8-BA8D-4F68-B66D-1F0E1E83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CE6EC-9662-403C-9DC1-5FC27A4F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CB69-184B-41CE-B1D0-1E41E613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DA57-74A0-459D-89E1-D0DC3E19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E610A-445C-42F9-8D10-2346CCD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2EA40-9BA2-4EF1-878B-AE237556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A7697-CC2F-4112-9DF3-B60AAF9C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9F824-EEC5-4DC8-B9C7-46F62639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2A4-64E0-4EA5-B447-899CF8D6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A865-1B80-4DEC-84F0-C555F462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D1B2-0CCE-43BB-BB95-1424E6C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FD8CC-F0F0-40F4-85C6-9817AF5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3930B-63E7-42EF-B42E-60D47B1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C2872-8519-4DD7-8B38-AC68452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B1A51-8907-4229-9D17-8550AA50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3DD54-1425-4A2C-904D-C72E37DF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7556-89A5-458E-82B0-0FB7632CD64D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Rechthoe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Rechthoe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ADE6-ECBF-4E1F-A381-B0788D3F6CD7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994A-0A8C-4031-859E-80057424FDD5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0099-6E18-41FB-BC1C-88226B4A3AF8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4596-C7E3-4A62-9FD0-03D4EDA02EA8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Gelijkbenige driehoe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1EA1-B6D2-4921-BBBB-5D624757AE86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Rechthoe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0BA5-E6A0-414B-A964-3DD4DF8E2246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3C92-FFA5-418F-B6D2-5DDCB4576A1E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fsusd.k12.ca.us/schools/fhs/teacher/link/GigioC/Dreamweaver%202/Oh%20The%20Places%20you&apos;ll%20G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030a0"/>
                </a:solidFill>
                <a:latin typeface="Matura MT Script Capitals"/>
              </a:rPr>
              <a:t>Oh, the Places You’ll Go!</a:t>
            </a:r>
            <a:endParaRPr b="0" lang="en-US" sz="40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13f9a"/>
                </a:solidFill>
                <a:latin typeface="Bookman Old Style"/>
              </a:rPr>
              <a:t>Minor MVT -  Young Adult Lit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Afbeelding 1" descr="product afbeelding"/>
          <p:cNvPicPr/>
          <p:nvPr/>
        </p:nvPicPr>
        <p:blipFill>
          <a:blip r:embed="rId1"/>
          <a:stretch/>
        </p:blipFill>
        <p:spPr>
          <a:xfrm>
            <a:off x="6784920" y="1066680"/>
            <a:ext cx="15415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ill come to a place where the streets are not m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windows are lighted. But mostly they're d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you could sprain both you elbow and chin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 dare to stay out? Do you dare to go in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much can you lose? How much can you wi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F you go in, should you turn left or right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right-and-three-quarters? Or, maybe, not quit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go around back and sneak in from behind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mple it's not, I'm afraid you will find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a mind-maker-upper to make up his mi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so confuse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start in to r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wn long wiggled roads at a break-necking p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grind on for miles across weirdish wild spac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aded, I fear, toward a most useless pla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Waiting Place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720" y="2571840"/>
            <a:ext cx="654372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for people just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a t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bus to come, or a plane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mail to come, or the 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phone to ring, or the snow to sno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a Yes or a N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their hair to gr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the fish to b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wind to fly a k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Friday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, perhaps, for their Uncle Ja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pot to boil, or a Better Brea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sting of pearls, or a pair of pa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wig with curls, or Another Chan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43040" y="2214720"/>
            <a:ext cx="585792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NO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at's not for you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how you'll escap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that waiting and stay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find the bright pla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Boom Bands are play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banner flip-flapping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more you'll ride high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for anything under the sk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because you're that kind of a gu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, the places you'll go! There is fun to b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points to be scored. there are games to be w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magical things you can do with that b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ll make you the winning-est winner of all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me! You'll be famous as famous can b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the whole wide world watching you win on T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57520" y="5214960"/>
            <a:ext cx="33289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they don'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they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afraid that some ti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lay lonely games to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ames you can't w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cause you'll play against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Al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you like it or no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one will be someth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quite a l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alone, there's a very good ch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meet things that scare you right out of your pa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some, down the road between hither and y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can scare you so much you won't want to go 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 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weather be fou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enemies pr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gratulation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day is your day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and awa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brains in your h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feet in your sho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steer yoursel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 direction you choos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n your own. And you know what you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are the guy who'll decide where to g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Hakken-Kraks h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ward up m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rightening creek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arms may get so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sneakers may lea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and on you will hi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 know you'll hike f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ace up to your problem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ever they a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already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many strange birds as you g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be sure when you ste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ep with care and great tac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member that Life'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reat Balancing Ac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never forget to be dexterous and def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never mix up your right foot with your lef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14320" y="2499840"/>
            <a:ext cx="56862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d will you succeed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Yes!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571920" y="2786040"/>
            <a:ext cx="2571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714760" y="2357280"/>
            <a:ext cx="247176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will,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357280" y="2428560"/>
            <a:ext cx="3972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indeed!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28800" y="5714640"/>
            <a:ext cx="3257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(98 and 3 / 4 percent guaranteed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71400" y="2214360"/>
            <a:ext cx="60433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KID, YOU'LL MOVE MOUNTAINS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look up and down streets. Look 'em over with ca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bout some you will say, "I don't choose to go there."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your head full of brains and your shoes full of fee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too smart to go down any not-so-good stree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may not find 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want to go dow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at case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head straight out of tow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your name Buxbaum or Bixby or Br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 Mordecai Ali Van Allen O'She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day is your day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mountain is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28880" y="4785840"/>
            <a:ext cx="68292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...get on your way!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00560" y="5500800"/>
            <a:ext cx="1685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ffde66"/>
                </a:solidFill>
                <a:uFillTx/>
                <a:latin typeface="Gill Sans MT"/>
                <a:hlinkClick r:id="rId1"/>
              </a:rPr>
              <a:t>Dr. Seu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's opener the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e wide open a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 there things can happ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requently d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people as brai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ootsy as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things start to happ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worry. Don't ste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go right alo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start happening to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428560" y="1356840"/>
            <a:ext cx="4329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OH!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E PLACES YOU'LL GO!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on your way up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seeing great sight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join the high flier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soar to high heigh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on't lag behind, because you'll have the spe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ass the whole gang and you'll soon take the l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fly, you'll be the best of the bes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go, you will top all the r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428920" y="2857680"/>
            <a:ext cx="47577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you don'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you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sorry to say s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, sadly, it's tru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Hang-u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 happen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all hung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 prickle-ly perch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gang will fly 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left in a Lur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come down from the Lurc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an unpleasant bum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chances are, th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be in a Slum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in a Slump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not in for much fu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-slumping yoursel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not easily do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59:53Z</dcterms:created>
  <dc:creator>Claire</dc:creator>
  <dc:description/>
  <dc:language>en-US</dc:language>
  <cp:lastModifiedBy>Claire</cp:lastModifiedBy>
  <dcterms:modified xsi:type="dcterms:W3CDTF">2009-02-06T19:30:30Z</dcterms:modified>
  <cp:revision>5</cp:revision>
  <dc:subject/>
  <dc:title>Oh, the Places You’ll Go!</dc:title>
</cp:coreProperties>
</file>