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10DF-D5BB-4AF1-A30E-E6540EB3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3A9-6A23-495E-A48B-A1BDA0E7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DC3-9BC6-4AF0-84F0-8AD6B9B3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3FE-8564-40AC-A766-E74D4B2B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6A09-137C-4365-A386-B677A565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9FAD-4EB7-4EDC-B4E0-71728C21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B19F-1F55-4392-9E9E-627BDFA2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EB21-FAAA-4866-8892-1FE0E50C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8FAF-439B-4BA2-8FEE-CF577E48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960C-B70A-4E36-9E25-6B4F57BB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2928-DD28-49AB-B97F-34B6768D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81EF-FFD0-4ADE-B9DB-DC2212F9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F3D2-459C-4723-B879-96657261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2B31-9E62-4CF0-A038-792ED195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5AD6-0A48-4A6C-83A1-48185AE2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B1AB-B37D-48F9-8724-825CAE12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DDB0-37CE-4978-A190-424C509D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8BCB-E227-409F-A445-A79CCF86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318C3-CEDE-402F-BC88-AA44901E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16F8C-7BD5-407C-A7D0-61D90712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8588A-39A6-4A36-9CE6-6DF07322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05F4-0B33-4152-816B-9D8401EF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977-BECB-42A9-BB39-DBE39D69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90A6A-976F-4349-83EE-2FD71CFD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6ABE-02FD-47ED-95AD-3B826D73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27B24-9791-4FED-81EA-B40078C1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9AB5-3685-4378-A316-80071F6E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1D32F-8E05-4686-973F-912DB584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0A220-619B-432D-A206-21FFEB19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A676-ECB7-4A4F-9C6F-3E6D1079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BE154-7ACC-486B-AFAD-37D11E61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0E16-2C05-46CB-9300-6C9F6C69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D8C92-73AD-4558-8EE8-6A99419E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9C0-3C87-46E0-9A0C-6A95DA22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BA5C7-E187-4519-94C4-E936CD61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14ACC-BC90-4063-8EDC-B6D28EFD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E7197-29B0-47C8-B13C-36F27EB5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57D31-F27F-400A-915A-AF36D582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2219C-B193-4BCA-81BD-A9D9B53B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8B686-83EF-4A16-BBBA-93EA4EE0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426DA-4516-48D9-8E50-CE374FCA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F2F97-C93D-4461-B11B-CBC6F079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66D57-239E-4207-8156-0DF9C91C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16192-7D53-43E8-8A90-3E421568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272-C081-4B04-8342-FAE74606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53CCD-C880-4EE7-89DF-6538C51B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EE176-51C1-4EC0-830E-53B47C2D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32A35-9D5D-4BBD-A980-7214434B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6D4CA-4C32-428E-9FF1-1D266C34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28DDA-B9DB-4493-872E-C29EC683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007DA-3595-48F5-B7E8-2C2CF2F5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0684A-BE47-4965-A838-86B532C3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D11B2-33F5-456C-A52D-382518E7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30E4E-E604-4374-A8FC-44C9FBF3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00516-8B3F-4A5E-AC66-91EC5293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CA1-7C4B-4983-894C-EE70F643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FB3EA-25FB-415E-A375-FF544735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E1CB4-81C6-49C9-B2AB-6F1A1FE2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8E619-427A-45F8-B9C4-4E2E5BB5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3AE7C-0D51-4C82-A5E7-2ACC2D8B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C718A-BAED-4963-A5A7-1B5C8A70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D118C-ED32-401C-BAEC-136DF66B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847B5-838B-4682-BB4D-B3D9D2AA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37D00-FA4D-4EEF-9BB1-225314E5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A372F-B593-42F2-9093-8FAB150F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76FBE-8297-40D1-B88B-1ADF0853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F2F-3F73-453F-BDE8-F79DC248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8E8BA-8284-4220-8745-261819C5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5DC37-B36A-491D-A0F1-C34E518A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7B480-B2C5-4FFB-80FE-BAE1AC3B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1E5AA-9961-45C0-A2B3-210D528F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4101A-E5FD-4282-8201-0825E83E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3C8B5-9B4A-49AD-8317-F3B0917E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BF162-9335-4917-A9B5-D51687E9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E1E8D-E863-4C80-AF34-72DE2837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D52F8-266E-4C02-8B2E-656D56B1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29EF7-352D-40A5-934C-357CDE45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62B2-8FDF-41A8-8020-8557C19F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30422-AB6C-4C1C-AF6C-1E092689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D11B5-2653-4DC7-AB25-3DD3159A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5754D-8356-4D65-95CD-847FEA00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48B9F-5B87-4B1F-8A08-FFA3E48A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D2D89-E15E-41A8-ACB4-A2EA1FC2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EB97D-DAA0-4E10-B408-5CE81421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2AC91-7CE6-4648-B1F9-015C6D8C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6C502-4DA1-4A1B-95D7-1C96E736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6364F-A545-44B2-B97A-49D1D2B6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ED9D8-8FCF-487C-9412-61551FC2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E1F-9168-4B15-B78E-36909345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6DA82-777F-43AF-81B4-F265F6DE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41A17-9CB1-4625-BF65-C6C9D15C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576E3-5E45-486E-82EC-F5708B6A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A18D9-F9BE-4B47-9DE8-FDD5DCE4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A415A-4F62-4A12-90A8-F9A067D0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69AFE-9011-4467-9A35-21709C55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A69EF-F143-4657-984C-3F7A726C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68BA-1464-430F-8F51-3E502E1A60BB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Rechthoek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Rechthoek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5F74-EB1D-4460-9B27-F77139373971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f4e7ed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5C24-BF2A-4DB4-AE88-AB73A177E569}" type="slidenum"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4A5F-6541-46FC-9D18-2D4C8A86FAC4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D069-2B4A-45A0-9975-A6C76EFB0E2A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Gelijkbenige driehoek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AC1D-807B-4C90-B6B8-C3D8D28EA43B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Rechthoek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f4e7ed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C42F-6C30-4B19-BA2C-7C6278BA0BA7}" type="slidenum"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Rechte verbindingslijn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58B1-7971-401B-931C-0151441503BF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chools.fsusd.k12.ca.us/schools/fhs/teacher/link/GigioC/Dreamweaver%202/Oh%20The%20Places%20you&apos;ll%20Go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7030a0"/>
                </a:solidFill>
                <a:latin typeface="Matura MT Script Capitals"/>
              </a:rPr>
              <a:t>Oh, the Places You’ll Go!</a:t>
            </a:r>
            <a:endParaRPr b="0" lang="en-US" sz="40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13f9a"/>
                </a:solidFill>
                <a:latin typeface="Bookman Old Style"/>
              </a:rPr>
              <a:t>Minor MVT -  Young Adult Litera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Afbeelding 1" descr="product afbeelding"/>
          <p:cNvPicPr/>
          <p:nvPr/>
        </p:nvPicPr>
        <p:blipFill>
          <a:blip r:embed="rId1"/>
          <a:stretch/>
        </p:blipFill>
        <p:spPr>
          <a:xfrm>
            <a:off x="6784920" y="1066680"/>
            <a:ext cx="15415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will come to a place where the streets are not mark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 windows are lighted. But mostly they're dark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lace you could sprain both you elbow and chin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 you dare to stay out? Do you dare to go in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much can you lose? How much can you wi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IF you go in, should you turn left or right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right-and-three-quarters? Or, maybe, not quite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go around back and sneak in from behind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mple it's not, I'm afraid you will find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a mind-maker-upper to make up his mi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get so confuse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you'll start in to ra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wn long wiggled roads at a break-necking pa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grind on for miles across weirdish wild space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aded, I fear, toward a most useless plac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Waiting Place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42720" y="2571840"/>
            <a:ext cx="654372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for people just wait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iting for a train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bus to come, or a plane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the mail to come, or the rain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the phone to ring, or the snow to snow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around for a Yes or a N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for their hair to gr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veryone is just wai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iting for the fish to b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for wind to fly a k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around for Friday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, perhaps, for their Uncle Jak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pot to boil, or a Better Break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sting of pearls, or a pair of pan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wig with curls, or Another Chanc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veryone is just wai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643040" y="2214720"/>
            <a:ext cx="585792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NO!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That's not for you!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how you'll escap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that waiting and stay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find the bright plac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 Boom Bands are play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banner flip-flapping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ce more you'll ride high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dy for anything under the sky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dy because you're that kind of a guy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h, the places you'll go! There is fun to be don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points to be scored. there are games to be w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the magical things you can do with that ba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ll make you the winning-est winner of all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me! You'll be famous as famous can be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the whole wide world watching you win on TV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357520" y="5214960"/>
            <a:ext cx="332892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cept when they don'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ecause, sometimes, they won't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'm afraid that some tim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play lonely games too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ames you can't wi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'cause you'll play against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Alon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you like it or not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one will be something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quite a lo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you're alone, there's a very good chan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meet things that scare you right out of your pant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some, down the road between hither and yo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can scare you so much you won't want to go 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 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the weather be fou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your enemies prow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gratulation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day is your day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ff to Great Place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ff and away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have brains in your hea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have feet in your sho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steer yourself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y direction you choos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n your own. And you know what you kn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 are the guy who'll decide where to g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the Hakken-Kraks how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ward up ma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frightening creek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your arms may get so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r sneakers may leak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and on you will hik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I know you'll hike fa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ace up to your problem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ever they ar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get mixed up, of cours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s you already kn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get mixed u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many strange birds as you go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 be sure when you step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ep with care and great tac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remember that Life'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Great Balancing Ac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never forget to be dexterous and def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never mix up your right foot with your lef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714320" y="2499840"/>
            <a:ext cx="56862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12760" indent="-21276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And will you succeed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Yes!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Yes!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Yes!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Yes!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Yes!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571920" y="2786040"/>
            <a:ext cx="2571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You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714760" y="2357280"/>
            <a:ext cx="247176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will,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357280" y="2428560"/>
            <a:ext cx="397224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indeed!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428800" y="5714640"/>
            <a:ext cx="32576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(98 and 3 / 4 percent guaranteed.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571400" y="2214360"/>
            <a:ext cx="604332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KID, YOU'LL MOVE MOUNTAINS!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So…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look up and down streets. Look 'em over with car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bout some you will say, "I don't choose to go there."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your head full of brains and your shoes full of feet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too smart to go down any not-so-good stree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 may not find a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want to go dow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that case, of cours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head straight out of tow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your name Buxbaum or Bixby or Bra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 Mordecai Ali Van Allen O'Shea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're off to Great Places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day is your day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r mountain is wait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So…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928880" y="4785840"/>
            <a:ext cx="68292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07360" indent="-20736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 MT"/>
              </a:rPr>
              <a:t>...get on your way!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000560" y="5500800"/>
            <a:ext cx="16858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ffde66"/>
                </a:solidFill>
                <a:uFillTx/>
                <a:latin typeface="Gill Sans MT"/>
                <a:hlinkClick r:id="rId1"/>
              </a:rPr>
              <a:t>Dr. Seu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's opener the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the wide open a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ut there things can happe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requently d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people as brai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ootsy as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things start to happe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't worry. Don't ste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go right alo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start happening to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428560" y="1356840"/>
            <a:ext cx="432900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OH!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THE PLACES YOU'LL GO! 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on your way up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seeing great sight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join the high flier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soar to high heigh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won't lag behind, because you'll have the spe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pass the whole gang and you'll soon take the lea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ver you fly, you'll be the best of the bes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ver you go, you will top all the res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428920" y="2857680"/>
            <a:ext cx="475776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cept when you don'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ecause, sometimes, you won't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'm sorry to say s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, sadly, it's tru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Hang-up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n happen to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get all hung u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a prickle-ly perch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r gang will fly 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left in a Lurc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come down from the Lurc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an unpleasant bump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the chances are, the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you'll be in a Slump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you're in a Slump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not in for much fu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n-slumping yoursel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s not easily don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8:59:53Z</dcterms:created>
  <dc:creator>Claire</dc:creator>
  <dc:description/>
  <dc:language>en-US</dc:language>
  <cp:lastModifiedBy>Claire</cp:lastModifiedBy>
  <dcterms:modified xsi:type="dcterms:W3CDTF">2009-02-06T19:30:30Z</dcterms:modified>
  <cp:revision>5</cp:revision>
  <dc:subject/>
  <dc:title>Oh, the Places You’ll Go!</dc:title>
</cp:coreProperties>
</file>