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C1D-B30E-4C48-AD91-6775B907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834-A7A1-4274-A047-BD7D354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333-8690-4053-A858-84A02858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AE7-735E-4241-955A-E083A6E5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F767-B65D-4B49-854C-2A4EA30E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9FDE-096B-41F6-9310-CC841363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03F6-0E84-4EC4-9F96-2145D460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E188-7CBC-460F-9D22-16464AA9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6B8-C139-4DFB-8494-26909360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DF9-B4DE-487E-8FFC-5A331F29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A4AE-E65A-4C67-9F96-AB132EC2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B7F-23DD-4E6C-9E89-4B146FD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0BF7-C0E2-40C2-BC67-DF6EC51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1C7-23DD-47AE-B538-0F5D1BE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7470-A0AF-4B42-AD8D-F07ED4E9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0A8C-F158-4B9E-A57C-471C1281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11A-4795-4DE5-9EBD-5F202682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8E10-3B87-4D59-9B16-5FAFD3FB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9931-B4AE-48E9-8505-09D6BEC0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FD1B-E045-44BF-9DF4-BC65E696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4CCA-3193-462B-ACC8-2C88BBC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842B-F600-4B8E-8193-F11CF371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405-FC18-440B-BD57-84C6F38C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0F92-88BD-436E-A8AB-EA3393A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8897-477D-4C8F-A6DC-BA8C7CD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84F6-B840-44DC-A13D-E5E82CD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AB68-83CC-4AF1-9F5C-1AA4798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3A60-7CFC-4FB6-AAD7-5783B594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8086-2B00-4E0F-BA21-16B9C101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28EC-64BA-4A75-A972-C16E2236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E45F-1211-416B-ABB6-89906E5E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9FC73-7A57-40A7-861A-4749C5A9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48F2-E5E5-4EBE-A5FB-50667F7A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F0F-F867-4CD8-A817-B24E1662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298E-80B6-40FA-89AE-78EF4DBF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62F3-E900-45BA-9A32-84A8F907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D876-7966-4FA9-B509-DBBC7E4C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C2FE-92C3-41B9-8972-0ACA119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46EF-5B53-4B7D-A8B2-86AAF00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B2E4-8AF8-49C3-9585-5599D25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7802-70B8-4235-9C75-D5BE166D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0DE1-52B3-402A-A915-BDD50C9E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88BE-E061-4E5D-B309-946C06BB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F012-FA72-4A43-9404-171E5AE1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48D-159D-4955-87CA-E79458C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EFB7F-C296-4107-9971-D03AE9C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0EF4-2DB9-4537-ADE4-99CCA5E9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2D67-D04B-4D52-AA63-7E853211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807A-C3CB-4104-B0AB-2DB99A59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6BE2-9E33-4AAD-AB90-18C1048B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7DA0-0D82-486A-8D15-358ED4C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2CD2-6F28-4BCD-AB1F-E7829AD5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76BF-5826-43B4-B261-03E25A8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4BB4-6301-4C41-BA6A-C94EE2FA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A839-50EA-44B7-A966-99B3C78A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D43-DE0A-4F1D-9B6A-8991942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D94D8-6B4C-4BB5-A35E-EDB49622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0C39-9AD3-492A-B8E3-51630EB2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5BF3-423F-497A-B838-7278421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2218-4A15-4164-A55C-3F726061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18716-DB3D-46D3-BE87-4FB63E63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4FD7-F183-41DB-BFCF-06C38F4A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89CE-30B4-4603-AB10-D2516A7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D93F-F755-47F5-B3F1-CAEFD5B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D963-3DD1-4EB6-AF58-606E331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E281-6731-4BEF-934B-26F42AB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8F3-059B-4790-ACD1-C880CF1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3DAB8-DA88-42D0-9DCD-AE770FA9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3ABC-748B-49C1-9FF1-674A4265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3389-8BAA-4BBE-BA81-4CE128D0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D148D-1F59-46C4-B8D9-B0E5A74F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81179-802F-491E-A651-A0A863A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70380-AC0C-4BA1-8C95-0E1A3A30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A5C8-FC9A-45C0-8C4D-4DFF45C8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F0F8-7FBB-47A8-9BEA-59510BB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3D1C4-FC25-4662-BCE3-B924C739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13B4-602A-44CE-904B-3CE98B9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82E-73E6-4585-B6A0-487DA8E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6305-D467-4FEE-B227-29F0E95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13546-D7A6-4367-A0B0-2B4DBE3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27BB-A245-4AE2-8D5E-47D280FB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5C59-BC95-47E6-8A33-194EB5F0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FC56-611C-4B00-A604-B4025F62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E214-9A79-4927-8846-7FF13F1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14A4F-6732-48DE-84BB-5A7AB30E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F7B7-7E7C-4646-B4E6-1539800F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8806-1F55-4A04-BD98-C0AC4D2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F8A72-6C7D-40D4-BBA4-BD446F90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DA2-AF91-40C9-8C18-F91F3B6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C5F1-201E-4D8E-A6F5-9C422A8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F56F-A4FC-4139-A497-C4E48A79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938C-FAD0-4EB8-8583-370F19D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0A8E8-B714-4FDD-8866-FC7586E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48753-4287-4A9B-97D5-A2184C48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477D1-5824-4AD4-845E-4EB0995D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B9FF-90E1-431D-B1A5-FF1BBD2A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4F0-61A0-4196-A52B-BD632CFDE9E6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Rechthoe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Rechthoe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A275-0BA1-45A0-9BB4-BEE974C90186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4E1F-EABD-436F-A895-972CBF99FEE5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1238-B1DE-4C8D-B81B-B006DB0724CE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92B-0F11-4A4D-B2C3-9376BAF26008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Gelijkbenige driehoe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4AD1-A876-43C4-AD95-1093E3963FDF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Rechthoe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97E-24AF-4D20-BE8A-C8B080EF7061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3C4-4BF0-4F58-B03E-5DD9A0703504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fsusd.k12.ca.us/schools/fhs/teacher/link/GigioC/Dreamweaver%202/Oh%20The%20Places%20you&apos;ll%20G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030a0"/>
                </a:solidFill>
                <a:latin typeface="Matura MT Script Capitals"/>
              </a:rPr>
              <a:t>Oh, the Places You’ll Go!</a:t>
            </a:r>
            <a:endParaRPr b="0" lang="en-US" sz="40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13f9a"/>
                </a:solidFill>
                <a:latin typeface="Bookman Old Style"/>
              </a:rPr>
              <a:t>Minor MVT -  Young Adult Lit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Afbeelding 1" descr="product afbeelding"/>
          <p:cNvPicPr/>
          <p:nvPr/>
        </p:nvPicPr>
        <p:blipFill>
          <a:blip r:embed="rId1"/>
          <a:stretch/>
        </p:blipFill>
        <p:spPr>
          <a:xfrm>
            <a:off x="6784920" y="1066680"/>
            <a:ext cx="1541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ill come to a place where the streets are not m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windows are lighted. But mostly they're d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you could sprain both you elbow and chin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 dare to stay out? Do you dare to go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much can you lose? How much can you wi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F you go in, should you turn left or right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right-and-three-quarters? Or, maybe, not quit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go around back and sneak in from behind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mple it's not, I'm afraid you will find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a mind-maker-upper to make up his mi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so confuse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start in to r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wn long wiggled roads at a break-necking p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grind on for miles across weirdish wild spac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aded, I fear, toward a most useless pla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Waiting Place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720" y="2571840"/>
            <a:ext cx="65437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for people just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a t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bus to come, or a plane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mail to come, or the 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phone to ring, or the snow to s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a Yes or a N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their hair to gr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the fish to b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wind to fly a k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Friday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, perhaps, for their Uncle Ja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pot to boil, or a Better Brea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sting of pearls, or a pair of pa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wig with curls, or Another Chan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43040" y="2214720"/>
            <a:ext cx="585792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NO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at's not for you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how you'll esca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that waiting and stay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find the bright pla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Boom Bands are play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banner flip-flapping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more you'll ride high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for anything under the s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because you're that kind of a gu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, the places you'll go! There is fun to b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points to be scored. there are games to be w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magical things you can do with that b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ll make you the winning-est winner of all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me! You'll be famous as famous can b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the whole wide world watching you win on T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57520" y="5214960"/>
            <a:ext cx="33289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they don'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they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afraid that some ti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lay lonely games to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ames you can't w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cause you'll play against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Al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you like it or no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one will be someth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quite a l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alone, there's a very good ch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meet things that scare you right out of your pa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some, down the road between hither and y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can scare you so much you won't want to go 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 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weather be fou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enemies pr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gratula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day is your day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and awa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brains in your h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feet in your sho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steer yoursel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 direction you choos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n your own. And you know what you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are the guy who'll decide where to g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Hakken-Kraks h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ward up m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rightening creek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arms may get so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sneakers may lea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and on you will hi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 know you'll hike f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ace up to your problem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ever they a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already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many strange birds as you g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be sure when you ste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ep with care and great tac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member that Life'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reat Balancing Ac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never forget to be dexterous and def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never mix up your right foot with your lef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14320" y="2499840"/>
            <a:ext cx="5686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will you succeed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Yes!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571920" y="2786040"/>
            <a:ext cx="2571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714760" y="2357280"/>
            <a:ext cx="247176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will,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57280" y="2428560"/>
            <a:ext cx="397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indeed!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28800" y="5714640"/>
            <a:ext cx="3257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(98 and 3 / 4 percent guaranteed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71400" y="2214360"/>
            <a:ext cx="60433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KID, YOU'LL MOVE MOUNTAINS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look up and down streets. Look 'em over with ca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bout some you will say, "I don't choose to go there."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your head full of brains and your shoes full of fee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too smart to go down any not-so-good stree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may not find 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want to go dow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at case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head straight out of tow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your name Buxbaum or Bixby or Br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 Mordecai Ali Van Allen O'She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day is your day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mountain is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28880" y="4785840"/>
            <a:ext cx="68292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...get on your way!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00560" y="5500800"/>
            <a:ext cx="1685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ffde66"/>
                </a:solidFill>
                <a:uFillTx/>
                <a:latin typeface="Gill Sans MT"/>
                <a:hlinkClick r:id="rId1"/>
              </a:rPr>
              <a:t>Dr. Se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's opener the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wide open a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 there things can happ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requently d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people as brai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ootsy as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things start to happ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worry. Don't ste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go right alo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start happening to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428560" y="1356840"/>
            <a:ext cx="4329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H!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E PLACES YOU'LL GO!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on your way up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seeing great sight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join the high fli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soar to high heigh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on't lag behind, because you'll have the spe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ass the whole gang and you'll soon take the l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fly, you'll be the best of the bes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go, you will top all the r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428920" y="2857680"/>
            <a:ext cx="47577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you don'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you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sorry to say s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, sadly, it's tru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Hang-u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happen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all hung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 prickle-ly perch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gang will fly 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left in a Lur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come down from the Lurc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an unpleasant bum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chances are, th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be in a Slum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in a Slump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not in for much fu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-slumping yoursel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not easily do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59:53Z</dcterms:created>
  <dc:creator>Claire</dc:creator>
  <dc:description/>
  <dc:language>en-US</dc:language>
  <cp:lastModifiedBy>Claire</cp:lastModifiedBy>
  <dcterms:modified xsi:type="dcterms:W3CDTF">2009-02-06T19:30:30Z</dcterms:modified>
  <cp:revision>5</cp:revision>
  <dc:subject/>
  <dc:title>Oh, the Places You’ll Go!</dc:title>
</cp:coreProperties>
</file>