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4B38-269B-4FB7-B10A-A69F79813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M had his own comic in newspaper, wanted to become a cartoonist, fai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998 started with writing down ideas for Wimpy K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004 first book published online @ funbrain.com. Attracts 70.000 kid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A32-33E6-464A-B52C-04DE89488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8FF-6CE0-4CD0-84BF-018F49BC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A52-832A-4D3B-A733-DE50A781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FC7-A393-4861-B859-91BAAEA7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A70-2248-4BE4-A172-E0A3A477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042-D020-4DAF-9C0F-C8C22683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588-8575-4F2A-AC1D-56E247D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CC1-A65C-49FD-8179-7C1C04E9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09C-6979-41BF-9D4F-007FB276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AF5-07CF-4F38-83C5-F5CA53A0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655-AC3C-4211-8F07-711F044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58F-D0BC-4A5B-B2E9-739EC24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97A-145D-4D75-907D-9F49BF3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802-B8D9-4BDE-A180-94C50166063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avid"/>
              </a:rPr>
              <a:t>Kinney</a:t>
            </a:r>
            <a:endParaRPr b="0" lang="en-US" sz="20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98989"/>
                </a:solidFill>
                <a:latin typeface="Calibri"/>
              </a:rPr>
              <a:t>Minor Young Adult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3" descr="untitled.bmp"/>
          <p:cNvPicPr/>
          <p:nvPr/>
        </p:nvPicPr>
        <p:blipFill>
          <a:blip r:embed="rId1"/>
          <a:stretch/>
        </p:blipFill>
        <p:spPr>
          <a:xfrm>
            <a:off x="2714760" y="428760"/>
            <a:ext cx="34192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2214720" y="5857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nor Young Adult Lit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bute in Apri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llow ups: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oderick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The Last Str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o-It-Yourself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# 4 and 5 planned for Fall 2009 and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* Book started of blog on Funbrai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kinney_J_08roderick.gif"/>
          <p:cNvPicPr/>
          <p:nvPr/>
        </p:nvPicPr>
        <p:blipFill>
          <a:blip r:embed="rId1"/>
          <a:stretch/>
        </p:blipFill>
        <p:spPr>
          <a:xfrm>
            <a:off x="428760" y="142920"/>
            <a:ext cx="107604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6a00c2251f97228fdb0109d07cec8f000e-500pi.jpg"/>
          <p:cNvPicPr/>
          <p:nvPr/>
        </p:nvPicPr>
        <p:blipFill>
          <a:blip r:embed="rId2"/>
          <a:stretch/>
        </p:blipFill>
        <p:spPr>
          <a:xfrm>
            <a:off x="7286760" y="4357800"/>
            <a:ext cx="1523880" cy="22748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Diary_of_a_Wimpy_Kid_DoItYourself_Book-121876663368110.jpg"/>
          <p:cNvPicPr/>
          <p:nvPr/>
        </p:nvPicPr>
        <p:blipFill>
          <a:blip r:embed="rId3"/>
          <a:stretch/>
        </p:blipFill>
        <p:spPr>
          <a:xfrm>
            <a:off x="6929280" y="214200"/>
            <a:ext cx="1770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ff Kin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University of Mary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started in 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published 2004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esign director for internet publishing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619600" y="4857840"/>
            <a:ext cx="333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Movie 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wentieth Century F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07080" y="571680"/>
            <a:ext cx="245124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3857760"/>
            <a:ext cx="339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eg seems to get in trouble a lot. Do you like him as a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 Greg changes during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JeffKinney_1.gif"/>
          <p:cNvPicPr/>
          <p:nvPr/>
        </p:nvPicPr>
        <p:blipFill>
          <a:blip r:embed="rId1"/>
          <a:stretch/>
        </p:blipFill>
        <p:spPr>
          <a:xfrm>
            <a:off x="2214720" y="37861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Create a character profil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786120" y="2357280"/>
            <a:ext cx="1497240" cy="284652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5"/>
          <p:cNvSpPr/>
          <p:nvPr/>
        </p:nvSpPr>
        <p:spPr>
          <a:xfrm flipV="1">
            <a:off x="5429160" y="1928880"/>
            <a:ext cx="121464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 verbindingslijn 7"/>
          <p:cNvSpPr/>
          <p:nvPr/>
        </p:nvSpPr>
        <p:spPr>
          <a:xfrm>
            <a:off x="5572080" y="3286080"/>
            <a:ext cx="1357200" cy="18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 verbindingslijn 9"/>
          <p:cNvSpPr/>
          <p:nvPr/>
        </p:nvSpPr>
        <p:spPr>
          <a:xfrm flipH="1" flipV="1">
            <a:off x="1999800" y="2285640"/>
            <a:ext cx="1357560" cy="4287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 verbindingslijn 11"/>
          <p:cNvSpPr/>
          <p:nvPr/>
        </p:nvSpPr>
        <p:spPr>
          <a:xfrm flipH="1" flipV="1">
            <a:off x="1928880" y="3429000"/>
            <a:ext cx="1357200" cy="7128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 verbindingslijn 13"/>
          <p:cNvSpPr/>
          <p:nvPr/>
        </p:nvSpPr>
        <p:spPr>
          <a:xfrm flipH="1">
            <a:off x="2142720" y="4286160"/>
            <a:ext cx="1143000" cy="2145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hte verbindingslijn 15"/>
          <p:cNvSpPr/>
          <p:nvPr/>
        </p:nvSpPr>
        <p:spPr>
          <a:xfrm flipH="1">
            <a:off x="2500200" y="5072040"/>
            <a:ext cx="92880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 verbindingslijn 17"/>
          <p:cNvSpPr/>
          <p:nvPr/>
        </p:nvSpPr>
        <p:spPr>
          <a:xfrm>
            <a:off x="5572080" y="4000680"/>
            <a:ext cx="1500120" cy="6426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 verbindingslijn 19"/>
          <p:cNvSpPr/>
          <p:nvPr/>
        </p:nvSpPr>
        <p:spPr>
          <a:xfrm>
            <a:off x="5572080" y="5143680"/>
            <a:ext cx="857160" cy="78552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357280" y="4143240"/>
            <a:ext cx="4768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13:46Z</dcterms:created>
  <dc:creator>Kim</dc:creator>
  <dc:description/>
  <dc:language>en-US</dc:language>
  <cp:lastModifiedBy>Kim</cp:lastModifiedBy>
  <dcterms:modified xsi:type="dcterms:W3CDTF">2009-03-22T16:36:31Z</dcterms:modified>
  <cp:revision>19</cp:revision>
  <dc:subject/>
  <dc:title>Diary of a Wimpy Kid by Jeff Kinney</dc:title>
</cp:coreProperties>
</file>