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avi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6836-E9FD-4BA1-B370-5E8930A1F4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UM had his own comic in newspaper, wanted to become a cartoonist, fai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1998 started with writing down ideas for Wimpy K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2004 first book published online @ funbrain.com. Attracts 70.000 kids a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46D7-50F6-4C7A-9090-089E4911C6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1E0B-BC32-4E43-BAF0-0CA149520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791F-96BF-43B4-80A2-46EA0974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4336-F947-4AA2-93F8-C0997AD37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88F4-2B14-4BA8-9A7D-F1F53DC52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A90F-0F66-4D3A-B187-36EA2C73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D7FE-79A3-46B5-BB2E-EA84557E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F4F3-1EED-4FC3-AE63-91E90419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1283-B0F6-4FD5-A86A-39C1198C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D8BC-91C8-4F8A-9E58-CE475695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0608-D3F7-4496-8F1F-C5383120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5E6A-EB31-4329-9827-CD4AF64F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0F39-EC3E-4BC4-A33C-3C7BE913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avi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1F24-2969-4D20-98C8-5E97CE66939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avid"/>
              </a:rPr>
              <a:t>Kinney</a:t>
            </a:r>
            <a:endParaRPr b="0" lang="en-US" sz="20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98989"/>
                </a:solidFill>
                <a:latin typeface="Calibri"/>
              </a:rPr>
              <a:t>Minor Young Adult Litera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Afbeelding 3" descr="untitled.bmp"/>
          <p:cNvPicPr/>
          <p:nvPr/>
        </p:nvPicPr>
        <p:blipFill>
          <a:blip r:embed="rId1"/>
          <a:stretch/>
        </p:blipFill>
        <p:spPr>
          <a:xfrm>
            <a:off x="2714760" y="428760"/>
            <a:ext cx="3419280" cy="5000400"/>
          </a:xfrm>
          <a:prstGeom prst="rect">
            <a:avLst/>
          </a:prstGeom>
          <a:ln w="0">
            <a:noFill/>
          </a:ln>
        </p:spPr>
      </p:pic>
      <p:sp>
        <p:nvSpPr>
          <p:cNvPr id="51" name="Tekstvak 4"/>
          <p:cNvSpPr/>
          <p:nvPr/>
        </p:nvSpPr>
        <p:spPr>
          <a:xfrm>
            <a:off x="2214720" y="5857920"/>
            <a:ext cx="47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inor Young Adult Litera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David"/>
              </a:rPr>
              <a:t>About the book</a:t>
            </a: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bute in April 200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ollow ups: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Roderick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The Last Str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Do-It-Yourself b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# 4 and 5 planned for Fall 2009 and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* Book started of blog on Funbrain.c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Afbeelding 3" descr="kinney_J_08roderick.gif"/>
          <p:cNvPicPr/>
          <p:nvPr/>
        </p:nvPicPr>
        <p:blipFill>
          <a:blip r:embed="rId1"/>
          <a:stretch/>
        </p:blipFill>
        <p:spPr>
          <a:xfrm>
            <a:off x="428760" y="142920"/>
            <a:ext cx="1076040" cy="1571760"/>
          </a:xfrm>
          <a:prstGeom prst="rect">
            <a:avLst/>
          </a:prstGeom>
          <a:ln w="0">
            <a:noFill/>
          </a:ln>
        </p:spPr>
      </p:pic>
      <p:pic>
        <p:nvPicPr>
          <p:cNvPr id="55" name="Afbeelding 4" descr="6a00c2251f97228fdb0109d07cec8f000e-500pi.jpg"/>
          <p:cNvPicPr/>
          <p:nvPr/>
        </p:nvPicPr>
        <p:blipFill>
          <a:blip r:embed="rId2"/>
          <a:stretch/>
        </p:blipFill>
        <p:spPr>
          <a:xfrm>
            <a:off x="7286760" y="4357800"/>
            <a:ext cx="1523880" cy="2274840"/>
          </a:xfrm>
          <a:prstGeom prst="rect">
            <a:avLst/>
          </a:prstGeom>
          <a:ln w="0">
            <a:noFill/>
          </a:ln>
        </p:spPr>
      </p:pic>
      <p:pic>
        <p:nvPicPr>
          <p:cNvPr id="56" name="Afbeelding 5" descr="Diary_of_a_Wimpy_Kid_DoItYourself_Book-121876663368110.jpg"/>
          <p:cNvPicPr/>
          <p:nvPr/>
        </p:nvPicPr>
        <p:blipFill>
          <a:blip r:embed="rId3"/>
          <a:stretch/>
        </p:blipFill>
        <p:spPr>
          <a:xfrm>
            <a:off x="6929280" y="214200"/>
            <a:ext cx="177012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David"/>
              </a:rPr>
              <a:t>About the author</a:t>
            </a: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ff Kin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University of Mary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started in 1998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published 2004 on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design director for internet publishing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compa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view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619600" y="4857840"/>
            <a:ext cx="33339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David"/>
              </a:rPr>
              <a:t>Movie </a:t>
            </a: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wentieth Century Fo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ri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707080" y="571680"/>
            <a:ext cx="2451240" cy="214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142920" y="3857760"/>
            <a:ext cx="339552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David"/>
              </a:rPr>
              <a:t>Discussion Questions</a:t>
            </a: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eg seems to get in trouble a lot. Do you like him as a pers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.  Greg changes during the boo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Afbeelding 3" descr="JeffKinney_1.gif"/>
          <p:cNvPicPr/>
          <p:nvPr/>
        </p:nvPicPr>
        <p:blipFill>
          <a:blip r:embed="rId1"/>
          <a:stretch/>
        </p:blipFill>
        <p:spPr>
          <a:xfrm>
            <a:off x="2214720" y="3786120"/>
            <a:ext cx="43686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David"/>
              </a:rPr>
              <a:t>Create a character profile</a:t>
            </a: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3786120" y="2357280"/>
            <a:ext cx="1497240" cy="2846520"/>
          </a:xfrm>
          <a:prstGeom prst="rect">
            <a:avLst/>
          </a:prstGeom>
          <a:ln w="0">
            <a:noFill/>
          </a:ln>
        </p:spPr>
      </p:pic>
      <p:sp>
        <p:nvSpPr>
          <p:cNvPr id="69" name="Rechte verbindingslijn 5"/>
          <p:cNvSpPr/>
          <p:nvPr/>
        </p:nvSpPr>
        <p:spPr>
          <a:xfrm flipV="1">
            <a:off x="5429160" y="1928880"/>
            <a:ext cx="1214640" cy="64296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hte verbindingslijn 7"/>
          <p:cNvSpPr/>
          <p:nvPr/>
        </p:nvSpPr>
        <p:spPr>
          <a:xfrm>
            <a:off x="5572080" y="3286080"/>
            <a:ext cx="1357200" cy="180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hte verbindingslijn 9"/>
          <p:cNvSpPr/>
          <p:nvPr/>
        </p:nvSpPr>
        <p:spPr>
          <a:xfrm flipH="1" flipV="1">
            <a:off x="1999800" y="2285640"/>
            <a:ext cx="1357560" cy="42876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hte verbindingslijn 11"/>
          <p:cNvSpPr/>
          <p:nvPr/>
        </p:nvSpPr>
        <p:spPr>
          <a:xfrm flipH="1" flipV="1">
            <a:off x="1928880" y="3429000"/>
            <a:ext cx="1357200" cy="7128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hte verbindingslijn 13"/>
          <p:cNvSpPr/>
          <p:nvPr/>
        </p:nvSpPr>
        <p:spPr>
          <a:xfrm flipH="1">
            <a:off x="2142720" y="4286160"/>
            <a:ext cx="1143000" cy="21456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hte verbindingslijn 15"/>
          <p:cNvSpPr/>
          <p:nvPr/>
        </p:nvSpPr>
        <p:spPr>
          <a:xfrm flipH="1">
            <a:off x="2500200" y="5072040"/>
            <a:ext cx="928800" cy="64296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hte verbindingslijn 17"/>
          <p:cNvSpPr/>
          <p:nvPr/>
        </p:nvSpPr>
        <p:spPr>
          <a:xfrm>
            <a:off x="5572080" y="4000680"/>
            <a:ext cx="1500120" cy="64260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hte verbindingslijn 19"/>
          <p:cNvSpPr/>
          <p:nvPr/>
        </p:nvSpPr>
        <p:spPr>
          <a:xfrm>
            <a:off x="5572080" y="5143680"/>
            <a:ext cx="857160" cy="78552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357280" y="4143240"/>
            <a:ext cx="476892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13:13:46Z</dcterms:created>
  <dc:creator>Kim</dc:creator>
  <dc:description/>
  <dc:language>en-US</dc:language>
  <cp:lastModifiedBy>Kim</cp:lastModifiedBy>
  <dcterms:modified xsi:type="dcterms:W3CDTF">2009-03-22T16:36:31Z</dcterms:modified>
  <cp:revision>19</cp:revision>
  <dc:subject/>
  <dc:title>Diary of a Wimpy Kid by Jeff Kinney</dc:title>
</cp:coreProperties>
</file>