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avi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2F85-2B3A-4D15-8A45-54BC71147D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UM had his own comic in newspaper, wanted to become a cartoonist, fai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1998 started with writing down ideas for Wimpy K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2004 first book published online @ funbrain.com. Attracts 70.000 kids a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6349-16AB-4F21-AFE1-7FE630C806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38E9-885F-4FF4-A33D-FB91FB7D5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3D3A-E9DF-403C-8D52-D73F7BE7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A9BC-5C78-4B9A-B25E-E420E3674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0379-9131-4902-A41A-D16565A23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0A3B-7621-4E77-9C2F-873F4D3F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6B3A-8A77-4A33-AB04-F80502FD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62AB-BEFE-49E1-AC3B-D8C729B7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D3A1-84D1-48D4-B667-0C796934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4BA7-3337-4B9C-B664-0AC79F7E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2A80-0DF7-473F-920B-2825A412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FE52-CA88-44BB-9FA2-2FD4422C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1A46-C647-42B2-BD19-21E9555F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avi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94CC-49BE-4423-9024-1E33B32598C4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avid"/>
              </a:rPr>
              <a:t>Kinney</a:t>
            </a:r>
            <a:endParaRPr b="0" lang="en-US" sz="20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98989"/>
                </a:solidFill>
                <a:latin typeface="Calibri"/>
              </a:rPr>
              <a:t>Minor Young Adult Litera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Afbeelding 3" descr="untitled.bmp"/>
          <p:cNvPicPr/>
          <p:nvPr/>
        </p:nvPicPr>
        <p:blipFill>
          <a:blip r:embed="rId1"/>
          <a:stretch/>
        </p:blipFill>
        <p:spPr>
          <a:xfrm>
            <a:off x="2714760" y="428760"/>
            <a:ext cx="3419280" cy="5000400"/>
          </a:xfrm>
          <a:prstGeom prst="rect">
            <a:avLst/>
          </a:prstGeom>
          <a:ln w="0">
            <a:noFill/>
          </a:ln>
        </p:spPr>
      </p:pic>
      <p:sp>
        <p:nvSpPr>
          <p:cNvPr id="51" name="Tekstvak 4"/>
          <p:cNvSpPr/>
          <p:nvPr/>
        </p:nvSpPr>
        <p:spPr>
          <a:xfrm>
            <a:off x="2214720" y="5857920"/>
            <a:ext cx="47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inor Young Adult Litera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David"/>
              </a:rPr>
              <a:t>About the book</a:t>
            </a: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bute in April 200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ollow ups: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Roderick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The Last Str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Do-It-Yourself b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# 4 and 5 planned for Fall 2009 and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* Book started of blog on Funbrain.c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Afbeelding 3" descr="kinney_J_08roderick.gif"/>
          <p:cNvPicPr/>
          <p:nvPr/>
        </p:nvPicPr>
        <p:blipFill>
          <a:blip r:embed="rId1"/>
          <a:stretch/>
        </p:blipFill>
        <p:spPr>
          <a:xfrm>
            <a:off x="428760" y="142920"/>
            <a:ext cx="1076040" cy="1571760"/>
          </a:xfrm>
          <a:prstGeom prst="rect">
            <a:avLst/>
          </a:prstGeom>
          <a:ln w="0">
            <a:noFill/>
          </a:ln>
        </p:spPr>
      </p:pic>
      <p:pic>
        <p:nvPicPr>
          <p:cNvPr id="55" name="Afbeelding 4" descr="6a00c2251f97228fdb0109d07cec8f000e-500pi.jpg"/>
          <p:cNvPicPr/>
          <p:nvPr/>
        </p:nvPicPr>
        <p:blipFill>
          <a:blip r:embed="rId2"/>
          <a:stretch/>
        </p:blipFill>
        <p:spPr>
          <a:xfrm>
            <a:off x="7286760" y="4357800"/>
            <a:ext cx="1523880" cy="2274840"/>
          </a:xfrm>
          <a:prstGeom prst="rect">
            <a:avLst/>
          </a:prstGeom>
          <a:ln w="0">
            <a:noFill/>
          </a:ln>
        </p:spPr>
      </p:pic>
      <p:pic>
        <p:nvPicPr>
          <p:cNvPr id="56" name="Afbeelding 5" descr="Diary_of_a_Wimpy_Kid_DoItYourself_Book-121876663368110.jpg"/>
          <p:cNvPicPr/>
          <p:nvPr/>
        </p:nvPicPr>
        <p:blipFill>
          <a:blip r:embed="rId3"/>
          <a:stretch/>
        </p:blipFill>
        <p:spPr>
          <a:xfrm>
            <a:off x="6929280" y="214200"/>
            <a:ext cx="177012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David"/>
              </a:rPr>
              <a:t>About the author</a:t>
            </a: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ff Kin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University of Mary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started in 1998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published 2004 on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design director for internet publishing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compa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view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619600" y="4857840"/>
            <a:ext cx="33339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David"/>
              </a:rPr>
              <a:t>Movie </a:t>
            </a: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wentieth Century Fo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ri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707080" y="571680"/>
            <a:ext cx="2451240" cy="214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142920" y="3857760"/>
            <a:ext cx="339552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David"/>
              </a:rPr>
              <a:t>Discussion Questions</a:t>
            </a: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eg seems to get in trouble a lot. Do you like him as a pers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.  Greg changes during the boo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Afbeelding 3" descr="JeffKinney_1.gif"/>
          <p:cNvPicPr/>
          <p:nvPr/>
        </p:nvPicPr>
        <p:blipFill>
          <a:blip r:embed="rId1"/>
          <a:stretch/>
        </p:blipFill>
        <p:spPr>
          <a:xfrm>
            <a:off x="2214720" y="3786120"/>
            <a:ext cx="43686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David"/>
              </a:rPr>
              <a:t>Create a character profile</a:t>
            </a: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3786120" y="2357280"/>
            <a:ext cx="1497240" cy="2846520"/>
          </a:xfrm>
          <a:prstGeom prst="rect">
            <a:avLst/>
          </a:prstGeom>
          <a:ln w="0">
            <a:noFill/>
          </a:ln>
        </p:spPr>
      </p:pic>
      <p:sp>
        <p:nvSpPr>
          <p:cNvPr id="69" name="Rechte verbindingslijn 5"/>
          <p:cNvSpPr/>
          <p:nvPr/>
        </p:nvSpPr>
        <p:spPr>
          <a:xfrm flipV="1">
            <a:off x="5429160" y="1928880"/>
            <a:ext cx="1214640" cy="64296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hte verbindingslijn 7"/>
          <p:cNvSpPr/>
          <p:nvPr/>
        </p:nvSpPr>
        <p:spPr>
          <a:xfrm>
            <a:off x="5572080" y="3286080"/>
            <a:ext cx="1357200" cy="180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hte verbindingslijn 9"/>
          <p:cNvSpPr/>
          <p:nvPr/>
        </p:nvSpPr>
        <p:spPr>
          <a:xfrm flipH="1" flipV="1">
            <a:off x="1999800" y="2285640"/>
            <a:ext cx="1357560" cy="42876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hte verbindingslijn 11"/>
          <p:cNvSpPr/>
          <p:nvPr/>
        </p:nvSpPr>
        <p:spPr>
          <a:xfrm flipH="1" flipV="1">
            <a:off x="1928880" y="3429000"/>
            <a:ext cx="1357200" cy="7128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hte verbindingslijn 13"/>
          <p:cNvSpPr/>
          <p:nvPr/>
        </p:nvSpPr>
        <p:spPr>
          <a:xfrm flipH="1">
            <a:off x="2142720" y="4286160"/>
            <a:ext cx="1143000" cy="21456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hte verbindingslijn 15"/>
          <p:cNvSpPr/>
          <p:nvPr/>
        </p:nvSpPr>
        <p:spPr>
          <a:xfrm flipH="1">
            <a:off x="2500200" y="5072040"/>
            <a:ext cx="928800" cy="64296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hte verbindingslijn 17"/>
          <p:cNvSpPr/>
          <p:nvPr/>
        </p:nvSpPr>
        <p:spPr>
          <a:xfrm>
            <a:off x="5572080" y="4000680"/>
            <a:ext cx="1500120" cy="64260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hte verbindingslijn 19"/>
          <p:cNvSpPr/>
          <p:nvPr/>
        </p:nvSpPr>
        <p:spPr>
          <a:xfrm>
            <a:off x="5572080" y="5143680"/>
            <a:ext cx="857160" cy="78552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357280" y="4143240"/>
            <a:ext cx="476892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13:13:46Z</dcterms:created>
  <dc:creator>Kim</dc:creator>
  <dc:description/>
  <dc:language>en-US</dc:language>
  <cp:lastModifiedBy>Kim</cp:lastModifiedBy>
  <dcterms:modified xsi:type="dcterms:W3CDTF">2009-03-22T16:36:31Z</dcterms:modified>
  <cp:revision>19</cp:revision>
  <dc:subject/>
  <dc:title>Diary of a Wimpy Kid by Jeff Kinney</dc:title>
</cp:coreProperties>
</file>