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avi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AC1-4BB9-4549-821F-03345C8654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M had his own comic in newspaper, wanted to become a cartoonist, fai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1998 started with writing down ideas for Wimpy K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004 first book published online @ funbrain.com. Attracts 70.000 kid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03E7-D5EC-4592-955C-4CC2AA0FDD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058-E6AE-4198-B507-74F76C80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9F3-2737-4845-A96D-45AD8F0C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4BA-27ED-4E72-9BB7-8D250E7D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357-2AF0-4D99-934E-6C5777DB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71B-DD5E-43E5-A0AC-845F79DB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840-5202-43D5-8BEE-4E4C47E4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3E6-361D-45FF-B083-CDF9D6E0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E6F-E458-41E0-90DE-E81607B7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7AF-D4E8-42E9-AA3A-876F48BA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8E3-4989-45A5-BDEE-C8158681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BD0-8113-41BE-88B5-F76D5C2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C00-7986-488A-89AC-87B494D2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avi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A6FE-1C42-448F-9EDE-99D701A201C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avid"/>
              </a:rPr>
              <a:t>Kinney</a:t>
            </a:r>
            <a:endParaRPr b="0" lang="en-US" sz="20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98989"/>
                </a:solidFill>
                <a:latin typeface="Calibri"/>
              </a:rPr>
              <a:t>Minor Young Adult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Afbeelding 3" descr="untitled.bmp"/>
          <p:cNvPicPr/>
          <p:nvPr/>
        </p:nvPicPr>
        <p:blipFill>
          <a:blip r:embed="rId1"/>
          <a:stretch/>
        </p:blipFill>
        <p:spPr>
          <a:xfrm>
            <a:off x="2714760" y="428760"/>
            <a:ext cx="3419280" cy="50004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2214720" y="585792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nor Young Adult Litera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About the book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bute in April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llow ups: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oderick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The Last Str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Do-It-Yourself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# 4 and 5 planned for Fall 2009 and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* Book started of blog on Funbrain.c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Afbeelding 3" descr="kinney_J_08roderick.gif"/>
          <p:cNvPicPr/>
          <p:nvPr/>
        </p:nvPicPr>
        <p:blipFill>
          <a:blip r:embed="rId1"/>
          <a:stretch/>
        </p:blipFill>
        <p:spPr>
          <a:xfrm>
            <a:off x="428760" y="142920"/>
            <a:ext cx="1076040" cy="1571760"/>
          </a:xfrm>
          <a:prstGeom prst="rect">
            <a:avLst/>
          </a:prstGeom>
          <a:ln w="0">
            <a:noFill/>
          </a:ln>
        </p:spPr>
      </p:pic>
      <p:pic>
        <p:nvPicPr>
          <p:cNvPr id="55" name="Afbeelding 4" descr="6a00c2251f97228fdb0109d07cec8f000e-500pi.jpg"/>
          <p:cNvPicPr/>
          <p:nvPr/>
        </p:nvPicPr>
        <p:blipFill>
          <a:blip r:embed="rId2"/>
          <a:stretch/>
        </p:blipFill>
        <p:spPr>
          <a:xfrm>
            <a:off x="7286760" y="4357800"/>
            <a:ext cx="1523880" cy="227484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Diary_of_a_Wimpy_Kid_DoItYourself_Book-121876663368110.jpg"/>
          <p:cNvPicPr/>
          <p:nvPr/>
        </p:nvPicPr>
        <p:blipFill>
          <a:blip r:embed="rId3"/>
          <a:stretch/>
        </p:blipFill>
        <p:spPr>
          <a:xfrm>
            <a:off x="6929280" y="214200"/>
            <a:ext cx="1770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About the author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ff Kin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University of Mary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started in 199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published 2004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design director for internet publishing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vie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619600" y="4857840"/>
            <a:ext cx="3333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Movie 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wentieth Century F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07080" y="571680"/>
            <a:ext cx="245124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42920" y="3857760"/>
            <a:ext cx="33955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eg seems to get in trouble a lot. Do you like him as a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 Greg changes during the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Afbeelding 3" descr="JeffKinney_1.gif"/>
          <p:cNvPicPr/>
          <p:nvPr/>
        </p:nvPicPr>
        <p:blipFill>
          <a:blip r:embed="rId1"/>
          <a:stretch/>
        </p:blipFill>
        <p:spPr>
          <a:xfrm>
            <a:off x="2214720" y="3786120"/>
            <a:ext cx="4368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Create a character profile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786120" y="2357280"/>
            <a:ext cx="1497240" cy="2846520"/>
          </a:xfrm>
          <a:prstGeom prst="rect">
            <a:avLst/>
          </a:prstGeom>
          <a:ln w="0">
            <a:noFill/>
          </a:ln>
        </p:spPr>
      </p:pic>
      <p:sp>
        <p:nvSpPr>
          <p:cNvPr id="69" name="Rechte verbindingslijn 5"/>
          <p:cNvSpPr/>
          <p:nvPr/>
        </p:nvSpPr>
        <p:spPr>
          <a:xfrm flipV="1">
            <a:off x="5429160" y="1928880"/>
            <a:ext cx="1214640" cy="6429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hte verbindingslijn 7"/>
          <p:cNvSpPr/>
          <p:nvPr/>
        </p:nvSpPr>
        <p:spPr>
          <a:xfrm>
            <a:off x="5572080" y="3286080"/>
            <a:ext cx="1357200" cy="180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hte verbindingslijn 9"/>
          <p:cNvSpPr/>
          <p:nvPr/>
        </p:nvSpPr>
        <p:spPr>
          <a:xfrm flipH="1" flipV="1">
            <a:off x="1999800" y="2285640"/>
            <a:ext cx="1357560" cy="4287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hte verbindingslijn 11"/>
          <p:cNvSpPr/>
          <p:nvPr/>
        </p:nvSpPr>
        <p:spPr>
          <a:xfrm flipH="1" flipV="1">
            <a:off x="1928880" y="3429000"/>
            <a:ext cx="1357200" cy="7128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hte verbindingslijn 13"/>
          <p:cNvSpPr/>
          <p:nvPr/>
        </p:nvSpPr>
        <p:spPr>
          <a:xfrm flipH="1">
            <a:off x="2142720" y="4286160"/>
            <a:ext cx="1143000" cy="2145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hte verbindingslijn 15"/>
          <p:cNvSpPr/>
          <p:nvPr/>
        </p:nvSpPr>
        <p:spPr>
          <a:xfrm flipH="1">
            <a:off x="2500200" y="5072040"/>
            <a:ext cx="928800" cy="6429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hte verbindingslijn 17"/>
          <p:cNvSpPr/>
          <p:nvPr/>
        </p:nvSpPr>
        <p:spPr>
          <a:xfrm>
            <a:off x="5572080" y="4000680"/>
            <a:ext cx="1500120" cy="64260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hte verbindingslijn 19"/>
          <p:cNvSpPr/>
          <p:nvPr/>
        </p:nvSpPr>
        <p:spPr>
          <a:xfrm>
            <a:off x="5572080" y="5143680"/>
            <a:ext cx="857160" cy="78552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357280" y="4143240"/>
            <a:ext cx="4768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3:13:46Z</dcterms:created>
  <dc:creator>Kim</dc:creator>
  <dc:description/>
  <dc:language>en-US</dc:language>
  <cp:lastModifiedBy>Kim</cp:lastModifiedBy>
  <dcterms:modified xsi:type="dcterms:W3CDTF">2009-03-22T16:36:31Z</dcterms:modified>
  <cp:revision>19</cp:revision>
  <dc:subject/>
  <dc:title>Diary of a Wimpy Kid by Jeff Kinney</dc:title>
</cp:coreProperties>
</file>