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C98F-2ED0-4360-B3D8-2E34111105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M had his own comic in newspaper, wanted to become a cartoonist, fai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1998 started with writing down ideas for Wimpy K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004 first book published online @ funbrain.com. Attracts 70.000 kids a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6F31-F94B-41CB-9F38-389A5550F8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4B4-1F1D-4805-9BD7-95886EC3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B03-3C48-456F-8980-2488A7A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2DF-325D-4643-BB5F-AA1DBC61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BC8-C1DA-4DA5-95AE-DA43DD2A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465-4BE3-47E3-98C3-20992A96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DBA-43BD-463E-B50B-455CC0AC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C84-E438-4527-BD80-F08057F1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765-5759-4B0E-B5F6-2D25225B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BB5-CD19-45A6-A6B9-E3388443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6E0-BDD2-41D2-9847-7447E55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433-368C-465B-BD75-C6BFE9CF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AFC-0DD2-497A-AC7B-7534B2E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avi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6288-9E36-4EF4-85F4-0436E70E2F1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avid"/>
              </a:rPr>
              <a:t>Kinney</a:t>
            </a:r>
            <a:endParaRPr b="0" lang="en-US" sz="20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98989"/>
                </a:solidFill>
                <a:latin typeface="Calibri"/>
              </a:rPr>
              <a:t>Minor Young Adult Litera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3" descr="untitled.bmp"/>
          <p:cNvPicPr/>
          <p:nvPr/>
        </p:nvPicPr>
        <p:blipFill>
          <a:blip r:embed="rId1"/>
          <a:stretch/>
        </p:blipFill>
        <p:spPr>
          <a:xfrm>
            <a:off x="2714760" y="428760"/>
            <a:ext cx="3419280" cy="50004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2214720" y="585792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nor Young Adult Litera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book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bute in April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llow ups: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oderick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The Last Str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o-It-Yourself 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# 4 and 5 planned for Fall 2009 and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* Book started of blog on Funbrain.c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Afbeelding 3" descr="kinney_J_08roderick.gif"/>
          <p:cNvPicPr/>
          <p:nvPr/>
        </p:nvPicPr>
        <p:blipFill>
          <a:blip r:embed="rId1"/>
          <a:stretch/>
        </p:blipFill>
        <p:spPr>
          <a:xfrm>
            <a:off x="428760" y="142920"/>
            <a:ext cx="1076040" cy="1571760"/>
          </a:xfrm>
          <a:prstGeom prst="rect">
            <a:avLst/>
          </a:prstGeom>
          <a:ln w="0">
            <a:noFill/>
          </a:ln>
        </p:spPr>
      </p:pic>
      <p:pic>
        <p:nvPicPr>
          <p:cNvPr id="55" name="Afbeelding 4" descr="6a00c2251f97228fdb0109d07cec8f000e-500pi.jpg"/>
          <p:cNvPicPr/>
          <p:nvPr/>
        </p:nvPicPr>
        <p:blipFill>
          <a:blip r:embed="rId2"/>
          <a:stretch/>
        </p:blipFill>
        <p:spPr>
          <a:xfrm>
            <a:off x="7286760" y="4357800"/>
            <a:ext cx="1523880" cy="227484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Diary_of_a_Wimpy_Kid_DoItYourself_Book-121876663368110.jpg"/>
          <p:cNvPicPr/>
          <p:nvPr/>
        </p:nvPicPr>
        <p:blipFill>
          <a:blip r:embed="rId3"/>
          <a:stretch/>
        </p:blipFill>
        <p:spPr>
          <a:xfrm>
            <a:off x="6929280" y="214200"/>
            <a:ext cx="1770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About the author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ff Kin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University of Mary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started in 199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published 2004 on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design director for internet publishing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comp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vie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619600" y="4857840"/>
            <a:ext cx="3333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Movie 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wentieth Century F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07080" y="571680"/>
            <a:ext cx="2451240" cy="214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42920" y="3857760"/>
            <a:ext cx="33955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eg seems to get in trouble a lot. Do you like him as a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 Greg changes during the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Afbeelding 3" descr="JeffKinney_1.gif"/>
          <p:cNvPicPr/>
          <p:nvPr/>
        </p:nvPicPr>
        <p:blipFill>
          <a:blip r:embed="rId1"/>
          <a:stretch/>
        </p:blipFill>
        <p:spPr>
          <a:xfrm>
            <a:off x="2214720" y="3786120"/>
            <a:ext cx="4368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David"/>
              </a:rPr>
              <a:t>Create a character profile</a:t>
            </a: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786120" y="2357280"/>
            <a:ext cx="1497240" cy="2846520"/>
          </a:xfrm>
          <a:prstGeom prst="rect">
            <a:avLst/>
          </a:prstGeom>
          <a:ln w="0">
            <a:noFill/>
          </a:ln>
        </p:spPr>
      </p:pic>
      <p:sp>
        <p:nvSpPr>
          <p:cNvPr id="69" name="Rechte verbindingslijn 5"/>
          <p:cNvSpPr/>
          <p:nvPr/>
        </p:nvSpPr>
        <p:spPr>
          <a:xfrm flipV="1">
            <a:off x="5429160" y="1928880"/>
            <a:ext cx="121464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hte verbindingslijn 7"/>
          <p:cNvSpPr/>
          <p:nvPr/>
        </p:nvSpPr>
        <p:spPr>
          <a:xfrm>
            <a:off x="5572080" y="3286080"/>
            <a:ext cx="1357200" cy="18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hte verbindingslijn 9"/>
          <p:cNvSpPr/>
          <p:nvPr/>
        </p:nvSpPr>
        <p:spPr>
          <a:xfrm flipH="1" flipV="1">
            <a:off x="1999800" y="2285640"/>
            <a:ext cx="1357560" cy="4287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hte verbindingslijn 11"/>
          <p:cNvSpPr/>
          <p:nvPr/>
        </p:nvSpPr>
        <p:spPr>
          <a:xfrm flipH="1" flipV="1">
            <a:off x="1928880" y="3429000"/>
            <a:ext cx="1357200" cy="7128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hte verbindingslijn 13"/>
          <p:cNvSpPr/>
          <p:nvPr/>
        </p:nvSpPr>
        <p:spPr>
          <a:xfrm flipH="1">
            <a:off x="2142720" y="4286160"/>
            <a:ext cx="1143000" cy="2145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hte verbindingslijn 15"/>
          <p:cNvSpPr/>
          <p:nvPr/>
        </p:nvSpPr>
        <p:spPr>
          <a:xfrm flipH="1">
            <a:off x="2500200" y="5072040"/>
            <a:ext cx="928800" cy="64296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hte verbindingslijn 17"/>
          <p:cNvSpPr/>
          <p:nvPr/>
        </p:nvSpPr>
        <p:spPr>
          <a:xfrm>
            <a:off x="5572080" y="4000680"/>
            <a:ext cx="1500120" cy="64260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hte verbindingslijn 19"/>
          <p:cNvSpPr/>
          <p:nvPr/>
        </p:nvSpPr>
        <p:spPr>
          <a:xfrm>
            <a:off x="5572080" y="5143680"/>
            <a:ext cx="857160" cy="78552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avid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357280" y="4143240"/>
            <a:ext cx="4768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3:13:46Z</dcterms:created>
  <dc:creator>Kim</dc:creator>
  <dc:description/>
  <dc:language>en-US</dc:language>
  <cp:lastModifiedBy>Kim</cp:lastModifiedBy>
  <dcterms:modified xsi:type="dcterms:W3CDTF">2009-03-22T16:36:31Z</dcterms:modified>
  <cp:revision>19</cp:revision>
  <dc:subject/>
  <dc:title>Diary of a Wimpy Kid by Jeff Kinney</dc:title>
</cp:coreProperties>
</file>