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0.xml.rels" ContentType="application/vnd.openxmlformats-package.relationships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81A89-9277-4F8E-BBE8-98114FEEB354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Wiscons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D220-58C0-4E63-AE71-B8C563BBB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20A0-73A4-454F-88A3-B8A7928B3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B1DD-DCFF-4B11-A1A5-62EF843D6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B1BD-E3D9-47DC-AF5A-1E869BAE4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D3BD1-5D4F-4322-8A57-297A86347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D20C3-B1A1-461A-9261-249FFF7FA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0FAA1-DE97-41AB-9523-976B8E7AE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41A00-D85B-43F7-BD1A-F7A6856D0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FADA1-4651-4D21-BC12-C2DD98AB4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0BEC2-513B-42C9-AAF3-5D33A2956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F918F-C638-4393-97EA-3A5CFA83E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2B3C-C9B4-4783-B304-42276B45D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0F3AC-C3D9-454F-8A9B-C28E0C708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BE379-0B4F-4B4E-BFCA-9F29A5BB8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DAC77-FC3C-43F7-B357-A34BD0D21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878B6-EFAB-4180-B2B7-B0C0924E4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4F4BC-9EB6-4372-A16A-A564B3338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F19D-7E7A-46C9-B72D-F18F02C94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E055-EA3C-4CAA-AC46-ECC370B32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E159-33A0-4E22-8B4F-74B3CFAB5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C561-6F52-454D-A5B7-81337F353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FD4F-918D-4B8E-A797-CB0369848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2541-49A0-4711-8792-23A602339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F94C-F4D9-48BF-8EA4-2626F8501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3D403-6BD8-4DE8-A44D-37007220864A}" type="slidenum">
              <a:rPr b="0" lang="hu-H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1523520"/>
            <a:ext cx="7624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ADC57-121E-4999-8B62-4C86E8A0AD57}" type="slidenum">
              <a:rPr b="0" lang="hu-H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3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hyperlink" Target="mailto:szirmai@kfrtkf.hu" TargetMode="External"/><Relationship Id="rId2" Type="http://schemas.openxmlformats.org/officeDocument/2006/relationships/hyperlink" Target="mailto:szirmai@kfrtkf.hu" TargetMode="Externa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13800" y="404640"/>
            <a:ext cx="776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6633"/>
                </a:solidFill>
                <a:latin typeface="Arial"/>
              </a:rPr>
              <a:t>School Bullying in the USA –</a:t>
            </a:r>
            <a:r>
              <a:rPr b="0" lang="hu-HU" sz="1800" spc="-1" strike="noStrike">
                <a:solidFill>
                  <a:srgbClr val="0066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6633"/>
                </a:solidFill>
                <a:latin typeface="Arial"/>
              </a:rPr>
              <a:t>Problems, Research, Results in the 199</a:t>
            </a:r>
            <a:r>
              <a:rPr b="1" lang="en-US" sz="2400" spc="-1" strike="noStrike">
                <a:solidFill>
                  <a:srgbClr val="006633"/>
                </a:solidFill>
                <a:latin typeface="Arial"/>
              </a:rPr>
              <a:t>0s and 2000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73440" y="3357720"/>
            <a:ext cx="7665120" cy="18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mic Sans MS"/>
              </a:rPr>
              <a:t>ATTILA KŐSZEG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 Black"/>
              </a:rPr>
              <a:t>senior lecturer TE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Kölcsey Ferenc Reformed Teacher Training Colle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Debrecen, Hung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3000"/>
                            </p:stCondLst>
                            <p:childTnLst>
                              <p:par>
                                <p:cTn id="2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" dur="1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519120" y="568440"/>
            <a:ext cx="8591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S.P.Limber et al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99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ullying among school children</a:t>
            </a:r>
            <a:r>
              <a:rPr b="1" i="1" lang="hu-HU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reliminary findings from a school/ba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ntervention program</a:t>
            </a:r>
            <a:r>
              <a:rPr b="1" i="1" lang="hu-HU" sz="1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Fifth Annual International Family Violence Research Conference, 1997 Jun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Durham, N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963720" y="3141720"/>
            <a:ext cx="6150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5% of students in Grade 4 through 6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mitted to bullying another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ud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e preceding 3 months.</a:t>
            </a:r>
            <a:r>
              <a:rPr b="1" lang="en-US" sz="2400" spc="-1" strike="noStrike">
                <a:solidFill>
                  <a:srgbClr val="cc99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1" dur="8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2" dur="8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3" dur="8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1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2" dur="8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3" dur="8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4" dur="8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7" dur="8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8" dur="8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9" dur="8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2" dur="77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53" dur="77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55" dur="77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57" dur="77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2000"/>
                            </p:stCondLst>
                            <p:childTnLst>
                              <p:par>
                                <p:cTn id="76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2" dur="8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3" dur="8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4" dur="8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879120" y="639720"/>
            <a:ext cx="7360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T.R.Nansel et al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00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i="1" lang="hu-HU" sz="1800" spc="-1" strike="noStrike">
                <a:solidFill>
                  <a:srgbClr val="000000"/>
                </a:solidFill>
                <a:latin typeface="Arial"/>
              </a:rPr>
              <a:t>Bullying behaviors among US youth: Prevalance and assoc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hu-HU" sz="1800" spc="-1" strike="noStrike">
                <a:solidFill>
                  <a:srgbClr val="000000"/>
                </a:solidFill>
                <a:latin typeface="Arial"/>
              </a:rPr>
              <a:t>with psychosocial adjustment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Journal of American Medical Association, 285, 2094-2100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312920" y="2800440"/>
            <a:ext cx="6810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surveyed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15 686 students in Grade 6 through 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ross the 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29,9%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porte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equent involvement in bully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13%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a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bu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10,6%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a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victi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6,3%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a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bully-vict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65" dur="indefinite" restart="never" nodeType="tmRoot">
          <p:childTnLst>
            <p:seq>
              <p:cTn id="766" dur="indefinite" nodeType="mainSeq">
                <p:childTnLst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1" dur="8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2" dur="8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3" dur="8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7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7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fill="hold">
                            <p:stCondLst>
                              <p:cond delay="6400"/>
                            </p:stCondLst>
                            <p:childTnLst>
                              <p:par>
                                <p:cTn id="78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1" dur="8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2" dur="8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3" dur="8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9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9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0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3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608400" y="404640"/>
            <a:ext cx="697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W.M. Craig, D.J. Pepler (199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bservations of bullying and victimization in the schoolyard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Canadian Journal of School Psychology, 13. 41-59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25440" y="1773360"/>
            <a:ext cx="82198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deotap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ggressive and socially competen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ildren in Grade 1 through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ayground of a Canadian sch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5% were involved in bully epis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0% active particip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3% observing the inter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% interve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4% respectful to the bu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3% respectful to the vict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34" dur="indefinite" restart="never" nodeType="tmRoot">
          <p:childTnLst>
            <p:seq>
              <p:cTn id="835" dur="indefinite" nodeType="mainSeq">
                <p:childTnLst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0" dur="8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1" dur="8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2" dur="8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7" dur="77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48" dur="77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50" dur="77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52" dur="77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7" dur="8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8" dur="8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9" dur="8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4" dur="8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5" dur="8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6" dur="8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fill="hold">
                            <p:stCondLst>
                              <p:cond delay="2600"/>
                            </p:stCondLst>
                            <p:childTnLst>
                              <p:par>
                                <p:cTn id="8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0" dur="8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1" dur="8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2" dur="8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7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8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9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0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0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1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460440" y="523800"/>
            <a:ext cx="695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What are the major observations of American research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14520" y="1628640"/>
            <a:ext cx="77716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ully-victim continu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y” and “victim” ar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 static groups of rol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a dyadic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 The problem is much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complex than the categoric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dichotomou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lly or victim dyadic patter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( Relevant for understanding the motivations of  students involved,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prevention programs.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21" dur="indefinite" restart="never" nodeType="tmRoot">
          <p:childTnLst>
            <p:seq>
              <p:cTn id="922" dur="indefinite" nodeType="mainSeq">
                <p:childTnLst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7" dur="8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8" dur="8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9" dur="8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2" dur="77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43" dur="77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45" dur="77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47" dur="77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3" dur="20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6" dur="20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1" dur="80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2" dur="80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3" dur="80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6" dur="80"/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7" dur="80"/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8" dur="80"/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592200" y="496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65480" y="1125360"/>
            <a:ext cx="8413200" cy="38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finition of bully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gt;  Subset of aggr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gt;  Proactive form of aggr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gt;  Direct and indirect forms of bully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gt;  Repeated exposure to negative 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gt;  Different position of participants in the power structure of the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ind-theory?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69" dur="indefinite" restart="never" nodeType="tmRoot">
          <p:childTnLst>
            <p:seq>
              <p:cTn id="970" dur="indefinite" nodeType="mainSeq">
                <p:childTnLst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7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77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4" dur="77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6" dur="77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8" dur="77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4" dur="77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5" dur="77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7" dur="77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9" dur="77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770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06" dur="77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8" dur="77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0" dur="77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6" dur="770"/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7" dur="770" fill="hold"/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9" dur="770" fill="hold"/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1" dur="770" fill="hold"/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770"/>
                                        <p:tgtEl>
                                          <p:spTgt spid="1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8" dur="770" fill="hold"/>
                                        <p:tgtEl>
                                          <p:spTgt spid="1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0" dur="770" fill="hold"/>
                                        <p:tgtEl>
                                          <p:spTgt spid="1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2" dur="770" fill="hold"/>
                                        <p:tgtEl>
                                          <p:spTgt spid="1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2000" fill="hold"/>
                                        <p:tgtEl>
                                          <p:spTgt spid="1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2000" fill="hold"/>
                                        <p:tgtEl>
                                          <p:spTgt spid="1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260360" y="1484280"/>
            <a:ext cx="38199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ssessment of bully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gt; Self-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gt; Peer nom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gt; Teacher nom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gt; Behavioral obser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40" dur="indefinite" restart="never" nodeType="tmRoot">
          <p:childTnLst>
            <p:seq>
              <p:cTn id="1041" dur="indefinite" nodeType="mainSeq">
                <p:childTnLst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77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7" dur="77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49" dur="77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51" dur="77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5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6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8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535320" y="1628640"/>
            <a:ext cx="800964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Viewing bullying from a Social-Ecological Perspe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 Bullying is not an individual deviant behav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Bullying is the result of a complex interplay between the individ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his/her environment (peers, family, school atmosphere, society, et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1" dur="77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2" dur="77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4" dur="77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96" dur="77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0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fill="hold">
                      <p:stCondLst>
                        <p:cond delay="indefinite"/>
                      </p:stCondLst>
                      <p:childTnLst>
                        <p:par>
                          <p:cTn id="1107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1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1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842840" y="1773360"/>
            <a:ext cx="496764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ank you for your atten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tilakoszeghy@gmail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20" dur="indefinite" restart="never" nodeType="tmRoot">
          <p:childTnLst>
            <p:seq>
              <p:cTn id="1121" dur="indefinite" nodeType="mainSeq">
                <p:childTnLst>
                  <p:par>
                    <p:cTn id="1122" fill="hold">
                      <p:stCondLst>
                        <p:cond delay="indefinite"/>
                      </p:stCondLst>
                      <p:childTnLst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830268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200" spc="-1" strike="noStrike">
                <a:solidFill>
                  <a:srgbClr val="006633"/>
                </a:solidFill>
                <a:latin typeface="Franklin Gothic Demi"/>
              </a:rPr>
              <a:t>Tanári attitűd-vizsgálatok </a:t>
            </a:r>
            <a:br>
              <a:rPr sz="4200"/>
            </a:br>
            <a:r>
              <a:rPr b="0" lang="hu-HU" sz="4200" spc="-1" strike="noStrike">
                <a:solidFill>
                  <a:srgbClr val="006633"/>
                </a:solidFill>
                <a:latin typeface="Franklin Gothic Demi"/>
              </a:rPr>
              <a:t>az iskolai zaklatás kutatásban</a:t>
            </a:r>
            <a:br>
              <a:rPr sz="4200"/>
            </a:br>
            <a:r>
              <a:rPr b="0" lang="hu-HU" sz="4200" spc="-1" strike="noStrike">
                <a:solidFill>
                  <a:srgbClr val="006633"/>
                </a:solidFill>
                <a:latin typeface="Franklin Gothic Demi"/>
              </a:rPr>
              <a:t>az Amerikai Egyesült Államokba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58920" y="2852280"/>
            <a:ext cx="585468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Comic Sans MS"/>
              </a:rPr>
              <a:t>Kőszeghy Atti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omic Sans MS"/>
              </a:rPr>
              <a:t>attilakoszegh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@gmail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 Black"/>
              </a:rPr>
              <a:t>KFRTK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 Black"/>
              </a:rPr>
              <a:t>Debrec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973800" y="333360"/>
            <a:ext cx="26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Aggressive behavio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97640" y="1720800"/>
            <a:ext cx="407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cc"/>
                </a:solidFill>
                <a:latin typeface="Arial"/>
              </a:rPr>
              <a:t>Proactive (instrumental) aggr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70880" y="1773360"/>
            <a:ext cx="240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6633"/>
                </a:solidFill>
                <a:latin typeface="Arial"/>
              </a:rPr>
              <a:t>Reactive aggr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44000" y="3284640"/>
            <a:ext cx="422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cc"/>
                </a:solidFill>
                <a:latin typeface="Arial"/>
              </a:rPr>
              <a:t>Directed at a victim </a:t>
            </a:r>
            <a:r>
              <a:rPr b="1" lang="hu-HU" sz="1800" spc="-1" strike="noStrike">
                <a:solidFill>
                  <a:srgbClr val="0000cc"/>
                </a:solidFill>
                <a:latin typeface="Arial"/>
              </a:rPr>
              <a:t>to obtain a desi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cc"/>
                </a:solidFill>
                <a:latin typeface="Arial"/>
              </a:rPr>
              <a:t>outcome </a:t>
            </a:r>
            <a:r>
              <a:rPr b="0" lang="hu-HU" sz="1800" spc="-1" strike="noStrike">
                <a:solidFill>
                  <a:srgbClr val="0000cc"/>
                </a:solidFill>
                <a:latin typeface="Arial"/>
              </a:rPr>
              <a:t>(eg. property, power, etc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5800" y="2997360"/>
            <a:ext cx="392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6633"/>
                </a:solidFill>
                <a:latin typeface="Arial"/>
              </a:rPr>
              <a:t>Directed at a victim </a:t>
            </a:r>
            <a:r>
              <a:rPr b="1" lang="hu-HU" sz="1800" spc="-1" strike="noStrike">
                <a:solidFill>
                  <a:srgbClr val="006633"/>
                </a:solidFill>
                <a:latin typeface="Arial"/>
              </a:rPr>
              <a:t>as a result of 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6633"/>
                </a:solidFill>
                <a:latin typeface="Arial"/>
              </a:rPr>
              <a:t>aversive event</a:t>
            </a:r>
            <a:r>
              <a:rPr b="0" lang="hu-HU" sz="1800" spc="-1" strike="noStrike">
                <a:solidFill>
                  <a:srgbClr val="006633"/>
                </a:solidFill>
                <a:latin typeface="Arial"/>
              </a:rPr>
              <a:t> that elicited anger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6633"/>
                </a:solidFill>
                <a:latin typeface="Arial"/>
              </a:rPr>
              <a:t>frustration in the perpetrat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573080" y="4653000"/>
            <a:ext cx="148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0000"/>
                </a:solidFill>
                <a:latin typeface="Arial"/>
              </a:rPr>
              <a:t>BULLY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258920" y="4797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484360" y="836640"/>
            <a:ext cx="2232000" cy="936720"/>
          </a:xfrm>
          <a:prstGeom prst="line">
            <a:avLst/>
          </a:prstGeom>
          <a:ln w="507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900000" y="836640"/>
            <a:ext cx="1511280" cy="936720"/>
          </a:xfrm>
          <a:prstGeom prst="line">
            <a:avLst/>
          </a:prstGeom>
          <a:ln w="507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80000" y="2349360"/>
            <a:ext cx="2664000" cy="719280"/>
          </a:xfrm>
          <a:prstGeom prst="downArrowCallout">
            <a:avLst>
              <a:gd name="adj1" fmla="val 92601"/>
              <a:gd name="adj2" fmla="val 92593"/>
              <a:gd name="adj3" fmla="val 16667"/>
              <a:gd name="adj4" fmla="val 66667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26920" y="2349360"/>
            <a:ext cx="2305080" cy="574920"/>
          </a:xfrm>
          <a:prstGeom prst="downArrowCallout">
            <a:avLst>
              <a:gd name="adj1" fmla="val 100244"/>
              <a:gd name="adj2" fmla="val 100235"/>
              <a:gd name="adj3" fmla="val 16667"/>
              <a:gd name="adj4" fmla="val 66667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6300720" y="4076280"/>
            <a:ext cx="719280" cy="1079640"/>
          </a:xfrm>
          <a:custGeom>
            <a:avLst/>
            <a:gdLst>
              <a:gd name="textAreaLeft" fmla="*/ 0 w 719280"/>
              <a:gd name="textAreaRight" fmla="*/ 719640 w 719280"/>
              <a:gd name="textAreaTop" fmla="*/ 0 h 1079640"/>
              <a:gd name="textAreaBottom" fmla="*/ 108000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3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3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3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3000"/>
                            </p:stCondLst>
                            <p:childTnLst>
                              <p:par>
                                <p:cTn id="6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000"/>
                            </p:stCondLst>
                            <p:childTnLst>
                              <p:par>
                                <p:cTn id="8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4" dur="3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6633"/>
                </a:solidFill>
                <a:latin typeface="Comic Sans MS"/>
              </a:rPr>
              <a:t>Az iskolai zaklatás fogalma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Egy tanulóval zaklatás történik, illetve annak áldozata, ha ismételten, hosszú időn át negatív cselekményeknek van kitéve, amelyet egy vagy több más tanuló csinál(tat) vele.” (Olweus,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0001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zaklató és áldozata között nincs hatalmi egyensúly, és a zaklatás ismétlődően történik. 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(Olweus,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0001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33"/>
                </a:solidFill>
                <a:latin typeface="Comic Sans MS"/>
              </a:rPr>
              <a:t>Az iskolai zaklatás kutatások megindulása  az USA-ban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50752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19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-es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évek elej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&gt;&gt;&gt;&gt;&gt;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iskolai zaklatás kutatás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megindulá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1999 Columbine High 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(Littleton, Colorado Állam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hu-HU" sz="2800" spc="-1" strike="noStrike">
                <a:solidFill>
                  <a:srgbClr val="000000"/>
                </a:solidFill>
                <a:latin typeface="Arial Black"/>
              </a:rPr>
              <a:t>Media fókus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00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-es éve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&gt;&gt;&gt;&gt;&gt;&gt;&gt;&gt;&gt;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iskolai zaklatás kutatás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számának robbanásszer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g</a:t>
            </a: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növekedé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508720" y="2565360"/>
            <a:ext cx="187164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500720" y="3284640"/>
            <a:ext cx="976320" cy="774720"/>
          </a:xfrm>
          <a:prstGeom prst="rightArrow">
            <a:avLst>
              <a:gd name="adj1" fmla="val 50000"/>
              <a:gd name="adj2" fmla="val 3150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093080" y="4005360"/>
            <a:ext cx="934920" cy="934920"/>
          </a:xfrm>
          <a:prstGeom prst="downArrowCallout">
            <a:avLst>
              <a:gd name="adj1" fmla="val 25002"/>
              <a:gd name="adj2" fmla="val 25000"/>
              <a:gd name="adj3" fmla="val 16667"/>
              <a:gd name="adj4" fmla="val 66667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30" dur="indefinite" restart="never" nodeType="tmRoot">
          <p:childTnLst>
            <p:seq>
              <p:cTn id="1131" dur="indefinite" nodeType="mainSeq">
                <p:childTnLst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1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592200" y="6397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6633"/>
                </a:solidFill>
                <a:latin typeface="Comic Sans MS"/>
              </a:rPr>
              <a:t>Az iskolai zaklatás kutatása az USA-ban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[A 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zaklató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és az 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áldozat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nem statikus ellentétpárok, hanem – ahogy azt az amerikai kutatás már bizonyította (Espelage, Bosworth, Simon, 2000.) – 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egy tengely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olyan 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két szélsőértéke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, amely mentén számos szerep képzelhető el, melyek közül más-más szituációkban más-más szerep jut - gyakran ugyan annak a személynek is.]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Egyes becslések szerint a </a:t>
            </a:r>
            <a:r>
              <a:rPr b="1" lang="hu-HU" sz="3000" spc="-1" strike="noStrike">
                <a:solidFill>
                  <a:srgbClr val="000000"/>
                </a:solidFill>
                <a:latin typeface="Arial"/>
              </a:rPr>
              <a:t>mai amerikai iskolások 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közül ezen szerepek valamelyike – zaklató, áldozat, zaklató-áldozat - a tanulók </a:t>
            </a:r>
            <a:r>
              <a:rPr b="1" lang="hu-HU" sz="3000" spc="-1" strike="noStrike">
                <a:solidFill>
                  <a:srgbClr val="000000"/>
                </a:solidFill>
                <a:latin typeface="Arial"/>
              </a:rPr>
              <a:t>közel 30%-át érinthetik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(Nansel, Overpeck, Pilla, Ruan, Simmons-Morton, Scheidt, 2001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6633"/>
                </a:solidFill>
                <a:latin typeface="Comic Sans MS"/>
              </a:rPr>
              <a:t>Észreveszik-e a tanárok a zaklatást?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egy svájci 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óvodában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készült vizsgálat szerint 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összhang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figyelhető meg 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a gyerekek és a pedagógusok által megfigyelt zaklatások száma között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(Alsaker és Valkanover, 2001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kutatások nagyobbik hányada azonban úgy találja, hogy a 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tanárok a zaklatás kisebb elterjedtségéről számolnak be, mint a diákok,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pl. 939 amerikai vidéki általános iskolással és 37 tanárral végzett vizsgálat szerint (Stockdale et al., 2002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egy (bel)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városi brit középiskolákban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készült felmérés szerint a 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diákok a 26%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jelentette ki, hogy 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vele már történt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hasonló, míg a 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tanárok ezt az értéket 5-10% körűlinek itélték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. (Pervin és Turner,199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6633"/>
                </a:solidFill>
                <a:latin typeface="Comic Sans MS"/>
              </a:rPr>
              <a:t>Jelentik-e a tanárok a zaklatást?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amerikai iskolákban a tanárok nem jelentették a zaklatásos eseteket,(még a 90-es években sem) mer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1999 előtt (lövöldözés a Columbine középiskolában) ez a probléma </a:t>
            </a:r>
            <a:r>
              <a:rPr b="1" lang="hu-HU" sz="2100" spc="-1" strike="noStrike">
                <a:solidFill>
                  <a:srgbClr val="000000"/>
                </a:solidFill>
                <a:latin typeface="Arial"/>
              </a:rPr>
              <a:t>nem került a a Média érdeklődésének</a:t>
            </a: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 homlokterébe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a diákok nem hajlandók beszámolni olyan esetekről, amikor a tanár nem volt jelen - </a:t>
            </a:r>
            <a:r>
              <a:rPr b="1" lang="hu-HU" sz="2100" spc="-1" strike="noStrike">
                <a:solidFill>
                  <a:srgbClr val="000000"/>
                </a:solidFill>
                <a:latin typeface="Arial"/>
              </a:rPr>
              <a:t>félve a zaklató megtorlásá</a:t>
            </a: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tól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a tanárok – még akkor is, ha felismerik mértékét és jelentőségét – hezitálnak, hogy jelentsék-e, attól való félelmükben, hogy </a:t>
            </a:r>
            <a:r>
              <a:rPr b="1" lang="hu-HU" sz="2100" spc="-1" strike="noStrike">
                <a:solidFill>
                  <a:srgbClr val="000000"/>
                </a:solidFill>
                <a:latin typeface="Arial"/>
              </a:rPr>
              <a:t>ez saját szakmai megitélésüket rontja</a:t>
            </a: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;                                     (Alsakev és Valkanover, 2001.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68000" y="277920"/>
            <a:ext cx="821844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6633"/>
                </a:solidFill>
                <a:latin typeface="Comic Sans MS"/>
              </a:rPr>
              <a:t>A tanárok zaklatás-fogalma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94920" y="1484280"/>
            <a:ext cx="821844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a tanárok zaklatás fogalma gyakran szűkebb, mint amit a kutatás indokolna, me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79280" y="2060640"/>
            <a:ext cx="89647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138 brit pedagógus (óvodától a középiskoláig) között végzett vizsgálat azt mutatja, hogy bár a zaklatás fizikai és verbális formáival tisztában voltak, nem tekintették viszont a zaklatás fajtájának a kiközösítést (Boulton, 1997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116 kanadai pedagógusjelölt között végzett vizsgálat szerint inkább a fizikai támadást tekintik zaklatásnak, mint a szóbeli összetűzést, a kiközösítést pedig még kevésbé érzik a zaklatáshoz tartozónak, mint a szóbeli összetűzést;(Craig, Henderson és Murphy, 2000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71 brit középiskolai tanár között végzett felmérés szerint a megkérdezettek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értették a résztvevők hatalmi helyzetében való eltérés jelentőségét a zaklatásban, ismerték a zaklatás különböző fajtáit (fizikai, érzelmi,stb), de nem említették az ismétlődést mint döntő tényező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(Siann, Callaghan és Lockhart, 199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45" dur="indefinite" restart="never" nodeType="tmRoot">
          <p:childTnLst>
            <p:seq>
              <p:cTn id="1146" dur="indefinite" nodeType="mainSeq">
                <p:childTnLst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2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2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20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20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20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20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7" dur="20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8" dur="20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68000" y="277560"/>
            <a:ext cx="821844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6633"/>
                </a:solidFill>
                <a:latin typeface="Comic Sans MS"/>
              </a:rPr>
              <a:t>A tanár</a:t>
            </a:r>
            <a:r>
              <a:rPr b="0" lang="en-US" sz="3200" spc="-1" strike="noStrike">
                <a:solidFill>
                  <a:srgbClr val="006633"/>
                </a:solidFill>
                <a:latin typeface="Comic Sans MS"/>
              </a:rPr>
              <a:t>i szem</a:t>
            </a:r>
            <a:r>
              <a:rPr b="0" lang="hu-HU" sz="3200" spc="-1" strike="noStrike">
                <a:solidFill>
                  <a:srgbClr val="006633"/>
                </a:solidFill>
                <a:latin typeface="Comic Sans MS"/>
              </a:rPr>
              <a:t>élyiség és a zaklatás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11280" y="1599840"/>
            <a:ext cx="813744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tanárok személyisége befolyásoló tényező a zaklatás felismeréséb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79280" y="2852640"/>
            <a:ext cx="89647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+ Borg és Falzon(1989) kutatásai alapján a férfi tanárok hajlamosabbak komolynak tekinteni a zaklatás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+ Boulton (1997) szerint a női tanárok negatívabban állnak a zaklatátó viselkedéséhez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+ Craig és szerzőtársai (2000) úgy találták a 116 kanadai pedagógusjelölt között, hogy a több empátiával rendelkezők között nagyobb a valószínűsége, hogy azonosítják a zaklatásos helyzeteket és be is avatkoznak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69" dur="indefinite" restart="never" nodeType="tmRoot">
          <p:childTnLst>
            <p:seq>
              <p:cTn id="1170" dur="indefinite" nodeType="mainSeq">
                <p:childTnLst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5" dur="20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fill="hold">
                      <p:stCondLst>
                        <p:cond delay="indefinite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80" dur="5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5" dur="2000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14716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6633"/>
                </a:solidFill>
                <a:latin typeface="Comic Sans MS"/>
              </a:rPr>
              <a:t>A zaklatók sajátosságai és felismerhetőségük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95280" y="1052640"/>
            <a:ext cx="807552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a zaklatók életkori, etnikai sajátosságai is befolyásolhatják a zaklatás felismerhetőségé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47840" y="2389320"/>
            <a:ext cx="8227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+ Leff és szerzőtársai (1999) úgy találták, h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800" spc="-1" strike="noStrike" u="sng">
                <a:solidFill>
                  <a:srgbClr val="000000"/>
                </a:solidFill>
                <a:uFillTx/>
                <a:latin typeface="Arial"/>
              </a:rPr>
              <a:t>a kisiskolás korú zaklatók jobban felismerhetők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mint (a mi fogalmaink szerinti) a felsős zaklatók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+ ugyanezen tanulmányból kitűnik, hogy az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 u="sng">
                <a:solidFill>
                  <a:srgbClr val="000000"/>
                </a:solidFill>
                <a:uFillTx/>
                <a:latin typeface="Arial"/>
              </a:rPr>
              <a:t>amerikai tanároknak könnyebb felismer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 u="sng">
                <a:solidFill>
                  <a:srgbClr val="000000"/>
                </a:solidFill>
                <a:uFillTx/>
                <a:latin typeface="Arial"/>
              </a:rPr>
              <a:t>az af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o</a:t>
            </a:r>
            <a:r>
              <a:rPr b="0" lang="hu-HU" sz="2800" spc="-1" strike="noStrike" u="sng">
                <a:solidFill>
                  <a:srgbClr val="000000"/>
                </a:solidFill>
                <a:uFillTx/>
                <a:latin typeface="Arial"/>
              </a:rPr>
              <a:t>-amerikai zaklatóka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86" dur="indefinite" restart="never" nodeType="tmRoot">
          <p:childTnLst>
            <p:seq>
              <p:cTn id="1187" dur="indefinite" nodeType="mainSeq">
                <p:childTnLst>
                  <p:par>
                    <p:cTn id="1188" fill="hold">
                      <p:stCondLst>
                        <p:cond delay="indefinite"/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92" dur="2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fill="hold">
                      <p:stCondLst>
                        <p:cond delay="indefinite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7" dur="2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2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9" dur="20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2" dur="2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2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4" dur="20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7" dur="2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8" dur="2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9" dur="20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0" fill="hold">
                      <p:stCondLst>
                        <p:cond delay="indefinite"/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4" dur="20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20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6" dur="2000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9" dur="20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0" dur="20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1" dur="2000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4" dur="20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" dur="20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6" dur="2000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4000" y="277920"/>
            <a:ext cx="800244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6633"/>
                </a:solidFill>
                <a:latin typeface="Comic Sans MS"/>
              </a:rPr>
              <a:t>Az attitűd vizsgálatok szerepe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0728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Egy iskolai </a:t>
            </a:r>
            <a:r>
              <a:rPr b="0" lang="hu-HU" sz="3000" spc="-1" strike="noStrike" u="sng">
                <a:solidFill>
                  <a:srgbClr val="000000"/>
                </a:solidFill>
                <a:uFillTx/>
                <a:latin typeface="Arial"/>
              </a:rPr>
              <a:t>személyzet attitűdjeinek megértése nem jelenti automatikusan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hogy </a:t>
            </a:r>
            <a:r>
              <a:rPr b="0" lang="hu-HU" sz="3000" spc="-1" strike="noStrike" u="sng">
                <a:solidFill>
                  <a:srgbClr val="000000"/>
                </a:solidFill>
                <a:uFillTx/>
                <a:latin typeface="Arial"/>
              </a:rPr>
              <a:t>értjük viselkedésüket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 is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08200" y="3665520"/>
            <a:ext cx="736416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az </a:t>
            </a:r>
            <a:r>
              <a:rPr b="1" lang="hu-HU" sz="2800" spc="-1" strike="noStrike" u="sng">
                <a:solidFill>
                  <a:srgbClr val="000000"/>
                </a:solidFill>
                <a:uFillTx/>
                <a:latin typeface="Arial"/>
              </a:rPr>
              <a:t>attitűdök vizsgálata</a:t>
            </a: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 és értékelé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egy szükséges </a:t>
            </a:r>
            <a:r>
              <a:rPr b="1" lang="hu-HU" sz="2800" spc="-1" strike="noStrike" u="sng">
                <a:solidFill>
                  <a:srgbClr val="000000"/>
                </a:solidFill>
                <a:uFillTx/>
                <a:latin typeface="Arial"/>
              </a:rPr>
              <a:t>első lépés a megelőző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 u="sng">
                <a:solidFill>
                  <a:srgbClr val="000000"/>
                </a:solidFill>
                <a:uFillTx/>
                <a:latin typeface="Arial"/>
              </a:rPr>
              <a:t>programok</a:t>
            </a: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 meg</a:t>
            </a:r>
            <a:r>
              <a:rPr b="1" lang="hu-HU" sz="2800" spc="-1" strike="noStrike" u="sng">
                <a:solidFill>
                  <a:srgbClr val="000000"/>
                </a:solidFill>
                <a:uFillTx/>
                <a:latin typeface="Arial"/>
              </a:rPr>
              <a:t>tervezéséb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(Holt és Keyes, 200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27" dur="indefinite" restart="never" nodeType="tmRoot">
          <p:childTnLst>
            <p:seq>
              <p:cTn id="1228" dur="indefinite" nodeType="mainSeq">
                <p:childTnLst>
                  <p:par>
                    <p:cTn id="1229" fill="hold">
                      <p:stCondLst>
                        <p:cond delay="indefinite"/>
                      </p:stCondLst>
                      <p:childTnLst>
                        <p:par>
                          <p:cTn id="1230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3" dur="2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4" dur="2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7" dur="20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8" dur="20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1" dur="20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2" dur="20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5" dur="20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6" dur="20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7600" y="696960"/>
            <a:ext cx="235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 Black"/>
              </a:rPr>
              <a:t>What is bullyi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095480" y="16477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121040" y="1700280"/>
            <a:ext cx="426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person is bullied/victimized if he/she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89160" y="2349360"/>
            <a:ext cx="259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repeatedly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through a period of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339640" y="328464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put to negative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99600" y="4221000"/>
            <a:ext cx="388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The victi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is not provoking (the bully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not ”reacting” to sg previously don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646160" y="4076640"/>
            <a:ext cx="4242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The victi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cannot defend him/hersel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in the power structure of the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971280" y="2060640"/>
            <a:ext cx="431640" cy="20160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859280" y="2060640"/>
            <a:ext cx="2808360" cy="20160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77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77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" dur="77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" dur="77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77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" dur="77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7" dur="77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9" dur="77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3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3000"/>
                            </p:stCondLst>
                            <p:childTnLst>
                              <p:par>
                                <p:cTn id="1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3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3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6000"/>
                            </p:stCondLst>
                            <p:childTnLst>
                              <p:par>
                                <p:cTn id="1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3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3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9000"/>
                            </p:stCondLst>
                            <p:childTnLst>
                              <p:par>
                                <p:cTn id="1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3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3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3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3000"/>
                            </p:stCondLst>
                            <p:childTnLst>
                              <p:par>
                                <p:cTn id="1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3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3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3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3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9000"/>
                            </p:stCondLst>
                            <p:childTnLst>
                              <p:par>
                                <p:cTn id="1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3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3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2184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264c"/>
                </a:solidFill>
                <a:latin typeface="Comic Sans MS"/>
              </a:rPr>
              <a:t>Egy </a:t>
            </a:r>
            <a:r>
              <a:rPr b="0" lang="hu-HU" sz="2800" spc="-1" strike="noStrike">
                <a:solidFill>
                  <a:srgbClr val="1a264c"/>
                </a:solidFill>
                <a:latin typeface="Comic Sans MS"/>
              </a:rPr>
              <a:t>Wisconsin</a:t>
            </a:r>
            <a:r>
              <a:rPr b="0" lang="en-US" sz="2800" spc="-1" strike="noStrike">
                <a:solidFill>
                  <a:srgbClr val="1a264c"/>
                </a:solidFill>
                <a:latin typeface="Comic Sans MS"/>
              </a:rPr>
              <a:t> </a:t>
            </a:r>
            <a:r>
              <a:rPr b="0" lang="hu-HU" sz="2800" spc="-1" strike="noStrike">
                <a:solidFill>
                  <a:srgbClr val="1a264c"/>
                </a:solidFill>
                <a:latin typeface="Comic Sans MS"/>
              </a:rPr>
              <a:t>állambeli felmérés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6" name=""/>
          <p:cNvSpPr/>
          <p:nvPr/>
        </p:nvSpPr>
        <p:spPr>
          <a:xfrm>
            <a:off x="241560" y="1700280"/>
            <a:ext cx="75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A vizsgálat 18 Wisconsin állambeli iskola tanáraira és telj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személyzetére terjedt k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79280" y="2781360"/>
            <a:ext cx="89647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A vizsgálat céljai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- zaklatással kapcsolatos-iskolai klímát befolyásoló- attitűdök felmérés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- a nyílt rosszindula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l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apcsolatos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tit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űdök felmérés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- a sokszínű értékek elfogadásának mérték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z iskolai 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szabál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k 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megállapításának gyakorl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47" dur="indefinite" restart="never" nodeType="tmRoot">
          <p:childTnLst>
            <p:seq>
              <p:cTn id="1248" dur="indefinite" nodeType="mainSeq">
                <p:childTnLst>
                  <p:par>
                    <p:cTn id="1249" fill="hold">
                      <p:stCondLst>
                        <p:cond delay="indefinite"/>
                      </p:stCondLst>
                      <p:childTnLst>
                        <p:par>
                          <p:cTn id="1250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3" dur="2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4" dur="2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5" fill="hold">
                      <p:stCondLst>
                        <p:cond delay="indefinite"/>
                      </p:stCondLst>
                      <p:childTnLst>
                        <p:par>
                          <p:cTn id="1256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9" dur="20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0" dur="20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1" fill="hold">
                      <p:stCondLst>
                        <p:cond delay="indefinite"/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5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6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7" fill="hold">
                      <p:stCondLst>
                        <p:cond delay="indefinite"/>
                      </p:stCondLst>
                      <p:childTnLst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1" dur="20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2" fill="hold">
                      <p:stCondLst>
                        <p:cond delay="indefinite"/>
                      </p:stCondLst>
                      <p:childTnLst>
                        <p:par>
                          <p:cTn id="1273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6" dur="20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7" fill="hold">
                      <p:stCondLst>
                        <p:cond delay="indefinite"/>
                      </p:stCondLst>
                      <p:childTnLst>
                        <p:par>
                          <p:cTn id="1278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1" dur="2000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2" fill="hold">
                      <p:stCondLst>
                        <p:cond delay="indefinite"/>
                      </p:stCondLst>
                      <p:childTnLst>
                        <p:par>
                          <p:cTn id="1283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6" dur="2000"/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95280" y="277920"/>
            <a:ext cx="829152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264c"/>
                </a:solidFill>
                <a:latin typeface="Comic Sans MS"/>
              </a:rPr>
              <a:t>Egy </a:t>
            </a:r>
            <a:r>
              <a:rPr b="0" lang="hu-HU" sz="2800" spc="-1" strike="noStrike">
                <a:solidFill>
                  <a:srgbClr val="1a264c"/>
                </a:solidFill>
                <a:latin typeface="Comic Sans MS"/>
              </a:rPr>
              <a:t>Wisconsin</a:t>
            </a:r>
            <a:r>
              <a:rPr b="0" lang="en-US" sz="2800" spc="-1" strike="noStrike">
                <a:solidFill>
                  <a:srgbClr val="1a264c"/>
                </a:solidFill>
                <a:latin typeface="Comic Sans MS"/>
              </a:rPr>
              <a:t> </a:t>
            </a:r>
            <a:r>
              <a:rPr b="0" lang="hu-HU" sz="2800" spc="-1" strike="noStrike">
                <a:solidFill>
                  <a:srgbClr val="1a264c"/>
                </a:solidFill>
                <a:latin typeface="Comic Sans MS"/>
              </a:rPr>
              <a:t>állambeli felmérés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9" name=""/>
          <p:cNvSpPr/>
          <p:nvPr/>
        </p:nvSpPr>
        <p:spPr>
          <a:xfrm>
            <a:off x="370080" y="907920"/>
            <a:ext cx="87656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Résztvevők összetétele: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összesen: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79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fő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pedagógus és pedagógus assziszten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nemek szerint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5 nő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76%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81 férfi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23%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1 fő nem adta meg a nemé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etnikai hovatartozás szerint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95,4%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fehér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 1%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ázsiai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0,6%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latin eredetű [Hispanic]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0,3%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kevert etnikumú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0,1%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ro-amerikai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2,6%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[21 fő] nem jelezte etnikai hovatartozásá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végzettség szerint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&gt; érettség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 4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&gt; valamennyi középiskola utáni iskola diploma nélkül: </a:t>
            </a:r>
            <a:r>
              <a:rPr b="1" lang="fi-FI" sz="1800" spc="-1" strike="noStrike">
                <a:solidFill>
                  <a:srgbClr val="000000"/>
                </a:solidFill>
                <a:latin typeface="Arial"/>
              </a:rPr>
              <a:t>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 community college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gt; (4 éves) főiskolai diploma: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&gt; egyetemi félévek, diploma nélkül: </a:t>
            </a:r>
            <a:r>
              <a:rPr b="1" lang="fi-FI" sz="1800" spc="-1" strike="noStrike">
                <a:solidFill>
                  <a:srgbClr val="000000"/>
                </a:solidFill>
                <a:latin typeface="Arial"/>
              </a:rPr>
              <a:t>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&gt; egyetemi diploma: </a:t>
            </a:r>
            <a:r>
              <a:rPr b="1" lang="fi-FI" sz="1800" spc="-1" strike="noStrike">
                <a:solidFill>
                  <a:srgbClr val="000000"/>
                </a:solidFill>
                <a:latin typeface="Arial"/>
              </a:rPr>
              <a:t>34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&gt; doktori fokozat: </a:t>
            </a:r>
            <a:r>
              <a:rPr b="1" lang="fi-FI" sz="1800" spc="-1" strike="noStrike">
                <a:solidFill>
                  <a:srgbClr val="000000"/>
                </a:solidFill>
                <a:latin typeface="Arial"/>
              </a:rPr>
              <a:t>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&gt; nem adta meg a végzettségét:</a:t>
            </a:r>
            <a:r>
              <a:rPr b="1" lang="fi-FI" sz="1800" spc="-1" strike="noStrike">
                <a:solidFill>
                  <a:srgbClr val="000000"/>
                </a:solidFill>
                <a:latin typeface="Arial"/>
              </a:rPr>
              <a:t> 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87" dur="indefinite" restart="never" nodeType="tmRoot">
          <p:childTnLst>
            <p:seq>
              <p:cTn id="1288" dur="indefinite" nodeType="mainSeq">
                <p:childTnLst>
                  <p:par>
                    <p:cTn id="1289" fill="hold">
                      <p:stCondLst>
                        <p:cond delay="indefinite"/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3" dur="20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4" fill="hold">
                      <p:stCondLst>
                        <p:cond delay="indefinite"/>
                      </p:stCondLst>
                      <p:childTnLst>
                        <p:par>
                          <p:cTn id="1295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8" dur="20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1" dur="20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4" dur="200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5" fill="hold">
                      <p:stCondLst>
                        <p:cond delay="indefinite"/>
                      </p:stCondLst>
                      <p:childTnLst>
                        <p:par>
                          <p:cTn id="1306" fill="hold">
                            <p:stCondLst>
                              <p:cond delay="0"/>
                            </p:stCondLst>
                            <p:childTnLst>
                              <p:par>
                                <p:cTn id="130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09" dur="2000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12" dur="2000"/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15" dur="2000"/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18" dur="2000"/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3" dur="2000"/>
                                        <p:tgtEl>
                                          <p:spTgt spid="2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6" dur="2000"/>
                                        <p:tgtEl>
                                          <p:spTgt spid="2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9" dur="2000"/>
                                        <p:tgtEl>
                                          <p:spTgt spid="21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2" dur="2000"/>
                                        <p:tgtEl>
                                          <p:spTgt spid="21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5" dur="2000"/>
                                        <p:tgtEl>
                                          <p:spTgt spid="21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8" dur="2000"/>
                                        <p:tgtEl>
                                          <p:spTgt spid="21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1" dur="2000"/>
                                        <p:tgtEl>
                                          <p:spTgt spid="21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4" dur="2000"/>
                                        <p:tgtEl>
                                          <p:spTgt spid="21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7" dur="2000"/>
                                        <p:tgtEl>
                                          <p:spTgt spid="21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0" name=""/>
          <p:cNvGraphicFramePr/>
          <p:nvPr/>
        </p:nvGraphicFramePr>
        <p:xfrm>
          <a:off x="395280" y="189000"/>
          <a:ext cx="8209080" cy="6342120"/>
        </p:xfrm>
        <a:graphic>
          <a:graphicData uri="http://schemas.openxmlformats.org/drawingml/2006/table">
            <a:tbl>
              <a:tblPr/>
              <a:tblGrid>
                <a:gridCol w="4924440"/>
                <a:gridCol w="765000"/>
                <a:gridCol w="863640"/>
                <a:gridCol w="709920"/>
                <a:gridCol w="946080"/>
              </a:tblGrid>
              <a:tr h="78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rős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gyetért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gyetért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m ért egy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gy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ért egy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szekálás nem ártalm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a egy diákot szekálnak, a többiek ezt leállitják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diákokat ebben az iskolában bevonják a szabályok megalkotásába és a problémák megoldásáb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felnőttek itt rendszerint leállítják azt a diákot, aki a másik diákra sértő megjegyzéseket tes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nek az iskolának a tanári kara ki van arra képezve, hogy szakszerűen beavatkozzon, ha diák diákot zakla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Én leállítom, ha valaki viccelődve vagy más módon tesz etnikai alapú megjegyzés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zisztematikus módon vezettük be a multikulturális oktatás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lfogadnám a biszexuális, homoszexuális fiú és lány tanulókat ebben az iskolában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z iskolai adminisztrátorok támogatják a tanárokat abban, hogy zaklatás mentes legyen az iskola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áttam olyan tanárokat, akik viccet csináltak abból, ahogy egy diák jár, vagy kinéz, vagy csinál dolgoka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280" y="277560"/>
            <a:ext cx="814716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1a264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1a264c"/>
                </a:solidFill>
                <a:latin typeface="Comic Sans MS"/>
              </a:rPr>
              <a:t> </a:t>
            </a:r>
            <a:r>
              <a:rPr b="0" lang="hu-HU" sz="2800" spc="-1" strike="noStrike">
                <a:solidFill>
                  <a:srgbClr val="1a264c"/>
                </a:solidFill>
                <a:latin typeface="Comic Sans MS"/>
              </a:rPr>
              <a:t>Wisconsin-i</a:t>
            </a:r>
            <a:r>
              <a:rPr b="0" lang="en-US" sz="2800" spc="-1" strike="noStrike">
                <a:solidFill>
                  <a:srgbClr val="1a264c"/>
                </a:solidFill>
                <a:latin typeface="Comic Sans MS"/>
              </a:rPr>
              <a:t> </a:t>
            </a:r>
            <a:r>
              <a:rPr b="0" lang="hu-HU" sz="2800" spc="-1" strike="noStrike">
                <a:solidFill>
                  <a:srgbClr val="1a264c"/>
                </a:solidFill>
                <a:latin typeface="Comic Sans MS"/>
              </a:rPr>
              <a:t>felmérés</a:t>
            </a:r>
            <a:r>
              <a:rPr b="0" lang="en-US" sz="2800" spc="-1" strike="noStrike">
                <a:solidFill>
                  <a:srgbClr val="1a264c"/>
                </a:solidFill>
                <a:latin typeface="Comic Sans MS"/>
              </a:rPr>
              <a:t> n</a:t>
            </a:r>
            <a:r>
              <a:rPr b="0" lang="hu-HU" sz="2800" spc="-1" strike="noStrike">
                <a:solidFill>
                  <a:srgbClr val="1a264c"/>
                </a:solidFill>
                <a:latin typeface="Comic Sans MS"/>
              </a:rPr>
              <a:t>éhány eredménye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2" name=""/>
          <p:cNvSpPr/>
          <p:nvPr/>
        </p:nvSpPr>
        <p:spPr>
          <a:xfrm>
            <a:off x="401400" y="1484280"/>
            <a:ext cx="668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7% gondolja, hogy „egy kis szekálás nem árt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57% hiszi azt, hogy a diákok nem avatkoznak be a zaklatások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84200" y="2708280"/>
            <a:ext cx="783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93% véli, hogy a felnőttek beavatkoznának az etnikai alapú sértegetésekb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74% mondja, hogy ő maga állítana le etnikai tartalmú vicce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78800" y="4221000"/>
            <a:ext cx="791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95% fogadná el biszexuális és homoszexuális diákok jelenlétét az iskolába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bár korább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6% állította, hogy vannak olyan tanárok, akik viccet csinálnak diáko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kinézetéből, st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8" dur="indefinite" restart="never" nodeType="tmRoot">
          <p:childTnLst>
            <p:seq>
              <p:cTn id="1349" dur="indefinite" nodeType="mainSeq">
                <p:childTnLst>
                  <p:par>
                    <p:cTn id="1350" fill="hold">
                      <p:stCondLst>
                        <p:cond delay="indefinite"/>
                      </p:stCondLst>
                      <p:childTnLst>
                        <p:par>
                          <p:cTn id="1351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4" dur="2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5" dur="2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8" dur="20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9" dur="20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0" fill="hold">
                      <p:stCondLst>
                        <p:cond delay="indefinite"/>
                      </p:stCondLst>
                      <p:childTnLst>
                        <p:par>
                          <p:cTn id="1361" fill="hold">
                            <p:stCondLst>
                              <p:cond delay="0"/>
                            </p:stCondLst>
                            <p:childTnLst>
                              <p:par>
                                <p:cTn id="1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4" dur="2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5" dur="2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8" dur="20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9" dur="20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0" fill="hold">
                      <p:stCondLst>
                        <p:cond delay="indefinite"/>
                      </p:stCondLst>
                      <p:childTnLst>
                        <p:par>
                          <p:cTn id="1371" fill="hold">
                            <p:stCondLst>
                              <p:cond delay="0"/>
                            </p:stCondLst>
                            <p:childTnLst>
                              <p:par>
                                <p:cTn id="13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4" dur="2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5" dur="2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8" dur="20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9" dur="20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2" dur="20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3" dur="20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6" dur="20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7" dur="20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8000" y="277920"/>
            <a:ext cx="821844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1a264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1a264c"/>
                </a:solidFill>
                <a:latin typeface="Comic Sans MS"/>
              </a:rPr>
              <a:t> </a:t>
            </a:r>
            <a:r>
              <a:rPr b="0" lang="hu-HU" sz="2800" spc="-1" strike="noStrike">
                <a:solidFill>
                  <a:srgbClr val="1a264c"/>
                </a:solidFill>
                <a:latin typeface="Comic Sans MS"/>
              </a:rPr>
              <a:t>Wisconsin-i</a:t>
            </a:r>
            <a:r>
              <a:rPr b="0" lang="en-US" sz="2800" spc="-1" strike="noStrike">
                <a:solidFill>
                  <a:srgbClr val="1a264c"/>
                </a:solidFill>
                <a:latin typeface="Comic Sans MS"/>
              </a:rPr>
              <a:t> </a:t>
            </a:r>
            <a:r>
              <a:rPr b="0" lang="hu-HU" sz="2800" spc="-1" strike="noStrike">
                <a:solidFill>
                  <a:srgbClr val="1a264c"/>
                </a:solidFill>
                <a:latin typeface="Comic Sans MS"/>
              </a:rPr>
              <a:t>felmérés</a:t>
            </a:r>
            <a:r>
              <a:rPr b="0" lang="en-US" sz="2800" spc="-1" strike="noStrike">
                <a:solidFill>
                  <a:srgbClr val="1a264c"/>
                </a:solidFill>
                <a:latin typeface="Comic Sans MS"/>
              </a:rPr>
              <a:t> n</a:t>
            </a:r>
            <a:r>
              <a:rPr b="0" lang="hu-HU" sz="2800" spc="-1" strike="noStrike">
                <a:solidFill>
                  <a:srgbClr val="1a264c"/>
                </a:solidFill>
                <a:latin typeface="Comic Sans MS"/>
              </a:rPr>
              <a:t>éhány eredménye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6" name=""/>
          <p:cNvSpPr/>
          <p:nvPr/>
        </p:nvSpPr>
        <p:spPr>
          <a:xfrm>
            <a:off x="331200" y="1557360"/>
            <a:ext cx="85262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/ „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Igazságo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vizsgálat 11 pontja vonatkozott az igazságosságra (pl „a tanárok igazságos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ítélnek”), vagy szabály alkotásra (pl. „a diákokat bevonják az iskolai szabályo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megállapításáb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/ „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Ellensége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vizsgálat 10 pontja vonatkozott ellenséges motívumokra (pl. „a tanáro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kigúnyolják a homoszexuális tanulóka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3/ „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Nyitott a sokféleségr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vizsgálat 5 pontja vonatkozott a diák sokszínűség elfogadásá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pl. „a fogyatékkal élő diákok gyakran tehetségesek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4/ „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Hajlandó a beavatkozásra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vizsgálat 2 pontja vonatkozott arra, hogy a tanárok beavatkoznának-e, hog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megakadályozzák, hogy sértő viccek elhangozzana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96720" y="1052640"/>
            <a:ext cx="767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* négy attitűd fajtát állapítottak meg a vizsgálatok eredményeképp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88" dur="indefinite" restart="never" nodeType="tmRoot">
          <p:childTnLst>
            <p:seq>
              <p:cTn id="1389" dur="indefinite" nodeType="mainSeq">
                <p:childTnLst>
                  <p:par>
                    <p:cTn id="1390" fill="hold">
                      <p:stCondLst>
                        <p:cond delay="indefinite"/>
                      </p:stCondLst>
                      <p:childTnLst>
                        <p:par>
                          <p:cTn id="1391" fill="hold">
                            <p:stCondLst>
                              <p:cond delay="0"/>
                            </p:stCondLst>
                            <p:childTnLst>
                              <p:par>
                                <p:cTn id="1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4" dur="20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5" fill="hold">
                      <p:stCondLst>
                        <p:cond delay="indefinite"/>
                      </p:stCondLst>
                      <p:childTnLst>
                        <p:par>
                          <p:cTn id="1396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9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0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3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4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7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8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1" dur="5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2" dur="5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3" fill="hold">
                      <p:stCondLst>
                        <p:cond delay="indefinite"/>
                      </p:stCondLst>
                      <p:childTnLst>
                        <p:par>
                          <p:cTn id="1414" fill="hold">
                            <p:stCondLst>
                              <p:cond delay="0"/>
                            </p:stCondLst>
                            <p:childTnLst>
                              <p:par>
                                <p:cTn id="14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7" dur="2000" fill="hold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8" dur="2000" fill="hold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1" dur="2000" fill="hold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2" dur="2000" fill="hold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5" dur="2000" fill="hold"/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6" dur="2000" fill="hold"/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7" fill="hold">
                      <p:stCondLst>
                        <p:cond delay="indefinite"/>
                      </p:stCondLst>
                      <p:childTnLst>
                        <p:par>
                          <p:cTn id="1428" fill="hold">
                            <p:stCondLst>
                              <p:cond delay="0"/>
                            </p:stCondLst>
                            <p:childTnLst>
                              <p:par>
                                <p:cTn id="1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1" dur="2000" fill="hold"/>
                                        <p:tgtEl>
                                          <p:spTgt spid="2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2" dur="2000" fill="hold"/>
                                        <p:tgtEl>
                                          <p:spTgt spid="2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5" dur="2000" fill="hold"/>
                                        <p:tgtEl>
                                          <p:spTgt spid="2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6" dur="2000" fill="hold"/>
                                        <p:tgtEl>
                                          <p:spTgt spid="2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9" dur="2000" fill="hold"/>
                                        <p:tgtEl>
                                          <p:spTgt spid="2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0" dur="2000" fill="hold"/>
                                        <p:tgtEl>
                                          <p:spTgt spid="2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1" fill="hold">
                      <p:stCondLst>
                        <p:cond delay="indefinite"/>
                      </p:stCondLst>
                      <p:childTnLst>
                        <p:par>
                          <p:cTn id="1442" fill="hold">
                            <p:stCondLst>
                              <p:cond delay="0"/>
                            </p:stCondLst>
                            <p:childTnLst>
                              <p:par>
                                <p:cTn id="1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5" dur="2000" fill="hold"/>
                                        <p:tgtEl>
                                          <p:spTgt spid="2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6" dur="2000" fill="hold"/>
                                        <p:tgtEl>
                                          <p:spTgt spid="2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9" dur="2000" fill="hold"/>
                                        <p:tgtEl>
                                          <p:spTgt spid="2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0" dur="2000" fill="hold"/>
                                        <p:tgtEl>
                                          <p:spTgt spid="2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3" dur="2000" fill="hold"/>
                                        <p:tgtEl>
                                          <p:spTgt spid="22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4" dur="2000" fill="hold"/>
                                        <p:tgtEl>
                                          <p:spTgt spid="22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280" y="277920"/>
            <a:ext cx="814716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1a264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1a264c"/>
                </a:solidFill>
                <a:latin typeface="Comic Sans MS"/>
              </a:rPr>
              <a:t> </a:t>
            </a:r>
            <a:r>
              <a:rPr b="0" lang="hu-HU" sz="2800" spc="-1" strike="noStrike">
                <a:solidFill>
                  <a:srgbClr val="1a264c"/>
                </a:solidFill>
                <a:latin typeface="Comic Sans MS"/>
              </a:rPr>
              <a:t>Wisconsin-i</a:t>
            </a:r>
            <a:r>
              <a:rPr b="0" lang="en-US" sz="2800" spc="-1" strike="noStrike">
                <a:solidFill>
                  <a:srgbClr val="1a264c"/>
                </a:solidFill>
                <a:latin typeface="Comic Sans MS"/>
              </a:rPr>
              <a:t> </a:t>
            </a:r>
            <a:r>
              <a:rPr b="0" lang="hu-HU" sz="2800" spc="-1" strike="noStrike">
                <a:solidFill>
                  <a:srgbClr val="1a264c"/>
                </a:solidFill>
                <a:latin typeface="Comic Sans MS"/>
              </a:rPr>
              <a:t>felmérés</a:t>
            </a:r>
            <a:r>
              <a:rPr b="0" lang="en-US" sz="2800" spc="-1" strike="noStrike">
                <a:solidFill>
                  <a:srgbClr val="1a264c"/>
                </a:solidFill>
                <a:latin typeface="Comic Sans MS"/>
              </a:rPr>
              <a:t> n</a:t>
            </a:r>
            <a:r>
              <a:rPr b="0" lang="hu-HU" sz="2800" spc="-1" strike="noStrike">
                <a:solidFill>
                  <a:srgbClr val="1a264c"/>
                </a:solidFill>
                <a:latin typeface="Comic Sans MS"/>
              </a:rPr>
              <a:t>éhány eredménye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9" name=""/>
          <p:cNvSpPr/>
          <p:nvPr/>
        </p:nvSpPr>
        <p:spPr>
          <a:xfrm>
            <a:off x="474840" y="981000"/>
            <a:ext cx="613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Az attitűd fajták korrelációja a különböző iskolatipusokkal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ahol a pedagógusok dolgozta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95280" y="1773360"/>
            <a:ext cx="7364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\ ált.isk. alsó tagozat (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óvodától az 5 osztályig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[elementary school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\ ált.isk. felső tagozat (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6.-8. osztályig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[middle school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3\ középiskola (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9-12. osztályig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[high school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99240" y="2708280"/>
            <a:ext cx="6919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800" spc="-1" strike="noStrike">
                <a:solidFill>
                  <a:srgbClr val="000000"/>
                </a:solidFill>
                <a:latin typeface="Arial"/>
              </a:rPr>
              <a:t>Jelentős a különbség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z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„Igazságos”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és a „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Hajlandó a beavatkozásra”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kategóriákb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z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intézmény tipusok között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mutatkozot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14160" y="4292640"/>
            <a:ext cx="8204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i="1" lang="hu-HU" sz="1800" spc="-1" strike="noStrike">
                <a:solidFill>
                  <a:srgbClr val="000000"/>
                </a:solidFill>
                <a:latin typeface="Arial"/>
              </a:rPr>
              <a:t>ülönbség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z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„Igazságos”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„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Ellenséges”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Nyitott a sokféleségre”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és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„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Hajlandó a beavatkozásra”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kategóriákban az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gyes i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ntézmény tipusok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l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ül mutatkoznak. (?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55" dur="indefinite" restart="never" nodeType="tmRoot">
          <p:childTnLst>
            <p:seq>
              <p:cTn id="1456" dur="indefinite" nodeType="mainSeq">
                <p:childTnLst>
                  <p:par>
                    <p:cTn id="1457" fill="hold">
                      <p:stCondLst>
                        <p:cond delay="indefinite"/>
                      </p:stCondLst>
                      <p:childTnLst>
                        <p:par>
                          <p:cTn id="1458" fill="hold">
                            <p:stCondLst>
                              <p:cond delay="0"/>
                            </p:stCondLst>
                            <p:childTnLst>
                              <p:par>
                                <p:cTn id="14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1" dur="20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4" dur="20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5" fill="hold">
                      <p:stCondLst>
                        <p:cond delay="indefinite"/>
                      </p:stCondLst>
                      <p:childTnLst>
                        <p:par>
                          <p:cTn id="1466" fill="hold">
                            <p:stCondLst>
                              <p:cond delay="0"/>
                            </p:stCondLst>
                            <p:childTnLst>
                              <p:par>
                                <p:cTn id="1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9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0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1" fill="hold">
                      <p:stCondLst>
                        <p:cond delay="indefinite"/>
                      </p:stCondLst>
                      <p:childTnLst>
                        <p:par>
                          <p:cTn id="1472" fill="hold">
                            <p:stCondLst>
                              <p:cond delay="0"/>
                            </p:stCondLst>
                            <p:childTnLst>
                              <p:par>
                                <p:cTn id="14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5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6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7" fill="hold">
                      <p:stCondLst>
                        <p:cond delay="indefinite"/>
                      </p:stCondLst>
                      <p:childTnLst>
                        <p:par>
                          <p:cTn id="1478" fill="hold">
                            <p:stCondLst>
                              <p:cond delay="0"/>
                            </p:stCondLst>
                            <p:childTnLst>
                              <p:par>
                                <p:cTn id="1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1" dur="5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2" dur="5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3" fill="hold">
                      <p:stCondLst>
                        <p:cond delay="indefinite"/>
                      </p:stCondLst>
                      <p:childTnLst>
                        <p:par>
                          <p:cTn id="1484" fill="hold">
                            <p:stCondLst>
                              <p:cond delay="0"/>
                            </p:stCondLst>
                            <p:childTnLst>
                              <p:par>
                                <p:cTn id="14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7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8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9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1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2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3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5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6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7" fill="hold">
                      <p:stCondLst>
                        <p:cond delay="indefinite"/>
                      </p:stCondLst>
                      <p:childTnLst>
                        <p:par>
                          <p:cTn id="1498" fill="hold">
                            <p:stCondLst>
                              <p:cond delay="0"/>
                            </p:stCondLst>
                            <p:childTnLst>
                              <p:par>
                                <p:cTn id="1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1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2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3" fill="hold">
                      <p:stCondLst>
                        <p:cond delay="indefinite"/>
                      </p:stCondLst>
                      <p:childTnLst>
                        <p:par>
                          <p:cTn id="1504" fill="hold">
                            <p:stCondLst>
                              <p:cond delay="0"/>
                            </p:stCondLst>
                            <p:childTnLst>
                              <p:par>
                                <p:cTn id="1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7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8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9" fill="hold">
                      <p:stCondLst>
                        <p:cond delay="indefinite"/>
                      </p:stCondLst>
                      <p:childTnLst>
                        <p:par>
                          <p:cTn id="1510" fill="hold">
                            <p:stCondLst>
                              <p:cond delay="0"/>
                            </p:stCondLst>
                            <p:childTnLst>
                              <p:par>
                                <p:cTn id="1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3" dur="5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4" dur="5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5" fill="hold">
                      <p:stCondLst>
                        <p:cond delay="indefinite"/>
                      </p:stCondLst>
                      <p:childTnLst>
                        <p:par>
                          <p:cTn id="1516" fill="hold">
                            <p:stCondLst>
                              <p:cond delay="0"/>
                            </p:stCondLst>
                            <p:childTnLst>
                              <p:par>
                                <p:cTn id="1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9" dur="5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0" dur="5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68360" y="277920"/>
            <a:ext cx="784872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1a264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1a264c"/>
                </a:solidFill>
                <a:latin typeface="Comic Sans MS"/>
              </a:rPr>
              <a:t> </a:t>
            </a:r>
            <a:r>
              <a:rPr b="0" lang="hu-HU" sz="2800" spc="-1" strike="noStrike">
                <a:solidFill>
                  <a:srgbClr val="1a264c"/>
                </a:solidFill>
                <a:latin typeface="Comic Sans MS"/>
              </a:rPr>
              <a:t>Wisconsin-i</a:t>
            </a:r>
            <a:r>
              <a:rPr b="0" lang="en-US" sz="2800" spc="-1" strike="noStrike">
                <a:solidFill>
                  <a:srgbClr val="1a264c"/>
                </a:solidFill>
                <a:latin typeface="Comic Sans MS"/>
              </a:rPr>
              <a:t> </a:t>
            </a:r>
            <a:r>
              <a:rPr b="0" lang="hu-HU" sz="2800" spc="-1" strike="noStrike">
                <a:solidFill>
                  <a:srgbClr val="1a264c"/>
                </a:solidFill>
                <a:latin typeface="Comic Sans MS"/>
              </a:rPr>
              <a:t>felmérés</a:t>
            </a:r>
            <a:r>
              <a:rPr b="0" lang="en-US" sz="2800" spc="-1" strike="noStrike">
                <a:solidFill>
                  <a:srgbClr val="1a264c"/>
                </a:solidFill>
                <a:latin typeface="Comic Sans MS"/>
              </a:rPr>
              <a:t> n</a:t>
            </a:r>
            <a:r>
              <a:rPr b="0" lang="hu-HU" sz="2800" spc="-1" strike="noStrike">
                <a:solidFill>
                  <a:srgbClr val="1a264c"/>
                </a:solidFill>
                <a:latin typeface="Comic Sans MS"/>
              </a:rPr>
              <a:t>éhány eredménye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4" name=""/>
          <p:cNvSpPr/>
          <p:nvPr/>
        </p:nvSpPr>
        <p:spPr>
          <a:xfrm>
            <a:off x="825840" y="1484280"/>
            <a:ext cx="7311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Az attitűd fajtákat korrelációja a pedagógusok nemé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800" spc="-1" strike="noStrike">
                <a:solidFill>
                  <a:srgbClr val="000000"/>
                </a:solidFill>
                <a:latin typeface="Arial"/>
              </a:rPr>
              <a:t>Nincs jelentős különbség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z attitűd fajták között a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különböző nemű pedagógusok esetében(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!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21" dur="indefinite" restart="never" nodeType="tmRoot">
          <p:childTnLst>
            <p:seq>
              <p:cTn id="1522" dur="indefinite" nodeType="mainSeq">
                <p:childTnLst>
                  <p:par>
                    <p:cTn id="1523" fill="hold">
                      <p:stCondLst>
                        <p:cond delay="indefinite"/>
                      </p:stCondLst>
                      <p:childTnLst>
                        <p:par>
                          <p:cTn id="1524" fill="hold">
                            <p:stCondLst>
                              <p:cond delay="0"/>
                            </p:stCondLst>
                            <p:childTnLst>
                              <p:par>
                                <p:cTn id="1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7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8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9" fill="hold">
                      <p:stCondLst>
                        <p:cond delay="indefinite"/>
                      </p:stCondLst>
                      <p:childTnLst>
                        <p:par>
                          <p:cTn id="1530" fill="hold">
                            <p:stCondLst>
                              <p:cond delay="0"/>
                            </p:stCondLst>
                            <p:childTnLst>
                              <p:par>
                                <p:cTn id="153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3" dur="5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4" dur="5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5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7" dur="5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8" dur="5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33"/>
                </a:solidFill>
                <a:latin typeface="Franklin Gothic Demi"/>
              </a:rPr>
              <a:t>Tanári attitűd-vizsgálatok az iskolai zaklatás kutatásban</a:t>
            </a:r>
            <a:br>
              <a:rPr sz="2400"/>
            </a:br>
            <a:r>
              <a:rPr b="0" lang="hu-HU" sz="2400" spc="-1" strike="noStrike">
                <a:solidFill>
                  <a:srgbClr val="006633"/>
                </a:solidFill>
                <a:latin typeface="Franklin Gothic Demi"/>
              </a:rPr>
              <a:t>az Amerikai Egyesült Államokban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6" name=""/>
          <p:cNvSpPr/>
          <p:nvPr/>
        </p:nvSpPr>
        <p:spPr>
          <a:xfrm>
            <a:off x="1802880" y="1916280"/>
            <a:ext cx="507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Arial Black"/>
              </a:rPr>
              <a:t>Köszönöm a figyelmet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281480" y="3213000"/>
            <a:ext cx="3214800" cy="23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Comic Sans MS"/>
              </a:rPr>
              <a:t>Kőszeghy Atti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ttilakoszegh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@gmail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 Black"/>
              </a:rPr>
              <a:t>KFRTK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Debrec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39" dur="indefinite" restart="never" nodeType="tmRoot">
          <p:childTnLst>
            <p:seq>
              <p:cTn id="1540" dur="indefinite" nodeType="mainSeq">
                <p:childTnLst>
                  <p:par>
                    <p:cTn id="1541" fill="hold">
                      <p:stCondLst>
                        <p:cond delay="indefinite"/>
                      </p:stCondLst>
                      <p:childTnLst>
                        <p:par>
                          <p:cTn id="1542" fill="hold">
                            <p:stCondLst>
                              <p:cond delay="0"/>
                            </p:stCondLst>
                            <p:childTnLst>
                              <p:par>
                                <p:cTn id="154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5" dur="77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46" dur="77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48" dur="77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50" dur="77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2" fill="hold">
                            <p:stCondLst>
                              <p:cond delay="2000"/>
                            </p:stCondLst>
                            <p:childTnLst>
                              <p:par>
                                <p:cTn id="155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5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6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7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8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9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0" fill="hold">
                            <p:stCondLst>
                              <p:cond delay="3150"/>
                            </p:stCondLst>
                            <p:childTnLst>
                              <p:par>
                                <p:cTn id="156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3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4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5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6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7" dur="5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8" fill="hold">
                            <p:stCondLst>
                              <p:cond delay="4800"/>
                            </p:stCondLst>
                            <p:childTnLst>
                              <p:par>
                                <p:cTn id="156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1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2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3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4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5" dur="5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6" fill="hold">
                            <p:stCondLst>
                              <p:cond delay="5550"/>
                            </p:stCondLst>
                            <p:childTnLst>
                              <p:par>
                                <p:cTn id="157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9" dur="5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0" dur="5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1" dur="5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2" dur="5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3" dur="500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00244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33"/>
                </a:solidFill>
                <a:latin typeface="Franklin Gothic Demi"/>
              </a:rPr>
              <a:t>Tanári attitűd-vizsgálatok az iskolai zaklatás kutatásban</a:t>
            </a:r>
            <a:br>
              <a:rPr sz="2400"/>
            </a:br>
            <a:r>
              <a:rPr b="0" lang="hu-HU" sz="2400" spc="-1" strike="noStrike">
                <a:solidFill>
                  <a:srgbClr val="006633"/>
                </a:solidFill>
                <a:latin typeface="Franklin Gothic Demi"/>
              </a:rPr>
              <a:t>az Amerikai Egyesült Államokban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9" name=""/>
          <p:cNvSpPr/>
          <p:nvPr/>
        </p:nvSpPr>
        <p:spPr>
          <a:xfrm>
            <a:off x="355320" y="1197000"/>
            <a:ext cx="87822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 u="sng">
                <a:solidFill>
                  <a:srgbClr val="000000"/>
                </a:solidFill>
                <a:uFillTx/>
                <a:latin typeface="Arial"/>
              </a:rPr>
              <a:t>Felhasznált irodal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lsaker, F.D.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amp; Valkanover,S. (2001), Early diagnosis and prevention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ctimization in kindergarten. In J.Juvonen &amp; S. Graham (Eds.)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e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rassment in schools: The plight of the vulnerable and victimiz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p175-195), New York: The Guilford Pr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g, M.G. &amp; Falzon, J.M.(1989). Primary school teachers’ perception of pupils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esirable behaviours. Educational Studies, 15. 251-26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ulton, M.J. (1997). Teachers’ views on bullying:Definitions, attitudes,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ility to cope.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ritish Journal of Educational Psychology, 6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223-23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ig, W. M., Henderson, K. &amp; Murphy, J. G.(2000). Prospective teachers’ attitu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ward bullying and victimization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chool Psychology Internation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21.5-2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pelage, D.L., Bosworth,K. &amp; Simon,T.R.(2000). Examining the context of bully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havior in early adolescence. Journal of Counseling and Development,7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6-33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lt, M.K. &amp; Keyes, M.A.(2004). Teachers’ Attitudes Toward Bullying. In D.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pelage, &amp; S.M.Swearer (Eds.)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ullying in American School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hwah,N.J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wrence Erlbaum Associates, Publish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00244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33"/>
                </a:solidFill>
                <a:latin typeface="Franklin Gothic Demi"/>
              </a:rPr>
              <a:t>Tanári attitűd-vizsgálatok az iskolai zaklatás kutatásban</a:t>
            </a:r>
            <a:br>
              <a:rPr sz="2400"/>
            </a:br>
            <a:r>
              <a:rPr b="0" lang="hu-HU" sz="2400" spc="-1" strike="noStrike">
                <a:solidFill>
                  <a:srgbClr val="006633"/>
                </a:solidFill>
                <a:latin typeface="Franklin Gothic Demi"/>
              </a:rPr>
              <a:t>az Amerikai Egyesült Államokban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1" name=""/>
          <p:cNvSpPr/>
          <p:nvPr/>
        </p:nvSpPr>
        <p:spPr>
          <a:xfrm>
            <a:off x="215640" y="1125360"/>
            <a:ext cx="89222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 u="sng">
                <a:solidFill>
                  <a:srgbClr val="000000"/>
                </a:solidFill>
                <a:uFillTx/>
                <a:latin typeface="Arial"/>
              </a:rPr>
              <a:t>Felhasznált irodalom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(folyt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f, S.S., Kupersmidt, J.B., Patterson, C.J., &amp; Power, T.J. (1999) Factors influen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acher identification of peer bullies and victims.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chool Psychology Revi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. 505-51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nsel, T.R., Overpeck, M., Pilla, R.S., Ruan, W.J. Simons-Morton, B. &amp; Scheidt, 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001). Bullying behaviors among among US youth: Prevalence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ociation with psychosocial adjustment.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Journal of the American Med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ssoci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285. 2094-210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weus, D. (2001). Peer Harassment:A critical analysis and some important issues.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.Juvonen &amp; S. Graham (Eds.), Peer harassment in schools: The plight of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ulnerable and the victimized (pp.3-20). New York: The Guilford Pr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vin, K. &amp; Turner, A. (1994).An investigation into staff and pupil knowledge, attitu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beliefs about bullying in an inner city school.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astoral Care in Educ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, 16-2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ann,G., Callaghan, M., &amp; Lockhart, R. (1993). Bullying: Teachers’ views and sch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ffects. Educational Studies, 19, 307-2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ckdale, M.S. et al.(2002). Rural elementary students’, parents’, and teachers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ception of bullying.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merican Journal of Health Behavi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26, 266-27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587520" y="431640"/>
            <a:ext cx="299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 Black"/>
              </a:rPr>
              <a:t>Roles in a bully sit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260680" y="1492200"/>
            <a:ext cx="69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b</a:t>
            </a:r>
            <a:r>
              <a:rPr b="0" lang="hu-HU" sz="1800" spc="-1" strike="noStrike">
                <a:solidFill>
                  <a:srgbClr val="000000"/>
                </a:solidFill>
                <a:latin typeface="Arial Black"/>
              </a:rPr>
              <a:t>u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072760" y="2924280"/>
            <a:ext cx="8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 Black"/>
              </a:rPr>
              <a:t>vict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63160" y="220500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b</a:t>
            </a:r>
            <a:r>
              <a:rPr b="0" lang="hu-HU" sz="1800" spc="-1" strike="noStrike">
                <a:solidFill>
                  <a:srgbClr val="000000"/>
                </a:solidFill>
                <a:latin typeface="Arial Black"/>
              </a:rPr>
              <a:t>y-stan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211640" y="2924280"/>
            <a:ext cx="781200" cy="7617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140360" y="981000"/>
            <a:ext cx="1104840" cy="11048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1908000" y="2060640"/>
            <a:ext cx="781200" cy="7808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6443640" y="907920"/>
            <a:ext cx="3747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022880" y="549360"/>
            <a:ext cx="10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bull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383240" y="1484280"/>
            <a:ext cx="149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ggressi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383240" y="2205000"/>
            <a:ext cx="157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bully-victi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166160" y="292428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victi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44720" y="342900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RO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940360" y="1341360"/>
            <a:ext cx="432000" cy="897120"/>
          </a:xfrm>
          <a:prstGeom prst="rightArrowCallout">
            <a:avLst>
              <a:gd name="adj1" fmla="val 51921"/>
              <a:gd name="adj2" fmla="val 51917"/>
              <a:gd name="adj3" fmla="val 16667"/>
              <a:gd name="adj4" fmla="val 6666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940360" y="2781360"/>
            <a:ext cx="503280" cy="609480"/>
          </a:xfrm>
          <a:prstGeom prst="rightArrowCallout">
            <a:avLst>
              <a:gd name="adj1" fmla="val 30278"/>
              <a:gd name="adj2" fmla="val 30275"/>
              <a:gd name="adj3" fmla="val 16667"/>
              <a:gd name="adj4" fmla="val 66667"/>
            </a:avLst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732720" y="836280"/>
            <a:ext cx="360360" cy="10796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6804000" y="1700280"/>
            <a:ext cx="576360" cy="4334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804000" y="2349360"/>
            <a:ext cx="576360" cy="0"/>
          </a:xfrm>
          <a:prstGeom prst="line">
            <a:avLst/>
          </a:prstGeom>
          <a:ln w="12600">
            <a:solidFill>
              <a:srgbClr val="ff9900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804000" y="2565360"/>
            <a:ext cx="432000" cy="432000"/>
          </a:xfrm>
          <a:prstGeom prst="line">
            <a:avLst/>
          </a:prstGeom>
          <a:ln w="12600">
            <a:solidFill>
              <a:srgbClr val="008000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79440" y="3665520"/>
            <a:ext cx="139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sider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-looker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invol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982160" y="907920"/>
            <a:ext cx="122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istan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enforc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969640" y="4024440"/>
            <a:ext cx="14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ender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mpathiz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539640" y="1268280"/>
            <a:ext cx="1440000" cy="86544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68360" y="2637000"/>
            <a:ext cx="287280" cy="1079280"/>
          </a:xfrm>
          <a:prstGeom prst="line">
            <a:avLst/>
          </a:prstGeom>
          <a:ln w="507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116000" y="2637000"/>
            <a:ext cx="1871640" cy="1368360"/>
          </a:xfrm>
          <a:prstGeom prst="line">
            <a:avLst/>
          </a:prstGeom>
          <a:ln w="507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77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7" dur="77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9" dur="77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1" dur="77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77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9" dur="770" fill="hold"/>
                                        <p:tgtEl>
                                          <p:spTgt spid="11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1" dur="77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3" dur="77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3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3000"/>
                            </p:stCondLst>
                            <p:childTnLst>
                              <p:par>
                                <p:cTn id="2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6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2000"/>
                            </p:stCondLst>
                            <p:childTnLst>
                              <p:par>
                                <p:cTn id="27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7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2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2000"/>
                            </p:stCondLst>
                            <p:childTnLst>
                              <p:par>
                                <p:cTn id="31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7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2000"/>
                            </p:stCondLst>
                            <p:childTnLst>
                              <p:par>
                                <p:cTn id="32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77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2" dur="770" fill="hold"/>
                                        <p:tgtEl>
                                          <p:spTgt spid="13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4" dur="77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6" dur="77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2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826920" y="1420920"/>
            <a:ext cx="789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187280" y="2997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84" dur="indefinite" restart="never" nodeType="tmRoot">
          <p:childTnLst>
            <p:seq>
              <p:cTn id="1585" dur="indefinite" nodeType="mainSeq">
                <p:childTnLst>
                  <p:par>
                    <p:cTn id="1586" fill="hold">
                      <p:stCondLst>
                        <p:cond delay="indefinite"/>
                      </p:stCondLst>
                      <p:childTnLst>
                        <p:par>
                          <p:cTn id="1587" fill="hold">
                            <p:stCondLst>
                              <p:cond delay="0"/>
                            </p:stCondLst>
                            <p:childTnLst>
                              <p:par>
                                <p:cTn id="158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9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1" fill="hold">
                      <p:stCondLst>
                        <p:cond delay="indefinite"/>
                      </p:stCondLst>
                      <p:childTnLst>
                        <p:par>
                          <p:cTn id="1592" fill="hold">
                            <p:stCondLst>
                              <p:cond delay="0"/>
                            </p:stCondLst>
                            <p:childTnLst>
                              <p:par>
                                <p:cTn id="15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68000" y="1599840"/>
            <a:ext cx="8218440" cy="1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8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68360" y="112500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Franklin Gothic Demi"/>
              </a:rPr>
              <a:t>Az iskolai zaklatás kutatása</a:t>
            </a:r>
            <a:br>
              <a:rPr sz="3800"/>
            </a:br>
            <a:r>
              <a:rPr b="0" lang="en-US" sz="3800" spc="-1" strike="noStrike">
                <a:solidFill>
                  <a:srgbClr val="006633"/>
                </a:solidFill>
                <a:latin typeface="Franklin Gothic Demi"/>
              </a:rPr>
              <a:t>az Amerikai Egyesült Államokban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932360" y="3284280"/>
            <a:ext cx="338472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Britannic Bold"/>
              </a:rPr>
              <a:t>Kőszeghy Atti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 Black"/>
              </a:rPr>
              <a:t>KFRTK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278160" y="277560"/>
            <a:ext cx="1370160" cy="61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7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23640" y="764640"/>
            <a:ext cx="1523880" cy="4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197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828800" y="685800"/>
            <a:ext cx="762120" cy="485640"/>
          </a:xfrm>
          <a:prstGeom prst="rightArrow">
            <a:avLst>
              <a:gd name="adj1" fmla="val 50000"/>
              <a:gd name="adj2" fmla="val 39233"/>
            </a:avLst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607480" y="762120"/>
            <a:ext cx="61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Comic Sans MS"/>
              </a:rPr>
              <a:t>Daniel Olweus alapkutatásai az iskolai zaklatásokró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920" y="213372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8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447920" y="2057400"/>
            <a:ext cx="1218960" cy="485640"/>
          </a:xfrm>
          <a:prstGeom prst="rightArrow">
            <a:avLst>
              <a:gd name="adj1" fmla="val 50000"/>
              <a:gd name="adj2" fmla="val 62750"/>
            </a:avLst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559600" y="1981080"/>
            <a:ext cx="617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norvég kormány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elindít egy olyan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iskolai zaklatá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megelőző programot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, amelyben minden általános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és középiskola részt ves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83600" y="3429000"/>
            <a:ext cx="20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90-es év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590920" y="3429000"/>
            <a:ext cx="838080" cy="485640"/>
          </a:xfrm>
          <a:prstGeom prst="rightArrow">
            <a:avLst>
              <a:gd name="adj1" fmla="val 50000"/>
              <a:gd name="adj2" fmla="val 43143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560400" y="3352680"/>
            <a:ext cx="487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z iskolai zaklatás tárgykörében végzet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merikai (US) kutatások megindulá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320" y="5084640"/>
            <a:ext cx="20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00-es év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268360" y="515772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492360" y="5013360"/>
            <a:ext cx="4756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z iskolai zaklatás tárgykörében végzet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merikai (US) kutatások száma eg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nagyságrenddel megn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91520" y="13320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8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734920" y="1255680"/>
            <a:ext cx="537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árom norvég tizenéves öngyilkosságot követ el a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őket ért iskolai zaklatások miat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990720" y="1523880"/>
            <a:ext cx="16002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55160" y="441972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445480" y="4267080"/>
            <a:ext cx="639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merikai titkosszolgálati jelentés: 1974 és 2000 közötti iskola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övöldözők 71 %-a volt áldozata iskolai zaklatásn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838080" y="4572000"/>
            <a:ext cx="1600200" cy="763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96" dur="indefinite" restart="never" nodeType="tmRoot">
          <p:childTnLst>
            <p:seq>
              <p:cTn id="1597" dur="indefinite" nodeType="mainSeq">
                <p:childTnLst>
                  <p:par>
                    <p:cTn id="1598" fill="hold">
                      <p:stCondLst>
                        <p:cond delay="0"/>
                      </p:stCondLst>
                      <p:childTnLst>
                        <p:par>
                          <p:cTn id="1599" fill="hold">
                            <p:stCondLst>
                              <p:cond delay="0"/>
                            </p:stCondLst>
                            <p:childTnLst>
                              <p:par>
                                <p:cTn id="16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2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3" fill="hold">
                            <p:stCondLst>
                              <p:cond delay="500"/>
                            </p:stCondLst>
                            <p:childTnLst>
                              <p:par>
                                <p:cTn id="16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7" fill="hold">
                      <p:stCondLst>
                        <p:cond delay="indefinite"/>
                      </p:stCondLst>
                      <p:childTnLst>
                        <p:par>
                          <p:cTn id="1608" fill="hold">
                            <p:stCondLst>
                              <p:cond delay="0"/>
                            </p:stCondLst>
                            <p:childTnLst>
                              <p:par>
                                <p:cTn id="160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1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6" fill="hold">
                            <p:stCondLst>
                              <p:cond delay="2500"/>
                            </p:stCondLst>
                            <p:childTnLst>
                              <p:par>
                                <p:cTn id="16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9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0" fill="hold">
                            <p:stCondLst>
                              <p:cond delay="3000"/>
                            </p:stCondLst>
                            <p:childTnLst>
                              <p:par>
                                <p:cTn id="16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3" dur="5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4" fill="hold">
                            <p:stCondLst>
                              <p:cond delay="3500"/>
                            </p:stCondLst>
                            <p:childTnLst>
                              <p:par>
                                <p:cTn id="16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7" dur="500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8" fill="hold">
                            <p:stCondLst>
                              <p:cond delay="4000"/>
                            </p:stCondLst>
                            <p:childTnLst>
                              <p:par>
                                <p:cTn id="16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1" dur="500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2" fill="hold">
                      <p:stCondLst>
                        <p:cond delay="indefinite"/>
                      </p:stCondLst>
                      <p:childTnLst>
                        <p:par>
                          <p:cTn id="1633" fill="hold">
                            <p:stCondLst>
                              <p:cond delay="0"/>
                            </p:stCondLst>
                            <p:childTnLst>
                              <p:par>
                                <p:cTn id="163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3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1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4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5" fill="hold">
                      <p:stCondLst>
                        <p:cond delay="indefinite"/>
                      </p:stCondLst>
                      <p:childTnLst>
                        <p:par>
                          <p:cTn id="1646" fill="hold">
                            <p:stCondLst>
                              <p:cond delay="0"/>
                            </p:stCondLst>
                            <p:childTnLst>
                              <p:par>
                                <p:cTn id="16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9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0" fill="hold">
                      <p:stCondLst>
                        <p:cond delay="indefinite"/>
                      </p:stCondLst>
                      <p:childTnLst>
                        <p:par>
                          <p:cTn id="1651" fill="hold">
                            <p:stCondLst>
                              <p:cond delay="0"/>
                            </p:stCondLst>
                            <p:childTnLst>
                              <p:par>
                                <p:cTn id="165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5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9" fill="hold">
                            <p:stCondLst>
                              <p:cond delay="6000"/>
                            </p:stCondLst>
                            <p:childTnLst>
                              <p:par>
                                <p:cTn id="16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2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3" fill="hold">
                            <p:stCondLst>
                              <p:cond delay="6500"/>
                            </p:stCondLst>
                            <p:childTnLst>
                              <p:par>
                                <p:cTn id="16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6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7" fill="hold">
                      <p:stCondLst>
                        <p:cond delay="indefinite"/>
                      </p:stCondLst>
                      <p:childTnLst>
                        <p:par>
                          <p:cTn id="1668" fill="hold">
                            <p:stCondLst>
                              <p:cond delay="0"/>
                            </p:stCondLst>
                            <p:childTnLst>
                              <p:par>
                                <p:cTn id="166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7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5" fill="hold">
                      <p:stCondLst>
                        <p:cond delay="indefinite"/>
                      </p:stCondLst>
                      <p:childTnLst>
                        <p:par>
                          <p:cTn id="1676" fill="hold">
                            <p:stCondLst>
                              <p:cond delay="0"/>
                            </p:stCondLst>
                            <p:childTnLst>
                              <p:par>
                                <p:cTn id="16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0" fill="hold">
                      <p:stCondLst>
                        <p:cond delay="indefinite"/>
                      </p:stCondLst>
                      <p:childTnLst>
                        <p:par>
                          <p:cTn id="1681" fill="hold">
                            <p:stCondLst>
                              <p:cond delay="0"/>
                            </p:stCondLst>
                            <p:childTnLst>
                              <p:par>
                                <p:cTn id="168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8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8" fill="hold">
                      <p:stCondLst>
                        <p:cond delay="indefinite"/>
                      </p:stCondLst>
                      <p:childTnLst>
                        <p:par>
                          <p:cTn id="1689" fill="hold">
                            <p:stCondLst>
                              <p:cond delay="0"/>
                            </p:stCondLst>
                            <p:childTnLst>
                              <p:par>
                                <p:cTn id="1690" nodeType="clickEffect" fill="hold" presetClass="entr" presetID="3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9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6" fill="hold">
                      <p:stCondLst>
                        <p:cond delay="indefinite"/>
                      </p:stCondLst>
                      <p:childTnLst>
                        <p:par>
                          <p:cTn id="1697" fill="hold">
                            <p:stCondLst>
                              <p:cond delay="0"/>
                            </p:stCondLst>
                            <p:childTnLst>
                              <p:par>
                                <p:cTn id="16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1" fill="hold">
                            <p:stCondLst>
                              <p:cond delay="500"/>
                            </p:stCondLst>
                            <p:childTnLst>
                              <p:par>
                                <p:cTn id="170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0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95280" y="384120"/>
            <a:ext cx="874872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Az iskolai zaklatások elterjedtsége az USA-ban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4360" y="1267920"/>
            <a:ext cx="76197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1992: 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J.H. Hoover, R. Oliver, R.J. Hazl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i="1" lang="hu-HU" sz="3000" spc="-1" strike="noStrike">
                <a:solidFill>
                  <a:srgbClr val="000000"/>
                </a:solidFill>
                <a:latin typeface="Arial"/>
              </a:rPr>
              <a:t>Iskolai zaklatás: tizenéves áldozatok a közép-nyugati államokban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hu-HU" sz="2100" spc="-1" strike="noStrike">
                <a:solidFill>
                  <a:srgbClr val="000000"/>
                </a:solidFill>
                <a:latin typeface="Times New Roman"/>
              </a:rPr>
              <a:t>School Psychology International.13, 5-16.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080" y="3505320"/>
            <a:ext cx="92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 A megkérdezett tizenéves diákok (ált. iskolai felsős- és középiskolai osztályokbó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88680" y="4267080"/>
            <a:ext cx="602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88%-a látott már zaklatást iskolai pályafutása sorá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85800" y="5105520"/>
            <a:ext cx="744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77%-a nyilatkozott úgy, hogy áldozata volt már ilyen zaklatásna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08" dur="indefinite" restart="never" nodeType="tmRoot">
          <p:childTnLst>
            <p:seq>
              <p:cTn id="1709" dur="indefinite" nodeType="mainSeq">
                <p:childTnLst>
                  <p:par>
                    <p:cTn id="1710" fill="hold">
                      <p:stCondLst>
                        <p:cond delay="indefinite"/>
                      </p:stCondLst>
                      <p:childTnLst>
                        <p:par>
                          <p:cTn id="1711" fill="hold">
                            <p:stCondLst>
                              <p:cond delay="0"/>
                            </p:stCondLst>
                            <p:childTnLst>
                              <p:par>
                                <p:cTn id="17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4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5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6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7" fill="hold">
                      <p:stCondLst>
                        <p:cond delay="indefinite"/>
                      </p:stCondLst>
                      <p:childTnLst>
                        <p:par>
                          <p:cTn id="1718" fill="hold">
                            <p:stCondLst>
                              <p:cond delay="0"/>
                            </p:stCondLst>
                            <p:childTnLst>
                              <p:par>
                                <p:cTn id="17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1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2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3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4" fill="hold">
                      <p:stCondLst>
                        <p:cond delay="indefinite"/>
                      </p:stCondLst>
                      <p:childTnLst>
                        <p:par>
                          <p:cTn id="1725" fill="hold">
                            <p:stCondLst>
                              <p:cond delay="0"/>
                            </p:stCondLst>
                            <p:childTnLst>
                              <p:par>
                                <p:cTn id="17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8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9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0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806616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Az iskolai zaklatások elterjedtsége az USA-ban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39280" y="1268280"/>
            <a:ext cx="820908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1994: G.M. Batsche és H.M. Knof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i="1" lang="hu-HU" sz="3000" spc="-1" strike="noStrike">
                <a:solidFill>
                  <a:srgbClr val="000000"/>
                </a:solidFill>
                <a:latin typeface="Arial"/>
              </a:rPr>
              <a:t>Zaklatók és áldozataik: egy kiterjedt iskolai probléma megértéséhez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hu-HU" sz="1900" spc="-1" strike="noStrike">
                <a:solidFill>
                  <a:srgbClr val="000000"/>
                </a:solidFill>
                <a:latin typeface="Arial"/>
              </a:rPr>
              <a:t>School Psychology Review, 23, 165-175.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829800" y="3357720"/>
            <a:ext cx="685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 Az iskolai zaklatás az erőszak kiterjedt fajtája az iskolákba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758520" y="3933720"/>
            <a:ext cx="70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 A kutatásnak fel kell tárnia a kapcsolatot az iskolai zaklatás 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405800" y="4508640"/>
            <a:ext cx="273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az iskola atmoszférá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332720" y="5157720"/>
            <a:ext cx="481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a diákok tanulmányi teljesítménye közöt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31" dur="indefinite" restart="never" nodeType="tmRoot">
          <p:childTnLst>
            <p:seq>
              <p:cTn id="1732" dur="indefinite" nodeType="mainSeq">
                <p:childTnLst>
                  <p:par>
                    <p:cTn id="1733" fill="hold">
                      <p:stCondLst>
                        <p:cond delay="indefinite"/>
                      </p:stCondLst>
                      <p:childTnLst>
                        <p:par>
                          <p:cTn id="1734" fill="hold">
                            <p:stCondLst>
                              <p:cond delay="0"/>
                            </p:stCondLst>
                            <p:childTnLst>
                              <p:par>
                                <p:cTn id="17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7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8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9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0" fill="hold">
                      <p:stCondLst>
                        <p:cond delay="indefinite"/>
                      </p:stCondLst>
                      <p:childTnLst>
                        <p:par>
                          <p:cTn id="1741" fill="hold">
                            <p:stCondLst>
                              <p:cond delay="0"/>
                            </p:stCondLst>
                            <p:childTnLst>
                              <p:par>
                                <p:cTn id="17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4" dur="10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5" dur="10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6" dur="10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7" fill="hold">
                      <p:stCondLst>
                        <p:cond delay="indefinite"/>
                      </p:stCondLst>
                      <p:childTnLst>
                        <p:par>
                          <p:cTn id="1748" fill="hold">
                            <p:stCondLst>
                              <p:cond delay="0"/>
                            </p:stCondLst>
                            <p:childTnLst>
                              <p:par>
                                <p:cTn id="17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1" dur="10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2" dur="10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3" dur="10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4" fill="hold">
                      <p:stCondLst>
                        <p:cond delay="indefinite"/>
                      </p:stCondLst>
                      <p:childTnLst>
                        <p:par>
                          <p:cTn id="1755" fill="hold">
                            <p:stCondLst>
                              <p:cond delay="0"/>
                            </p:stCondLst>
                            <p:childTnLst>
                              <p:par>
                                <p:cTn id="17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8" dur="10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9" dur="10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0" dur="10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78487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Az iskolai zaklatások elterjedtsége az USA-ban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78920" y="1268280"/>
            <a:ext cx="86043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1997: S.P.Limber et a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i="1" lang="hu-HU" sz="3000" spc="-1" strike="noStrike">
                <a:solidFill>
                  <a:srgbClr val="000000"/>
                </a:solidFill>
                <a:latin typeface="Arial"/>
              </a:rPr>
              <a:t>Zaklatás az iskolások között: egy prevenciós program kutatását megelőző állapotok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hu-HU" sz="1900" spc="-1" strike="noStrike">
                <a:solidFill>
                  <a:srgbClr val="000000"/>
                </a:solidFill>
                <a:latin typeface="Arial"/>
              </a:rPr>
              <a:t>Fifth Annual International Family Violence Research Conference, 1997 June, Durham, NH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96720" y="4292640"/>
            <a:ext cx="844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gt;&gt;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a megkérdezett 4-6. osztályos tanulók  25%-a vett részt egy másik tanul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zaklatásában a megkérdezést megelőző három hónapba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61" dur="indefinite" restart="never" nodeType="tmRoot">
          <p:childTnLst>
            <p:seq>
              <p:cTn id="1762" dur="indefinite" nodeType="mainSeq">
                <p:childTnLst>
                  <p:par>
                    <p:cTn id="1763" fill="hold">
                      <p:stCondLst>
                        <p:cond delay="indefinite"/>
                      </p:stCondLst>
                      <p:childTnLst>
                        <p:par>
                          <p:cTn id="1764" fill="hold">
                            <p:stCondLst>
                              <p:cond delay="0"/>
                            </p:stCondLst>
                            <p:childTnLst>
                              <p:par>
                                <p:cTn id="17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7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8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9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663480" y="471600"/>
            <a:ext cx="22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Types of bully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357440" y="126828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cc"/>
                </a:solidFill>
                <a:latin typeface="Arial"/>
              </a:rPr>
              <a:t>Physical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557080" y="458136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cc9900"/>
                </a:solidFill>
                <a:latin typeface="Arial"/>
              </a:rPr>
              <a:t>Rel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511960" y="4292640"/>
            <a:ext cx="99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cc9900"/>
                </a:solidFill>
                <a:latin typeface="Arial"/>
              </a:rPr>
              <a:t>igno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080320" y="4869000"/>
            <a:ext cx="114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cc9900"/>
                </a:solidFill>
                <a:latin typeface="Arial"/>
              </a:rPr>
              <a:t>exclu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143600" y="5516640"/>
            <a:ext cx="114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cc9900"/>
                </a:solidFill>
                <a:latin typeface="Arial"/>
              </a:rPr>
              <a:t>gossi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443640" y="476280"/>
            <a:ext cx="15174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cc"/>
                </a:solidFill>
                <a:latin typeface="Arial"/>
              </a:rPr>
              <a:t>pus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cc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cc"/>
                </a:solidFill>
                <a:latin typeface="Arial"/>
              </a:rPr>
              <a:t>        </a:t>
            </a:r>
            <a:r>
              <a:rPr b="0" lang="hu-HU" sz="1800" spc="-1" strike="noStrike">
                <a:solidFill>
                  <a:srgbClr val="0000cc"/>
                </a:solidFill>
                <a:latin typeface="Arial"/>
              </a:rPr>
              <a:t>shov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cc"/>
                </a:solidFill>
                <a:latin typeface="Arial"/>
              </a:rPr>
              <a:t>          </a:t>
            </a:r>
            <a:r>
              <a:rPr b="0" lang="hu-HU" sz="1800" spc="-1" strike="noStrike">
                <a:solidFill>
                  <a:srgbClr val="0000cc"/>
                </a:solidFill>
                <a:latin typeface="Arial"/>
              </a:rPr>
              <a:t>ki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cc"/>
                </a:solidFill>
                <a:latin typeface="Arial"/>
              </a:rPr>
              <a:t>      </a:t>
            </a:r>
            <a:r>
              <a:rPr b="0" lang="hu-HU" sz="1800" spc="-1" strike="noStrike">
                <a:solidFill>
                  <a:srgbClr val="0000cc"/>
                </a:solidFill>
                <a:latin typeface="Arial"/>
              </a:rPr>
              <a:t>hit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069440" y="285264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6633"/>
                </a:solidFill>
                <a:latin typeface="Arial"/>
              </a:rPr>
              <a:t>Verbal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796000" y="2708280"/>
            <a:ext cx="2089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hu-HU" sz="1800" spc="-1" strike="noStrike">
                <a:solidFill>
                  <a:srgbClr val="006633"/>
                </a:solidFill>
                <a:latin typeface="Arial"/>
              </a:rPr>
              <a:t>  </a:t>
            </a:r>
            <a:r>
              <a:rPr b="0" lang="hu-HU" sz="1800" spc="-1" strike="noStrike">
                <a:solidFill>
                  <a:srgbClr val="006633"/>
                </a:solidFill>
                <a:latin typeface="Arial"/>
              </a:rPr>
              <a:t>threate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6633"/>
                </a:solidFill>
                <a:latin typeface="Arial"/>
              </a:rPr>
              <a:t>        </a:t>
            </a:r>
            <a:r>
              <a:rPr b="0" lang="hu-HU" sz="1800" spc="-1" strike="noStrike">
                <a:solidFill>
                  <a:srgbClr val="006633"/>
                </a:solidFill>
                <a:latin typeface="Arial"/>
              </a:rPr>
              <a:t>name-call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6633"/>
                </a:solidFill>
                <a:latin typeface="Arial"/>
              </a:rPr>
              <a:t>tea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59240" y="1700280"/>
            <a:ext cx="267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cc"/>
                </a:solidFill>
                <a:latin typeface="Arial"/>
              </a:rPr>
              <a:t>Direct (overt) aggr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41440" y="3429000"/>
            <a:ext cx="319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cc9900"/>
                </a:solidFill>
                <a:latin typeface="Arial"/>
              </a:rPr>
              <a:t>Indirect (covert) aggr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3492360" y="1628640"/>
            <a:ext cx="935280" cy="21600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 flipV="1">
            <a:off x="3492000" y="1915920"/>
            <a:ext cx="574920" cy="865080"/>
          </a:xfrm>
          <a:prstGeom prst="line">
            <a:avLst/>
          </a:prstGeom>
          <a:ln w="316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1476000" y="3860640"/>
            <a:ext cx="1150920" cy="720720"/>
          </a:xfrm>
          <a:prstGeom prst="line">
            <a:avLst/>
          </a:prstGeom>
          <a:ln w="31680">
            <a:solidFill>
              <a:srgbClr val="cc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77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8" dur="77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0" dur="77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2" dur="77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7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000"/>
                            </p:stCondLst>
                            <p:childTnLst>
                              <p:par>
                                <p:cTn id="38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8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2000"/>
                            </p:stCondLst>
                            <p:childTnLst>
                              <p:par>
                                <p:cTn id="39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9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3000"/>
                            </p:stCondLst>
                            <p:childTnLst>
                              <p:par>
                                <p:cTn id="39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4000"/>
                            </p:stCondLst>
                            <p:childTnLst>
                              <p:par>
                                <p:cTn id="40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0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2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1000"/>
                            </p:stCondLst>
                            <p:childTnLst>
                              <p:par>
                                <p:cTn id="42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2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2000"/>
                            </p:stCondLst>
                            <p:childTnLst>
                              <p:par>
                                <p:cTn id="43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3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4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4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2000"/>
                            </p:stCondLst>
                            <p:childTnLst>
                              <p:par>
                                <p:cTn id="45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5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3000"/>
                            </p:stCondLst>
                            <p:childTnLst>
                              <p:par>
                                <p:cTn id="46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6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1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500"/>
                            </p:stCondLst>
                            <p:childTnLst>
                              <p:par>
                                <p:cTn id="4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3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3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0728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Az iskolai zaklatások elterjedtsége az USA-ban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8" name=""/>
          <p:cNvSpPr/>
          <p:nvPr/>
        </p:nvSpPr>
        <p:spPr>
          <a:xfrm>
            <a:off x="290520" y="2855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19320" y="1197000"/>
            <a:ext cx="855648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2001: T.R.Nansel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i="1" lang="hu-HU" sz="3200" spc="-1" strike="noStrike">
                <a:solidFill>
                  <a:srgbClr val="000000"/>
                </a:solidFill>
                <a:latin typeface="Arial"/>
              </a:rPr>
              <a:t>Iskolai zaklatás és erőszak összefüggése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200" spc="-1" strike="noStrike">
                <a:solidFill>
                  <a:srgbClr val="000000"/>
                </a:solidFill>
                <a:latin typeface="Arial"/>
              </a:rPr>
              <a:t>az amerikai fiataloknál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Journal of American Medical Association, 285, 2094-2100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39040" y="3573360"/>
            <a:ext cx="8523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gt;&g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megkérdezett 15 686 tizenéves diák 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29,9%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-a nyilatkozott úgy, h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gyakran részese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ilyen cselekményeknek; 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13% zaklató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ként (bully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10,6% áldozat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ként(victim), míg 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6,3% mindkét szerepben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(bully-victim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70" dur="indefinite" restart="never" nodeType="tmRoot">
          <p:childTnLst>
            <p:seq>
              <p:cTn id="1771" dur="indefinite" nodeType="mainSeq">
                <p:childTnLst>
                  <p:par>
                    <p:cTn id="1772" fill="hold">
                      <p:stCondLst>
                        <p:cond delay="indefinite"/>
                      </p:stCondLst>
                      <p:childTnLst>
                        <p:par>
                          <p:cTn id="1773" fill="hold">
                            <p:stCondLst>
                              <p:cond delay="0"/>
                            </p:stCondLst>
                            <p:childTnLst>
                              <p:par>
                                <p:cTn id="17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6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7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8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9" fill="hold">
                      <p:stCondLst>
                        <p:cond delay="indefinite"/>
                      </p:stCondLst>
                      <p:childTnLst>
                        <p:par>
                          <p:cTn id="1780" fill="hold">
                            <p:stCondLst>
                              <p:cond delay="0"/>
                            </p:stCondLst>
                            <p:childTnLst>
                              <p:par>
                                <p:cTn id="17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3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4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5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07552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Az amerikai kutatások főbb irányai és felismerései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1280" y="1341360"/>
            <a:ext cx="2458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 Definíció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829440" y="2127240"/>
            <a:ext cx="15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zaklat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275840" y="2786040"/>
            <a:ext cx="684828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&gt;&gt;&gt;</a:t>
            </a:r>
            <a:r>
              <a:rPr b="0" lang="hu-H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sszabb id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őszakon á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ismétlődően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folyik olyan valaki ell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aki nem tudja megvédeni magát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az adott szituációba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E. Roland, E. Munthe (eds.), </a:t>
            </a:r>
            <a:r>
              <a:rPr b="1" i="1" lang="hu-HU" sz="1600" spc="-1" strike="noStrike">
                <a:solidFill>
                  <a:srgbClr val="000000"/>
                </a:solidFill>
                <a:latin typeface="Arial"/>
              </a:rPr>
              <a:t>A zaklatásról: nemzetközi kit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i="1" lang="hu-HU" sz="1600" spc="-1" strike="noStrike">
                <a:solidFill>
                  <a:srgbClr val="000000"/>
                </a:solidFill>
                <a:latin typeface="Arial"/>
              </a:rPr>
              <a:t>kinté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ndon: David Fulton Publishers, 1989.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333800" y="4297320"/>
            <a:ext cx="739836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&gt;&gt;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z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gresszi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ó proaktív formája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, amelyben az elkövetőnek ninc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szüksége olyan előzményre, amellyel az áldozat „kiprovokálja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„kiérdemli”) azt, ami vele történik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K.A. Dodge, </a:t>
            </a:r>
            <a:r>
              <a:rPr b="1" i="1" lang="hu-HU" sz="1600" spc="-1" strike="noStrike">
                <a:solidFill>
                  <a:srgbClr val="000000"/>
                </a:solidFill>
                <a:latin typeface="Arial"/>
              </a:rPr>
              <a:t>A reaktív és proaktív agresszió szerkezete és funkció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in Pepler és Rubin (eds.) A gyermekkori agresszió kialakulása és kezelés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Hillsdale,NJ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Erlbau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199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86" dur="indefinite" restart="never" nodeType="tmRoot">
          <p:childTnLst>
            <p:seq>
              <p:cTn id="1787" dur="indefinite" nodeType="mainSeq">
                <p:childTnLst>
                  <p:par>
                    <p:cTn id="1788" fill="hold">
                      <p:stCondLst>
                        <p:cond delay="0"/>
                      </p:stCondLst>
                      <p:childTnLst>
                        <p:par>
                          <p:cTn id="1789" fill="hold">
                            <p:stCondLst>
                              <p:cond delay="0"/>
                            </p:stCondLst>
                            <p:childTnLst>
                              <p:par>
                                <p:cTn id="17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2" fill="hold">
                      <p:stCondLst>
                        <p:cond delay="indefinite"/>
                      </p:stCondLst>
                      <p:childTnLst>
                        <p:par>
                          <p:cTn id="1793" fill="hold">
                            <p:stCondLst>
                              <p:cond delay="0"/>
                            </p:stCondLst>
                            <p:childTnLst>
                              <p:par>
                                <p:cTn id="17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6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7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8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9" fill="hold">
                      <p:stCondLst>
                        <p:cond delay="indefinite"/>
                      </p:stCondLst>
                      <p:childTnLst>
                        <p:par>
                          <p:cTn id="1800" fill="hold">
                            <p:stCondLst>
                              <p:cond delay="0"/>
                            </p:stCondLst>
                            <p:childTnLst>
                              <p:par>
                                <p:cTn id="18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3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4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5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Az amerikai kutatások főbb irányai és felismerései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62800" cy="24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&gt;&gt;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lehet 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a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szi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ó közvetlen és\vagy közvetett fajtája; a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közvetlen agresszió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zaklató és áldozata közötti közvetlen fizikai (pl. ütés, rúgás, lökdösés, stb.) és\vagy verbális (pl. csúfolás, bosszantás,stb.) kontaktus; a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közvetett agresszió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magában foglal egy (vagy több) harmadik személyt, akin keresztül a zaklató pletyka, csúfnév, stb. terjesztésével követi el a zaklatá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hu-H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N.R. Crick, </a:t>
            </a:r>
            <a:r>
              <a:rPr b="1" i="1" lang="hu-HU" sz="1600" spc="-1" strike="noStrike">
                <a:solidFill>
                  <a:srgbClr val="000000"/>
                </a:solidFill>
                <a:latin typeface="Arial"/>
              </a:rPr>
              <a:t>Kapcsolati agresszió: a szándék felismerés, a depresszió, és a provokatív típus szerep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Development and Psychopathology,7,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99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5) 31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322.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Az amerikai kutatások főbb irányai és felismerései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95280" y="1599840"/>
            <a:ext cx="686448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zaklat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ó-áldozat kontinu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187280" y="2421000"/>
            <a:ext cx="795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jelensége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m a zaklató – áldozat statikus ellentét-párj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képezi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nem e két szélsőérték közötti haladvány mentén számos lehetsé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iáció feltételezhető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240560" y="3521160"/>
            <a:ext cx="7916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lentőse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 kell távolodni a korábbi felfogástó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mely szerint a diák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gy része rendszeresen áldozatává teszi diáktársait, mint „zaklató”, mí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ások, ennek kárvallottaiként „áldozatok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14360" y="4600440"/>
            <a:ext cx="7467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Vagyis megkülönböztethetünk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„zaklatót”(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bully), „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agresszív zaklatót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aggressive bully), „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zaklató-áldozatot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”(bully-victim), „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áldozatot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” (victi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és még számos egyéb verzió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06" dur="indefinite" restart="never" nodeType="tmRoot">
          <p:childTnLst>
            <p:seq>
              <p:cTn id="1807" dur="indefinite" nodeType="mainSeq">
                <p:childTnLst>
                  <p:par>
                    <p:cTn id="1808" fill="hold">
                      <p:stCondLst>
                        <p:cond delay="indefinite"/>
                      </p:stCondLst>
                      <p:childTnLst>
                        <p:par>
                          <p:cTn id="1809" fill="hold">
                            <p:stCondLst>
                              <p:cond delay="0"/>
                            </p:stCondLst>
                            <p:childTnLst>
                              <p:par>
                                <p:cTn id="18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2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3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4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5" fill="hold">
                      <p:stCondLst>
                        <p:cond delay="indefinite"/>
                      </p:stCondLst>
                      <p:childTnLst>
                        <p:par>
                          <p:cTn id="1816" fill="hold">
                            <p:stCondLst>
                              <p:cond delay="0"/>
                            </p:stCondLst>
                            <p:childTnLst>
                              <p:par>
                                <p:cTn id="18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9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0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1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2" fill="hold">
                      <p:stCondLst>
                        <p:cond delay="indefinite"/>
                      </p:stCondLst>
                      <p:childTnLst>
                        <p:par>
                          <p:cTn id="1823" fill="hold">
                            <p:stCondLst>
                              <p:cond delay="0"/>
                            </p:stCondLst>
                            <p:childTnLst>
                              <p:par>
                                <p:cTn id="18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6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7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8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07552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Az amerikai kutatások főbb irányai és felismerései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6193080" cy="5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zaklat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ás vizsgálatának módszere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339920" y="2637000"/>
            <a:ext cx="711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iákok közvetlen megkérdezésével (egy listából kell kiválaszta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zokat a viselkedésformákat, amelyek a zaklatót jellemzik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390320" y="3521160"/>
            <a:ext cx="686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diákok kapnak egy leírást a zaklatásról, ezután kell kitölteniü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kérdőív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68360" y="1844640"/>
            <a:ext cx="26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\ Önbeszámol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29" dur="indefinite" restart="never" nodeType="tmRoot">
          <p:childTnLst>
            <p:seq>
              <p:cTn id="1830" dur="indefinite" nodeType="mainSeq">
                <p:childTnLst>
                  <p:par>
                    <p:cTn id="1831" fill="hold">
                      <p:stCondLst>
                        <p:cond delay="indefinite"/>
                      </p:stCondLst>
                      <p:childTnLst>
                        <p:par>
                          <p:cTn id="1832" fill="hold">
                            <p:stCondLst>
                              <p:cond delay="0"/>
                            </p:stCondLst>
                            <p:childTnLst>
                              <p:par>
                                <p:cTn id="18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5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6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7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8" fill="hold">
                      <p:stCondLst>
                        <p:cond delay="indefinite"/>
                      </p:stCondLst>
                      <p:childTnLst>
                        <p:par>
                          <p:cTn id="1839" fill="hold">
                            <p:stCondLst>
                              <p:cond delay="0"/>
                            </p:stCondLst>
                            <p:childTnLst>
                              <p:par>
                                <p:cTn id="18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2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3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4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5" fill="hold">
                      <p:stCondLst>
                        <p:cond delay="indefinite"/>
                      </p:stCondLst>
                      <p:childTnLst>
                        <p:par>
                          <p:cTn id="1846" fill="hold">
                            <p:stCondLst>
                              <p:cond delay="0"/>
                            </p:stCondLst>
                            <p:childTnLst>
                              <p:par>
                                <p:cTn id="18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9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0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1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Az amerikai kutatások főbb irányai és felismerései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68000" y="1700280"/>
            <a:ext cx="62643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\ A tanár\diák-társ által meghatározott zaklat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755640" y="5229360"/>
            <a:ext cx="55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Személyiségjogi és etikai problémákat impliká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755640" y="2205000"/>
            <a:ext cx="7777080" cy="27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Valójában az ált. isk. alsó osztályaiban alkalmazható, ahol  a tanár szorosabb kapcsolatban van a diákokkal, a diákok nem cserélnek csoportot és tanárt, a megfigyelés lehetősége a tanár számára folyamatos,stb.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[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M.J. Boulton, </a:t>
            </a:r>
            <a:r>
              <a:rPr b="1" i="1" lang="hu-HU" sz="1800" spc="-1" strike="noStrike">
                <a:solidFill>
                  <a:srgbClr val="000000"/>
                </a:solidFill>
                <a:latin typeface="Arial"/>
              </a:rPr>
              <a:t>Tanári nézetek a zaklatásról – a megbirkózás képessége: definíciók és attitűdö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British Journal of Educational Psychology,67,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9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7) 22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52" dur="indefinite" restart="never" nodeType="tmRoot">
          <p:childTnLst>
            <p:seq>
              <p:cTn id="1853" dur="indefinite" nodeType="mainSeq">
                <p:childTnLst>
                  <p:par>
                    <p:cTn id="1854" fill="hold">
                      <p:stCondLst>
                        <p:cond delay="indefinite"/>
                      </p:stCondLst>
                      <p:childTnLst>
                        <p:par>
                          <p:cTn id="1855" fill="hold">
                            <p:stCondLst>
                              <p:cond delay="0"/>
                            </p:stCondLst>
                            <p:childTnLst>
                              <p:par>
                                <p:cTn id="18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8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9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0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1" fill="hold">
                      <p:stCondLst>
                        <p:cond delay="indefinite"/>
                      </p:stCondLst>
                      <p:childTnLst>
                        <p:par>
                          <p:cTn id="1862" fill="hold">
                            <p:stCondLst>
                              <p:cond delay="0"/>
                            </p:stCondLst>
                            <p:childTnLst>
                              <p:par>
                                <p:cTn id="18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5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6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7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78920" y="259920"/>
            <a:ext cx="814716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Az amerikai kutatások főbb irányai és felismerései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68000" y="1125360"/>
            <a:ext cx="8218440" cy="7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\ A zaklató meghatározása megfigyelt viselkedés alapjá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97600" y="1628640"/>
            <a:ext cx="789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l. videóval játszótéren, osztályteremben (stb.) rögzített viselkedé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93720" y="2133720"/>
            <a:ext cx="820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#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Kanadai gyermekek iskolaudvari viselkedését 6 éven át követő vizsgálatokbó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kiderült pl. h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904320" y="2852640"/>
            <a:ext cx="434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85% vett részt zaklatásos jelenetekbe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902160" y="3213000"/>
            <a:ext cx="287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30% aktív résztvevőkén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903960" y="3573360"/>
            <a:ext cx="244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23% megfigyelőkén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03600" y="4005360"/>
            <a:ext cx="251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12% beavatkozókén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17760" y="4508640"/>
            <a:ext cx="612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megkérdezettek 74%-a elismerően vélekedett zaklatóról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3%-a együttérzett az áldozatt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95280" y="5157720"/>
            <a:ext cx="8424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W.M. Craig, D.J. Pepler. </a:t>
            </a:r>
            <a:r>
              <a:rPr b="1" i="1" lang="hu-HU" sz="1600" spc="-1" strike="noStrike">
                <a:solidFill>
                  <a:srgbClr val="000000"/>
                </a:solidFill>
                <a:latin typeface="Arial"/>
              </a:rPr>
              <a:t>Zaklatás és viktimizáció megfigyelése egy iskolaudvar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Canadian Journal of School Psychology, 13. (1997) 41-59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68" dur="indefinite" restart="never" nodeType="tmRoot">
          <p:childTnLst>
            <p:seq>
              <p:cTn id="1869" dur="indefinite" nodeType="mainSeq">
                <p:childTnLst>
                  <p:par>
                    <p:cTn id="1870" fill="hold">
                      <p:stCondLst>
                        <p:cond delay="indefinite"/>
                      </p:stCondLst>
                      <p:childTnLst>
                        <p:par>
                          <p:cTn id="1871" fill="hold">
                            <p:stCondLst>
                              <p:cond delay="0"/>
                            </p:stCondLst>
                            <p:childTnLst>
                              <p:par>
                                <p:cTn id="18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4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5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6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7" fill="hold">
                      <p:stCondLst>
                        <p:cond delay="indefinite"/>
                      </p:stCondLst>
                      <p:childTnLst>
                        <p:par>
                          <p:cTn id="1878" fill="hold">
                            <p:stCondLst>
                              <p:cond delay="0"/>
                            </p:stCondLst>
                            <p:childTnLst>
                              <p:par>
                                <p:cTn id="18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1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2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3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4" fill="hold">
                      <p:stCondLst>
                        <p:cond delay="indefinite"/>
                      </p:stCondLst>
                      <p:childTnLst>
                        <p:par>
                          <p:cTn id="1885" fill="hold">
                            <p:stCondLst>
                              <p:cond delay="0"/>
                            </p:stCondLst>
                            <p:childTnLst>
                              <p:par>
                                <p:cTn id="18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8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9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0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1" fill="hold">
                      <p:stCondLst>
                        <p:cond delay="indefinite"/>
                      </p:stCondLst>
                      <p:childTnLst>
                        <p:par>
                          <p:cTn id="1892" fill="hold">
                            <p:stCondLst>
                              <p:cond delay="0"/>
                            </p:stCondLst>
                            <p:childTnLst>
                              <p:par>
                                <p:cTn id="18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5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6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7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8" fill="hold">
                      <p:stCondLst>
                        <p:cond delay="indefinite"/>
                      </p:stCondLst>
                      <p:childTnLst>
                        <p:par>
                          <p:cTn id="1899" fill="hold">
                            <p:stCondLst>
                              <p:cond delay="0"/>
                            </p:stCondLst>
                            <p:childTnLst>
                              <p:par>
                                <p:cTn id="19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2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3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4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5" fill="hold">
                      <p:stCondLst>
                        <p:cond delay="indefinite"/>
                      </p:stCondLst>
                      <p:childTnLst>
                        <p:par>
                          <p:cTn id="1906" fill="hold">
                            <p:stCondLst>
                              <p:cond delay="0"/>
                            </p:stCondLst>
                            <p:childTnLst>
                              <p:par>
                                <p:cTn id="19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9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0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1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2" fill="hold">
                      <p:stCondLst>
                        <p:cond delay="indefinite"/>
                      </p:stCondLst>
                      <p:childTnLst>
                        <p:par>
                          <p:cTn id="1913" fill="hold">
                            <p:stCondLst>
                              <p:cond delay="0"/>
                            </p:stCondLst>
                            <p:childTnLst>
                              <p:par>
                                <p:cTn id="19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6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7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8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2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3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68000" y="277920"/>
            <a:ext cx="821844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Az amerikai kutatások főbb irányai és felismerései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78501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apcsolati agress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zi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84320" y="1773360"/>
            <a:ext cx="812412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hagyományosan a férfi nemet tekintik  az agresszívebb nemnek; az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iskolá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fiúk több agresszivitást mutatnak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a vizsgálatok szerin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J.D. Coie és K.A. Dodge. </a:t>
            </a:r>
            <a:r>
              <a:rPr b="1" i="1" lang="hu-HU" sz="1600" spc="-1" strike="noStrike">
                <a:solidFill>
                  <a:srgbClr val="000000"/>
                </a:solidFill>
                <a:latin typeface="Arial"/>
              </a:rPr>
              <a:t>„Agresszió és antiszociális magatartás”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, in N. Eisenber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600" spc="-1" strike="noStrike">
                <a:solidFill>
                  <a:srgbClr val="000000"/>
                </a:solidFill>
                <a:latin typeface="Arial"/>
              </a:rPr>
              <a:t>Handbook of Child Psychology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, Vol.3. New York: Wiley, 1998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77560" y="4221000"/>
            <a:ext cx="8861400" cy="14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kapcsolati agresszió olyan „viselkedési formákat jelent, amelyek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szándékos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törekednek egy gyermek barátságait tönkretenni, a közösségbe tartozás érzésé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lerombolni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N.R. Crick és J.K.Grotpeter.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 „</a:t>
            </a:r>
            <a:r>
              <a:rPr b="1" i="1" lang="hu-HU" sz="1600" spc="-1" strike="noStrike">
                <a:solidFill>
                  <a:srgbClr val="000000"/>
                </a:solidFill>
                <a:latin typeface="Arial"/>
              </a:rPr>
              <a:t>Kapcsolati agresszió és a nemek: szociálpszichológia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600" spc="-1" strike="noStrike">
                <a:solidFill>
                  <a:srgbClr val="000000"/>
                </a:solidFill>
                <a:latin typeface="Arial"/>
              </a:rPr>
              <a:t>pontosítás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.”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Child Development, 66. (1995) 71ö-722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60280" y="3068640"/>
            <a:ext cx="85474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z indirekt/kapcsolati agresszió olyan „társadalmi manipuláció, amely célpontjá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áttételes módon támadja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K. Oesterman et al.</a:t>
            </a:r>
            <a:r>
              <a:rPr b="0" i="1" lang="hu-H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hu-HU" sz="1600" spc="-1" strike="noStrike">
                <a:solidFill>
                  <a:srgbClr val="000000"/>
                </a:solidFill>
                <a:latin typeface="Arial"/>
              </a:rPr>
              <a:t>„A női indirekt agresszió kultúraközi bizonyítékai”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ggressive Behavior, 24 (1998) 1-8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25" dur="indefinite" restart="never" nodeType="tmRoot">
          <p:childTnLst>
            <p:seq>
              <p:cTn id="1926" dur="indefinite" nodeType="mainSeq">
                <p:childTnLst>
                  <p:par>
                    <p:cTn id="1927" fill="hold">
                      <p:stCondLst>
                        <p:cond delay="indefinite"/>
                      </p:stCondLst>
                      <p:childTnLst>
                        <p:par>
                          <p:cTn id="1928" fill="hold">
                            <p:stCondLst>
                              <p:cond delay="0"/>
                            </p:stCondLst>
                            <p:childTnLst>
                              <p:par>
                                <p:cTn id="192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3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5" fill="hold">
                      <p:stCondLst>
                        <p:cond delay="indefinite"/>
                      </p:stCondLst>
                      <p:childTnLst>
                        <p:par>
                          <p:cTn id="1936" fill="hold">
                            <p:stCondLst>
                              <p:cond delay="0"/>
                            </p:stCondLst>
                            <p:childTnLst>
                              <p:par>
                                <p:cTn id="193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3" fill="hold">
                      <p:stCondLst>
                        <p:cond delay="indefinite"/>
                      </p:stCondLst>
                      <p:childTnLst>
                        <p:par>
                          <p:cTn id="1944" fill="hold">
                            <p:stCondLst>
                              <p:cond delay="0"/>
                            </p:stCondLst>
                            <p:childTnLst>
                              <p:par>
                                <p:cTn id="194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3445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Az amerikai kutatások főbb irányai és felismerései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39280" y="1125000"/>
            <a:ext cx="821844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91 3-6. osztályos tanulót vizsgáltak egy 19 tételből álló kérdősorral, a tanulók ítéletei alapján négy csoportot állítottak fel, amelyekre jellemző a(z)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5120" y="24400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127960" y="2781360"/>
            <a:ext cx="24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Kapcsolati agresszi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3440" y="278136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Nyílt agresszi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934880" y="278136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Mindkett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735960" y="2781360"/>
            <a:ext cx="208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* Agresszíó hiány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6807600" y="3789360"/>
            <a:ext cx="199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incs szignifiká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ülönbsé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97800" y="4005360"/>
            <a:ext cx="170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iúk 15,6%-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lányok 4%-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775240" y="4005360"/>
            <a:ext cx="194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iúk 2%-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lányok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7,4%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90600" y="5489640"/>
            <a:ext cx="8215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N.R. Crick és J.K.Grotpeter.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 „</a:t>
            </a:r>
            <a:r>
              <a:rPr b="1" i="1" lang="hu-HU" sz="1600" spc="-1" strike="noStrike">
                <a:solidFill>
                  <a:srgbClr val="000000"/>
                </a:solidFill>
                <a:latin typeface="Arial"/>
              </a:rPr>
              <a:t>Kapcsolati agresszió és a nemek: szociálpszichológia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600" spc="-1" strike="noStrike">
                <a:solidFill>
                  <a:srgbClr val="000000"/>
                </a:solidFill>
                <a:latin typeface="Arial"/>
              </a:rPr>
              <a:t>pontosítás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.”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Child Development, 66. (1995) 71ö-722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H="1">
            <a:off x="7308720" y="3141720"/>
            <a:ext cx="216000" cy="647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826920" y="3213000"/>
            <a:ext cx="432000" cy="863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419640" y="3213000"/>
            <a:ext cx="0" cy="7923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51" dur="indefinite" restart="never" nodeType="tmRoot">
          <p:childTnLst>
            <p:seq>
              <p:cTn id="1952" dur="indefinite" nodeType="mainSeq">
                <p:childTnLst>
                  <p:par>
                    <p:cTn id="1953" fill="hold">
                      <p:stCondLst>
                        <p:cond delay="indefinite"/>
                      </p:stCondLst>
                      <p:childTnLst>
                        <p:par>
                          <p:cTn id="1954" fill="hold">
                            <p:stCondLst>
                              <p:cond delay="0"/>
                            </p:stCondLst>
                            <p:childTnLst>
                              <p:par>
                                <p:cTn id="19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7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8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9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3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4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5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6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9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0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1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2" fill="hold">
                            <p:stCondLst>
                              <p:cond delay="3000"/>
                            </p:stCondLst>
                            <p:childTnLst>
                              <p:par>
                                <p:cTn id="197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6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7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8" fill="hold">
                      <p:stCondLst>
                        <p:cond delay="indefinite"/>
                      </p:stCondLst>
                      <p:childTnLst>
                        <p:par>
                          <p:cTn id="1979" fill="hold">
                            <p:stCondLst>
                              <p:cond delay="0"/>
                            </p:stCondLst>
                            <p:childTnLst>
                              <p:par>
                                <p:cTn id="19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2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3" fill="hold">
                            <p:stCondLst>
                              <p:cond delay="500"/>
                            </p:stCondLst>
                            <p:childTnLst>
                              <p:par>
                                <p:cTn id="198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6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7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8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9" fill="hold">
                      <p:stCondLst>
                        <p:cond delay="indefinite"/>
                      </p:stCondLst>
                      <p:childTnLst>
                        <p:par>
                          <p:cTn id="1990" fill="hold">
                            <p:stCondLst>
                              <p:cond delay="0"/>
                            </p:stCondLst>
                            <p:childTnLst>
                              <p:par>
                                <p:cTn id="19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3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9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7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8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9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0" fill="hold">
                      <p:stCondLst>
                        <p:cond delay="indefinite"/>
                      </p:stCondLst>
                      <p:childTnLst>
                        <p:par>
                          <p:cTn id="2001" fill="hold">
                            <p:stCondLst>
                              <p:cond delay="0"/>
                            </p:stCondLst>
                            <p:childTnLst>
                              <p:par>
                                <p:cTn id="20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4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5" fill="hold">
                            <p:stCondLst>
                              <p:cond delay="500"/>
                            </p:stCondLst>
                            <p:childTnLst>
                              <p:par>
                                <p:cTn id="200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8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9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0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1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4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5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6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9152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Az amerikai kutatások főbb irányai és felismerései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06752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jövőbeli kutatások (lehetséges) iránya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39640" y="2349360"/>
            <a:ext cx="54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kutatás módszertanának sokoldalúvá téte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47560" y="4508640"/>
            <a:ext cx="801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gyermekek viselkedését befolyásoló rendszerek (család, korcsoport, iskol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zsgálatának továbbfejleszté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19200" y="3645000"/>
            <a:ext cx="644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fejlődéslélektani különbségek fokozottabb figyelembevétel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50920" y="32130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17400" y="2997360"/>
            <a:ext cx="457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jelenség fogalmainak további pontosítá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17" dur="indefinite" restart="never" nodeType="tmRoot">
          <p:childTnLst>
            <p:seq>
              <p:cTn id="2018" dur="indefinite" nodeType="mainSeq">
                <p:childTnLst>
                  <p:par>
                    <p:cTn id="2019" fill="hold">
                      <p:stCondLst>
                        <p:cond delay="indefinite"/>
                      </p:stCondLst>
                      <p:childTnLst>
                        <p:par>
                          <p:cTn id="2020" fill="hold">
                            <p:stCondLst>
                              <p:cond delay="0"/>
                            </p:stCondLst>
                            <p:childTnLst>
                              <p:par>
                                <p:cTn id="20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3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4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5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6" fill="hold">
                      <p:stCondLst>
                        <p:cond delay="indefinite"/>
                      </p:stCondLst>
                      <p:childTnLst>
                        <p:par>
                          <p:cTn id="2027" fill="hold">
                            <p:stCondLst>
                              <p:cond delay="0"/>
                            </p:stCondLst>
                            <p:childTnLst>
                              <p:par>
                                <p:cTn id="20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0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1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2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3" fill="hold">
                      <p:stCondLst>
                        <p:cond delay="indefinite"/>
                      </p:stCondLst>
                      <p:childTnLst>
                        <p:par>
                          <p:cTn id="2034" fill="hold">
                            <p:stCondLst>
                              <p:cond delay="0"/>
                            </p:stCondLst>
                            <p:childTnLst>
                              <p:par>
                                <p:cTn id="20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7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8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9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0" fill="hold">
                      <p:stCondLst>
                        <p:cond delay="indefinite"/>
                      </p:stCondLst>
                      <p:childTnLst>
                        <p:par>
                          <p:cTn id="2041" fill="hold">
                            <p:stCondLst>
                              <p:cond delay="0"/>
                            </p:stCondLst>
                            <p:childTnLst>
                              <p:par>
                                <p:cTn id="20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4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515880" y="398520"/>
            <a:ext cx="450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How did research on bullying star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4320" y="1268280"/>
            <a:ext cx="627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e0363"/>
                </a:solidFill>
                <a:latin typeface="Arial"/>
              </a:rPr>
              <a:t>Daniel Olweus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(Norway) coined the term ”mobbing” in </a:t>
            </a:r>
            <a:r>
              <a:rPr b="1" lang="hu-HU" sz="1800" spc="-1" strike="noStrike">
                <a:solidFill>
                  <a:srgbClr val="ff0000"/>
                </a:solidFill>
                <a:latin typeface="Arial"/>
              </a:rPr>
              <a:t>197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781440" y="2060640"/>
            <a:ext cx="448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n individual or a group of individual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harassing, teasing, pestering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their pe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966320" y="3521160"/>
            <a:ext cx="692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0000"/>
                </a:solidFill>
                <a:latin typeface="Arial"/>
              </a:rPr>
              <a:t>1982 three 14-year-old boys committed suicide for being extreme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0000"/>
                </a:solidFill>
                <a:latin typeface="Arial"/>
              </a:rPr>
              <a:t>harassed by classm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973800" y="4941720"/>
            <a:ext cx="729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Ministry of Education in Norway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launched a national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campa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against bullying in </a:t>
            </a:r>
            <a:r>
              <a:rPr b="1" lang="hu-HU" sz="1800" spc="-1" strike="noStrike">
                <a:solidFill>
                  <a:srgbClr val="ff0000"/>
                </a:solidFill>
                <a:latin typeface="Arial"/>
              </a:rPr>
              <a:t>198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763640" y="1844640"/>
            <a:ext cx="1871640" cy="360360"/>
          </a:xfrm>
          <a:prstGeom prst="line">
            <a:avLst/>
          </a:prstGeom>
          <a:ln w="63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77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9" dur="77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01" dur="77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03" dur="77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9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0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1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6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1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2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3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77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9" dur="77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31" dur="77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33" dur="77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77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8" dur="77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40" dur="77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42" dur="77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8" dur="8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9" dur="8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0" dur="8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76000" y="1341360"/>
            <a:ext cx="55450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Forte"/>
              </a:rPr>
              <a:t>Köszönöm a figyelmet!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564000" y="3213000"/>
            <a:ext cx="541008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Kőszeghy Attil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(attilakoszegh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@gmail.com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268000" y="259920"/>
            <a:ext cx="431964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39280" y="549000"/>
            <a:ext cx="7993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Bosworth et al. „</a:t>
            </a:r>
            <a:r>
              <a:rPr b="1" i="1" lang="hu-HU" sz="1600" spc="-1" strike="noStrike">
                <a:solidFill>
                  <a:srgbClr val="000000"/>
                </a:solidFill>
                <a:latin typeface="Arial"/>
              </a:rPr>
              <a:t>Zaklatásos viselkedéssel kapcsolatos tényezők a felső tagozatos diákok esetében”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Journal of Early Adolescence, 19. (1999) 341-362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01760" y="1773360"/>
            <a:ext cx="82591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D. Olweus. </a:t>
            </a:r>
            <a:r>
              <a:rPr b="1" i="1" lang="hu-HU" sz="1800" spc="-1" strike="noStrike">
                <a:solidFill>
                  <a:srgbClr val="000000"/>
                </a:solidFill>
                <a:latin typeface="Arial"/>
              </a:rPr>
              <a:t>”Zaklatás az iskolában: hosszútávú következmények az áldoz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800" spc="-1" strike="noStrike">
                <a:solidFill>
                  <a:srgbClr val="000000"/>
                </a:solidFill>
                <a:latin typeface="Arial"/>
              </a:rPr>
              <a:t>Esetében – egy hatékony megelőző program az iskolák számára”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L. Huesmann (ed.), </a:t>
            </a:r>
            <a:r>
              <a:rPr b="0" i="1" lang="hu-HU" sz="1600" spc="-1" strike="noStrike">
                <a:solidFill>
                  <a:srgbClr val="000000"/>
                </a:solidFill>
                <a:latin typeface="Arial"/>
              </a:rPr>
              <a:t>Aggressive Behavior: Current Perspectives,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New York: Plenum, 199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76560" y="2997360"/>
            <a:ext cx="87652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Swartz et al. „</a:t>
            </a:r>
            <a:r>
              <a:rPr b="1" i="1" lang="hu-HU" sz="1800" spc="-1" strike="noStrike">
                <a:solidFill>
                  <a:srgbClr val="000000"/>
                </a:solidFill>
                <a:latin typeface="Arial"/>
              </a:rPr>
              <a:t>Az iskolai zaklatások agresszív áldozatainak korai szocializációja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Child Development 68. (1997) 665-675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470880" y="3860640"/>
            <a:ext cx="849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P.T. Slee. „</a:t>
            </a:r>
            <a:r>
              <a:rPr b="1" i="1" lang="hu-HU" sz="1800" spc="-1" strike="noStrike">
                <a:solidFill>
                  <a:srgbClr val="000000"/>
                </a:solidFill>
                <a:latin typeface="Arial"/>
              </a:rPr>
              <a:t>A kortárs viktimizáció és kapcsolata a depresszióval az ausztrália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800" spc="-1" strike="noStrike">
                <a:solidFill>
                  <a:srgbClr val="000000"/>
                </a:solidFill>
                <a:latin typeface="Arial"/>
              </a:rPr>
              <a:t>általános iskolások körében”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Personality and Individual Differences, 18. (1995) 57-62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54520" y="5229360"/>
            <a:ext cx="8507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Solberg és Olweus </a:t>
            </a:r>
            <a:r>
              <a:rPr b="1" i="1" lang="hu-HU" sz="1800" spc="-1" strike="noStrike">
                <a:solidFill>
                  <a:srgbClr val="000000"/>
                </a:solidFill>
                <a:latin typeface="Arial"/>
              </a:rPr>
              <a:t>Az iskolai zaklatás elterjedtségének vizsgálata az Olweus-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800" spc="-1" strike="noStrike">
                <a:solidFill>
                  <a:srgbClr val="000000"/>
                </a:solidFill>
                <a:latin typeface="Arial"/>
              </a:rPr>
              <a:t>féle Zaklató-áldozat kérdőív segítségéve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Aggressive Behavior, 26, (2003)239-268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47" dur="indefinite" restart="never" nodeType="tmRoot">
          <p:childTnLst>
            <p:seq>
              <p:cTn id="2048" dur="indefinite" nodeType="mainSeq">
                <p:childTnLst>
                  <p:par>
                    <p:cTn id="2049" fill="hold">
                      <p:stCondLst>
                        <p:cond delay="0"/>
                      </p:stCondLst>
                      <p:childTnLst>
                        <p:par>
                          <p:cTn id="2050" fill="hold">
                            <p:stCondLst>
                              <p:cond delay="0"/>
                            </p:stCondLst>
                            <p:childTnLst>
                              <p:par>
                                <p:cTn id="205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3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4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5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6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9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0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1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2" fill="hold">
                            <p:stCondLst>
                              <p:cond delay="2000"/>
                            </p:stCondLst>
                            <p:childTnLst>
                              <p:par>
                                <p:cTn id="206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5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6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7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8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1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2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3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1523520"/>
            <a:ext cx="7624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Az iskolai zaklatás kutatása Nagy-Britanniában és az Egyesült Államokban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Kőszeghy Atti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Szirmai Eri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KFRTKF Debrec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A zaklatás fogalm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az az erőszakos cselekedet, amelynek során az egyén </a:t>
            </a:r>
            <a:r>
              <a:rPr b="1" lang="hu-HU" sz="2600" spc="-1" strike="noStrike">
                <a:solidFill>
                  <a:srgbClr val="000000"/>
                </a:solidFill>
                <a:latin typeface="Arial"/>
              </a:rPr>
              <a:t>ismétlődően, hosszabb időn át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 tárgya egy másik személy vagy személyek </a:t>
            </a:r>
            <a:r>
              <a:rPr b="1" lang="hu-HU" sz="2600" spc="-1" strike="noStrike">
                <a:solidFill>
                  <a:srgbClr val="000000"/>
                </a:solidFill>
                <a:latin typeface="Arial"/>
              </a:rPr>
              <a:t>negatív cselekedet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einek, </a:t>
            </a:r>
            <a:r>
              <a:rPr b="1" lang="hu-HU" sz="2600" spc="-1" strike="noStrike">
                <a:solidFill>
                  <a:srgbClr val="000000"/>
                </a:solidFill>
                <a:latin typeface="Arial"/>
              </a:rPr>
              <a:t>szándékos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 testi vagy lelki </a:t>
            </a:r>
            <a:r>
              <a:rPr b="1" lang="hu-HU" sz="2600" spc="-1" strike="noStrike">
                <a:solidFill>
                  <a:srgbClr val="000000"/>
                </a:solidFill>
                <a:latin typeface="Arial"/>
              </a:rPr>
              <a:t>bántalmazás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ának fizikailag, szavakkal vagy más módon”.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Olweus: Peer harassment 2001:5-6)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 „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szisztematikus hatalmi abúzus”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Smith és Sharp: School bullying. Insights and perspectives. Routledge, 1994: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mindenütt megtalálható elem a </a:t>
            </a:r>
            <a:r>
              <a:rPr b="1" lang="hu-HU" sz="2600" spc="-1" strike="noStrike">
                <a:solidFill>
                  <a:srgbClr val="000000"/>
                </a:solidFill>
                <a:latin typeface="Arial"/>
              </a:rPr>
              <a:t>bántás szándéka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, az </a:t>
            </a:r>
            <a:r>
              <a:rPr b="1" lang="hu-HU" sz="2600" spc="-1" strike="noStrike">
                <a:solidFill>
                  <a:srgbClr val="000000"/>
                </a:solidFill>
                <a:latin typeface="Arial"/>
              </a:rPr>
              <a:t>ismétlődés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 és az interperszonális kapcsolatokat jellemző </a:t>
            </a:r>
            <a:r>
              <a:rPr b="1" lang="hu-HU" sz="2600" spc="-1" strike="noStrike">
                <a:solidFill>
                  <a:srgbClr val="000000"/>
                </a:solidFill>
                <a:latin typeface="Arial"/>
              </a:rPr>
              <a:t>egyenlőtlen hatalmi viszonyok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 a résztvevők közöt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I. Kezdeti kutatások Nagy-Britanniában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ő irányok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. 1 A jelenség vizsgál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zaklatás gyakorisága: eltérő kategóriák (gyakoriság, áttekintett időtartam)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zaklatások fajtái: leginkább direkt, fizikai zaklatás ábrázolódi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szereplők típusai: zaklató- áldozat-néző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33"/>
                </a:solidFill>
                <a:latin typeface="Garamond"/>
              </a:rPr>
              <a:t>Kezdeti kutatások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500" spc="-1" strike="noStrike">
                <a:solidFill>
                  <a:srgbClr val="000000"/>
                </a:solidFill>
                <a:latin typeface="Arial"/>
              </a:rPr>
              <a:t>Hatáselemzések: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negatív hatás az áldozat önértékelésére</a:t>
            </a:r>
            <a:r>
              <a:rPr b="0" lang="hu-HU" sz="35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Boulton, M. J., Smith, P. K.: Zaklató-áldozat problémák felsőtagozatosok körében.</a:t>
            </a: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 British Journal of Developmental Psychology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, 12, (1994), 315-329 p., 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 koncentrációra és a tanulásra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(Sharp, S., Smith, P.K.:</a:t>
            </a: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A zaklatás kezelése az iskolában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. London: Routledge (1994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stresszel kapcsolatos szimptómák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(fejfájás, rémálmok), iskolafóbia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(Sharp és Smith 199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33"/>
                </a:solidFill>
                <a:latin typeface="Garamond"/>
              </a:rPr>
              <a:t>Kezdeti kutatások - hatáselemzések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hosszú távon: alacsony önbecsülés, depresszió, öngyilkosság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(Slee, P.T.:Kortársi viktimizációs szorongás  szituációs és interperszonális összefüggései. </a:t>
            </a: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Child Psychiatry and Human Development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, 25, (1994) 97-107 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A zaklatótól való elmenekülés az áldozat részéről visszahúzódó deviáns szerepre szocializál: az ilyen fiúk felnőttkori kapcsolataikban is gyakran küzdenek szégyellősséggel, kapcsolatkialakítási problémákkal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(Gilmartin, B. G.: Férfiak súlyos szégyellős viselkedésének kortárs csoportbeli előzményei. </a:t>
            </a: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Journal of Personality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, 55/3, (1987) 467-488 p.198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4479840" y="3244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Kezdeti kutatások Nagy-Britanniába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 u="sng">
                <a:solidFill>
                  <a:srgbClr val="000000"/>
                </a:solidFill>
                <a:uFillTx/>
                <a:latin typeface="Arial"/>
              </a:rPr>
              <a:t>1.2. intervenciós lehetőségek, problémakezelés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intézkedések a tanulói / iskolai biztonság érdekébe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 u="sng">
                <a:solidFill>
                  <a:srgbClr val="000000"/>
                </a:solidFill>
                <a:uFillTx/>
                <a:latin typeface="Arial"/>
              </a:rPr>
              <a:t>1.2.1. állami intézkedések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törvényi szabályozás: 1999-től minden iskolának rendelkeznie kell zaklatásellenes politikával, melyet évente legalább egyszer a teljes iskolaközösség számára közzé kell tenni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problémakezelő csomagok kifejlesztése (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DfES Anti-Bullying Pack 199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a kidolgozott anyagok használatbavétele, értékelése (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DfES Anti-Bullying Pack 1997 Surve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33"/>
                </a:solidFill>
                <a:latin typeface="Garamond"/>
              </a:rPr>
              <a:t>Kezdeti kutatások – intervenciós törekvések</a:t>
            </a:r>
            <a:endParaRPr b="0" lang="en-US" sz="25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 u="sng">
                <a:solidFill>
                  <a:srgbClr val="000000"/>
                </a:solidFill>
                <a:uFillTx/>
                <a:latin typeface="Arial"/>
              </a:rPr>
              <a:t>1.2 szakmai és társadalmi szervezetek, szövetségek létrejötte és elterjedése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1.2.1 Anti-Bullying Association, Kidscape, Bullying Online, Childline: saját felmérések, kutatások és problémakezelő eljárások kifejlesztése, rendezvények: Anti-Bullying Week, ifjúsági konferenciák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1.2.2 rendőrségi tevékenysé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1.2.3 önkormányzati intézkedések: helyi konferencia, családsegítő programo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II. Későbbi kutatások</a:t>
            </a:r>
            <a:br>
              <a:rPr sz="3800"/>
            </a:b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 kutatások irányainak kiterjesztés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 u="sng">
                <a:solidFill>
                  <a:srgbClr val="000000"/>
                </a:solidFill>
                <a:uFillTx/>
                <a:latin typeface="Arial"/>
              </a:rPr>
              <a:t>1. a korábbi kategóriák kiegészítése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1.1 </a:t>
            </a:r>
            <a:r>
              <a:rPr b="0" lang="hu-HU" sz="3000" spc="-1" strike="noStrike" u="sng">
                <a:solidFill>
                  <a:srgbClr val="000000"/>
                </a:solidFill>
                <a:uFillTx/>
                <a:latin typeface="Arial"/>
              </a:rPr>
              <a:t>szereplők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: a </a:t>
            </a:r>
            <a:r>
              <a:rPr b="0" i="1" lang="hu-HU" sz="3000" spc="-1" strike="noStrike">
                <a:solidFill>
                  <a:srgbClr val="000000"/>
                </a:solidFill>
                <a:latin typeface="Arial"/>
              </a:rPr>
              <a:t>zaklató/áldozat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 (bully/victim) kategóriája </a:t>
            </a: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(a brit oktatási minisztérium (DfES 1997) adata: az áldozatok 20%-a zaklató áldozat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1.2 </a:t>
            </a:r>
            <a:r>
              <a:rPr b="0" lang="hu-HU" sz="3000" spc="-1" strike="noStrike" u="sng">
                <a:solidFill>
                  <a:srgbClr val="000000"/>
                </a:solidFill>
                <a:uFillTx/>
                <a:latin typeface="Arial"/>
              </a:rPr>
              <a:t>zaklatási típusok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hu-HU" sz="3000" spc="-1" strike="noStrike">
                <a:solidFill>
                  <a:srgbClr val="000000"/>
                </a:solidFill>
                <a:latin typeface="Arial"/>
              </a:rPr>
              <a:t>verbális és kapcsolati –társas zaklatás, homofób zaklatás, cyberbullying / elektronikus zaklatá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587520" y="542880"/>
            <a:ext cx="586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How did research on bullying start in the US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173960" y="1576440"/>
            <a:ext cx="740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research on school bullying in the USA ---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</a:t>
            </a:r>
            <a:r>
              <a:rPr b="1" lang="hu-HU" sz="1800" spc="-1" strike="noStrike">
                <a:solidFill>
                  <a:srgbClr val="ff0000"/>
                </a:solidFill>
                <a:latin typeface="Arial"/>
              </a:rPr>
              <a:t>ate 198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0s, early 1990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451160" y="2655720"/>
            <a:ext cx="703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999 &gt;&gt;&gt; school shooting at Columbine High School, Color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8680" y="3521160"/>
            <a:ext cx="706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 Secret Servi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port on school shooters (between 1974-2000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ister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e commonality among 41 school shoo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103120" y="4456080"/>
            <a:ext cx="587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71% had been a target of a bully earlier in their liv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948960" y="5176800"/>
            <a:ext cx="782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arly 2000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-- a proliferation of research in the field of school bully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77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8" dur="77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60" dur="77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62" dur="77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8" dur="8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9" dur="8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0" dur="8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77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6" dur="77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78" dur="77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80" dur="77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6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7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8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77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4" dur="77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96" dur="77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98" dur="77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4" dur="8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5" dur="8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6" dur="8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33"/>
                </a:solidFill>
                <a:latin typeface="Garamond"/>
              </a:rPr>
              <a:t>Későbbi kutatások: a kutatások irányainak kiterjesztése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 u="sng">
                <a:solidFill>
                  <a:srgbClr val="000000"/>
                </a:solidFill>
                <a:uFillTx/>
                <a:latin typeface="Arial"/>
              </a:rPr>
              <a:t>2. A zaklatások összefüggéseinek vizsgálata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 u="sng">
                <a:solidFill>
                  <a:srgbClr val="000000"/>
                </a:solidFill>
                <a:uFillTx/>
                <a:latin typeface="Arial"/>
              </a:rPr>
              <a:t>2.1 A zaklatás és az érzelmek</a:t>
            </a: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 kapcsolatában két nézet: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1. a zaklatás oka a szociális információfeldolgozás deficitje (pl. az áldozatokból hiányzik az asszertivitás szociális készsége, kevéssé tapasztaltak a szociális interakcióban) </a:t>
            </a: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Dodge, K.A.: Szociális kogníció és gyermekkori agresszív viselkedés. </a:t>
            </a:r>
            <a:r>
              <a:rPr b="0" i="1" lang="hu-HU" sz="1600" spc="-1" strike="noStrike">
                <a:solidFill>
                  <a:srgbClr val="000000"/>
                </a:solidFill>
                <a:latin typeface="Arial"/>
              </a:rPr>
              <a:t>Child Development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, 51, (1980) 162-170 p. 198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2. a bántalmazók gyakorlott manipulátorok, felismerik mások érzéseit, de nem hajlandóak / képtelenek együttérzésre </a:t>
            </a: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Sutton J., Smith. P.K. , Swettenham J.: Szociális kogníció és a zaklatás:szociális elégtelenség vagy gyakorlott manipulálás? </a:t>
            </a:r>
            <a:r>
              <a:rPr b="0" i="1" lang="hu-HU" sz="1600" spc="-1" strike="noStrike">
                <a:solidFill>
                  <a:srgbClr val="000000"/>
                </a:solidFill>
                <a:latin typeface="Arial"/>
              </a:rPr>
              <a:t>British Journal of Developmental Psychology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, 17, (1999) 435-450 p. </a:t>
            </a: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 1999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33"/>
                </a:solidFill>
                <a:latin typeface="Garamond"/>
              </a:rPr>
              <a:t>A zaklatások összefüggéseinek vizsgálata 2.</a:t>
            </a:r>
            <a:endParaRPr b="0" lang="en-US" sz="25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2.2 </a:t>
            </a:r>
            <a:r>
              <a:rPr b="0" lang="hu-HU" sz="2600" spc="-1" strike="noStrike" u="sng">
                <a:solidFill>
                  <a:srgbClr val="000000"/>
                </a:solidFill>
                <a:uFillTx/>
                <a:latin typeface="Arial"/>
              </a:rPr>
              <a:t>Életkor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és a zaklatás típusa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kisebb gyerekek inkább fizikai zaklatásban vesznek rész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idősebbek már verbális és kapcsolati zaklatásban mutatnak nagyobb arányokat (fejlettebb szociális készségek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és a zaklatás gyakorisága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viktimizáció az életkor előrehaladtával csökke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zaklatás gyakorisága nem változik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(Whitney, I., Smith, P.K.: A zaklatás természetének és elterjedtségének vizsgálata általános és középiskolában. Educational Research, 35, 3-25 p. (1993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nincs semmilyen változás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(Johnson, H. R., Thompson, M. J. J., Wilkonson, S., Walsh, L., Balding, J., Wright, V.: Zaklatásnak kitéve: Tanári jelentések általános iskolás gyerekek proszociális viselkedésében jelentkező érzelmi problémáiról, hiperaktivitásáról, kapcsolati nehézségeiről. </a:t>
            </a:r>
            <a:r>
              <a:rPr b="0" i="1" lang="hu-HU" sz="1600" spc="-1" strike="noStrike">
                <a:solidFill>
                  <a:srgbClr val="000000"/>
                </a:solidFill>
                <a:latin typeface="Arial"/>
              </a:rPr>
              <a:t>Educational Psychology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, 22, (2002), 553-556 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33"/>
                </a:solidFill>
                <a:latin typeface="Garamond"/>
              </a:rPr>
              <a:t>A zaklatások összefüggéseinek vizsgálata 3.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2.3 </a:t>
            </a:r>
            <a:r>
              <a:rPr b="1" lang="hu-HU" sz="2100" spc="-1" strike="noStrike" u="sng">
                <a:solidFill>
                  <a:srgbClr val="000000"/>
                </a:solidFill>
                <a:uFillTx/>
                <a:latin typeface="Arial"/>
              </a:rPr>
              <a:t>Nem</a:t>
            </a: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fiúk körében gyakoribb a fizikai bántalmazás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(Wolke, D., Stanford,K.: Iskolai zaklatás. D. Messer és S.Millar (szerk.) Fejlődéslélektan. London:Arnold. 1999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a lányokra inkább a verbális és kapcsolati bántalmazás jellemző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általában gyakoribb a nemen belüli bántalmazás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2.4 </a:t>
            </a:r>
            <a:r>
              <a:rPr b="1" lang="hu-HU" sz="2100" spc="-1" strike="noStrike" u="sng">
                <a:solidFill>
                  <a:srgbClr val="000000"/>
                </a:solidFill>
                <a:uFillTx/>
                <a:latin typeface="Arial"/>
              </a:rPr>
              <a:t>Szociális háttér</a:t>
            </a: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általában alacsony a korreláció a zaklató és társadalmi háttere között, ugyanakkor valószínűbb az alacsonyabb jövedelmű családi hátterű gyerekek zaklatása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(Woods, S., Wolke, D.: és Direkt és kapcsolati zaklatás általános iskolások között és a tanulmányi eredmény. </a:t>
            </a:r>
            <a:r>
              <a:rPr b="0" i="1" lang="hu-HU" sz="1600" spc="-1" strike="noStrike">
                <a:solidFill>
                  <a:srgbClr val="000000"/>
                </a:solidFill>
                <a:latin typeface="Arial"/>
              </a:rPr>
              <a:t>Journal of School Psychology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, Volume 42, Issue 2, March-April 2004, 135-155 p.:149)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ugyanakkor ok lehet a zaklatásra az is, ha egy gyerek drága holmit birtokol (márkás mobiltelefon, stb.)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(DfES Survey 1997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33"/>
                </a:solidFill>
                <a:latin typeface="Garamond"/>
              </a:rPr>
              <a:t>A zaklatások összefüggéseinek vizsgálata 4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2.5 </a:t>
            </a:r>
            <a:r>
              <a:rPr b="1" lang="hu-HU" sz="2800" spc="-1" strike="noStrike" u="sng">
                <a:solidFill>
                  <a:srgbClr val="000000"/>
                </a:solidFill>
                <a:uFillTx/>
                <a:latin typeface="Arial"/>
              </a:rPr>
              <a:t>Családi háttér, szülői magatartás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szülői figyelemhiány jelentősen hozzájárul zaklató viselkedés kialakulásához – fiúk és lányok között egyaránt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Flouri, E., Buchanan A.: Az anyai és apai figyelem szerepe a serdülőkorúak zaklató viselkedésében. 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Journal of Interpersonal Violence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18 (6): 634-644 Jun 200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eltúlzott anyai védelmező  magatartás gyakran fordul elő az áldozat családjában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(Hawker, D. S. J., Boulton, M. J.: A kortárs zaklatás és pszichoszociális beilleszkedési zavarok húsz évnyi kutatása. </a:t>
            </a: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Journal of Child Psychiatry and Psychiatry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, 41, 441-455 p. (200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500" spc="-1" strike="noStrike">
                <a:solidFill>
                  <a:srgbClr val="006633"/>
                </a:solidFill>
                <a:latin typeface="Garamond"/>
              </a:rPr>
              <a:t>A zaklatások összefüggéseinek vizsgálata </a:t>
            </a:r>
            <a:r>
              <a:rPr b="0" lang="en-US" sz="2500" spc="-1" strike="noStrike">
                <a:solidFill>
                  <a:srgbClr val="006633"/>
                </a:solidFill>
                <a:latin typeface="Garamond"/>
              </a:rPr>
              <a:t>5</a:t>
            </a:r>
            <a:endParaRPr b="0" lang="en-US" sz="25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2.6 </a:t>
            </a:r>
            <a:r>
              <a:rPr b="1" lang="hu-HU" sz="3200" spc="-1" strike="noStrike" u="sng">
                <a:solidFill>
                  <a:srgbClr val="000000"/>
                </a:solidFill>
                <a:uFillTx/>
                <a:latin typeface="Arial"/>
              </a:rPr>
              <a:t>Iskolai teljesítmény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: 2. osztályosoknál nem volt kimutatható kapcsolat a tanulmányi teljesítmény és a direkt zaklatás között. Negyedik osztályosoknál a kapcsolati zaklatók szignifikánsan jobban teljesítettek tanulmányi munkájukban „jó képességű gyerekek rendelkeznek olyan szociális készségekkel, melyekkel kapcsolatokat tudnak manipulálni”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(Woods és Wolke 2004:14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6633"/>
                </a:solidFill>
                <a:latin typeface="Garamond"/>
              </a:rPr>
              <a:t>A zaklatások összefüggéseinek vizsgálata </a:t>
            </a:r>
            <a:r>
              <a:rPr b="0" lang="en-US" sz="2100" spc="-1" strike="noStrike">
                <a:solidFill>
                  <a:srgbClr val="006633"/>
                </a:solidFill>
                <a:latin typeface="Garamond"/>
              </a:rPr>
              <a:t>6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 u="sng">
                <a:solidFill>
                  <a:srgbClr val="000000"/>
                </a:solidFill>
                <a:uFillTx/>
                <a:latin typeface="Arial"/>
              </a:rPr>
              <a:t>2.7 Iskolai környezet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: kis létszámú osztályokban és kisebb iskolákban gyakoribb a zaklatás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(Wolke, D., Woods, S., Bloomfield, L. and Karstadt, L.:általános iskolai zaklatás és gyakori egészségügyi problémák. </a:t>
            </a:r>
            <a:r>
              <a:rPr b="0" i="1" lang="hu-HU" sz="1600" spc="-1" strike="noStrike">
                <a:solidFill>
                  <a:srgbClr val="000000"/>
                </a:solidFill>
                <a:latin typeface="Arial"/>
              </a:rPr>
              <a:t>Archives of Disease in Childhood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85, (2001) 197-201 p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 u="sng">
                <a:solidFill>
                  <a:srgbClr val="000000"/>
                </a:solidFill>
                <a:uFillTx/>
                <a:latin typeface="Arial"/>
              </a:rPr>
              <a:t>2.8 Lakóhely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: vidéki iskolákban több a zaklatási eset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(Wolke et al. 200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 u="sng">
                <a:solidFill>
                  <a:srgbClr val="000000"/>
                </a:solidFill>
                <a:uFillTx/>
                <a:latin typeface="Arial"/>
              </a:rPr>
              <a:t>2.9 Másság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2.9.1 Rivers 2004-es retrospektív vizsgálatában szereplő 60 leszbikus, homoszexuális, biszexuális megkérdezett állította, hogy szexuális orientációja miatt bántalmazták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(Rivers, I.: Visszatekintés iskolai zaklatásra és hosszú távú hatásuk leszbikusok, homoszexuális férfiak és biszexuálisok életére. Crisis 25 (2004) 169-175 p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6633"/>
                </a:solidFill>
                <a:latin typeface="Garamond"/>
              </a:rPr>
              <a:t>A zaklatások összefüggéseinek vizsgálata </a:t>
            </a:r>
            <a:r>
              <a:rPr b="0" lang="en-US" sz="2100" spc="-1" strike="noStrike">
                <a:solidFill>
                  <a:srgbClr val="006633"/>
                </a:solidFill>
                <a:latin typeface="Garamond"/>
              </a:rPr>
              <a:t>7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2.9.2 Hugh-Jones és Smith (1999) vizsgálata </a:t>
            </a:r>
            <a:r>
              <a:rPr b="0" lang="hu-HU" sz="3000" spc="-1" strike="noStrike" u="sng">
                <a:solidFill>
                  <a:srgbClr val="000000"/>
                </a:solidFill>
                <a:uFillTx/>
                <a:latin typeface="Arial"/>
              </a:rPr>
              <a:t>dadogók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on: 276 résztvevő retrospektív vizsgálata: gyakori bántalmazás, kapcsolati nehézségek a dadogás miatt iskoláskorban; rövid- és hosszútávú negatív hatások a tanulmányi előmenetelre, de elsődlegesen a személyes kapcsolatok, az önbecsülés és a depresszió területein.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Hugh-Jones, S. &amp; Smith, P.K.: Dadogó gyerekek önbeszámolói a zaklatás rövid- és hosszútávú hatásairól. 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British Journal of Educational Psychology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, 69, (1999) 141-158 p.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3. A zaklatás rövidebb és hosszabb távú hatásainak vizsgálata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 u="sng">
                <a:solidFill>
                  <a:srgbClr val="000000"/>
                </a:solidFill>
                <a:uFillTx/>
                <a:latin typeface="Arial"/>
              </a:rPr>
              <a:t>A munkahelyi és az iskolai zaklatás kapcsol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A munkahelyi zaklatás legnagyobb kockázatának az iskolai zaklató-áldozatok vannak kitéve, őket követik az áldozati szerepűek. </a:t>
            </a: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Smith, P.K., Singer M., Hoel H., Cooper C.l.. Viktimizáció az iskolában és a munkahelyen: Van kapcsolat? </a:t>
            </a:r>
            <a:r>
              <a:rPr b="0" i="1" lang="hu-HU" sz="1600" spc="-1" strike="noStrike">
                <a:solidFill>
                  <a:srgbClr val="000000"/>
                </a:solidFill>
                <a:latin typeface="Arial"/>
              </a:rPr>
              <a:t>British Journal of Psychology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94</a:t>
            </a:r>
            <a:r>
              <a:rPr b="0" i="1" lang="hu-HU" sz="1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2003) 175-188 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4. Kutatási módszerek fejlesztése, finomítása, kiterjesztése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4.1 </a:t>
            </a:r>
            <a:r>
              <a:rPr b="0" lang="hu-HU" sz="3000" spc="-1" strike="noStrike" u="sng">
                <a:solidFill>
                  <a:srgbClr val="000000"/>
                </a:solidFill>
                <a:uFillTx/>
                <a:latin typeface="Arial"/>
              </a:rPr>
              <a:t>A kérdőívek pontosítása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4.1.1 </a:t>
            </a:r>
            <a:r>
              <a:rPr b="0" lang="hu-HU" sz="3000" spc="-1" strike="noStrike" u="sng">
                <a:solidFill>
                  <a:srgbClr val="000000"/>
                </a:solidFill>
                <a:uFillTx/>
                <a:latin typeface="Arial"/>
              </a:rPr>
              <a:t>a fogalom értelmezésének kutatása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tanárok: átfogóbb értelmezé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gyerekek: inkább csak a fizikai és verbális bántalmazást értik alatta, a fogalom értelmezésébe alig veszik be a kiközösítést, a hatalmi egyenlőtlenséget, valamint a bántás szándékát sem.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Naylor, P., Cowie, H., Cossin, F., De Bettencourt, R., Lemme, F.: Tanárok és diákok zaklatás-meghatározásai. 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British Journal of Educational Psychology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; Sep 2006, Vol 76 Issue 3, 553-576 p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33"/>
                </a:solidFill>
                <a:latin typeface="Garamond"/>
              </a:rPr>
              <a:t>Kutatási módszerek fejlesztése, finomítása, kiterjesztése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400" spc="-1" strike="noStrike">
                <a:solidFill>
                  <a:srgbClr val="000000"/>
                </a:solidFill>
                <a:latin typeface="Arial"/>
              </a:rPr>
              <a:t>4. 1. 2 </a:t>
            </a:r>
            <a:r>
              <a:rPr b="0" lang="hu-HU" sz="3400" spc="-1" strike="noStrike" u="sng">
                <a:solidFill>
                  <a:srgbClr val="000000"/>
                </a:solidFill>
                <a:uFillTx/>
                <a:latin typeface="Arial"/>
              </a:rPr>
              <a:t>kérdőív –fejlesztési ajánlások</a:t>
            </a:r>
            <a:r>
              <a:rPr b="0" lang="hu-HU" sz="3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hu-HU" sz="3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400" spc="-1" strike="noStrike">
                <a:solidFill>
                  <a:srgbClr val="000000"/>
                </a:solidFill>
                <a:latin typeface="Arial"/>
              </a:rPr>
              <a:t>fogalmi tisztázás, példák megadása, a gyakorisági kategóriák egységesítése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(Ortega, R.; Mora-Merchán, J.A.; Singer, M.; Smith, P.K.; Pereira, B.&amp; Menesini, E.: A zaklatást vizsgáló kérdőívek és nominációs módszer munkacsoport zárójelentése. Seville meeting: TMR Network Project (200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400" spc="-1" strike="noStrike">
                <a:solidFill>
                  <a:srgbClr val="000000"/>
                </a:solidFill>
                <a:latin typeface="Arial"/>
              </a:rPr>
              <a:t>4.2 </a:t>
            </a:r>
            <a:r>
              <a:rPr b="0" lang="hu-HU" sz="3400" spc="-1" strike="noStrike" u="sng">
                <a:solidFill>
                  <a:srgbClr val="000000"/>
                </a:solidFill>
                <a:uFillTx/>
                <a:latin typeface="Arial"/>
              </a:rPr>
              <a:t>Más kutatási módszerekkel való kiegészítés: </a:t>
            </a:r>
            <a:r>
              <a:rPr b="0" lang="hu-HU" sz="3400" spc="-1" strike="noStrike">
                <a:solidFill>
                  <a:srgbClr val="000000"/>
                </a:solidFill>
                <a:latin typeface="Arial"/>
              </a:rPr>
              <a:t>interjúk, jelentés más személyről, megfigyelés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603720" y="379440"/>
            <a:ext cx="675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How much is bullying pervasive in American school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54920" y="1557360"/>
            <a:ext cx="7691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J.H. Hoover, R. Oliver, R.J. Hazl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99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ullying: Perceptions of adolescent victims in the Midwestern USA</a:t>
            </a:r>
            <a:r>
              <a:rPr b="1" i="1" lang="hu-HU" sz="1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School Psychology International.13, 5-16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186560" y="3141720"/>
            <a:ext cx="6339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nior high and high school stud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8% &gt; reported to have observed bully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7% &gt; reported to have been a victim of bully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77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4" dur="77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16" dur="77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18" dur="77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4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5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6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1" dur="8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2" dur="8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3" dur="8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3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4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5. Nemzetközi komparatív vizsgálatok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 u="sng">
                <a:solidFill>
                  <a:srgbClr val="000000"/>
                </a:solidFill>
                <a:uFillTx/>
                <a:latin typeface="Arial"/>
              </a:rPr>
              <a:t>Kutatócsoportok alakítás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TMR Network: brit, spanyol, portugál és német kutatók részvételével vizsgálatok több területen, eseti együttműködések, mérése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 u="sng">
                <a:solidFill>
                  <a:srgbClr val="000000"/>
                </a:solidFill>
                <a:uFillTx/>
                <a:latin typeface="Arial"/>
              </a:rPr>
              <a:t>Kultúrák közötti összehasonlítások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Woods, S., Wolke, D.: és Direkt és kapcsolati zaklatás általános iskolások között és a tanulmányi eredmény. </a:t>
            </a:r>
            <a:r>
              <a:rPr b="0" i="1" lang="hu-HU" sz="1600" spc="-1" strike="noStrike">
                <a:solidFill>
                  <a:srgbClr val="000000"/>
                </a:solidFill>
                <a:latin typeface="Arial"/>
              </a:rPr>
              <a:t>Journal of School Psychology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, Volume 42, Issue 2, March-April 2004, 135-155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Eslea, M., Menesini, E., Morita, Y., O’Moore, M., Mora-Merchán, J. A., Pereira, B., Smith, P.K.: Barátság és magányosság zaklatók és áldozatok körében: Adatok hét országból. </a:t>
            </a:r>
            <a:r>
              <a:rPr b="0" i="1" lang="hu-HU" sz="1600" spc="-1" strike="noStrike">
                <a:solidFill>
                  <a:srgbClr val="000000"/>
                </a:solidFill>
                <a:latin typeface="Arial"/>
              </a:rPr>
              <a:t>Agressive Behaviour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, Vol 30, 71-83 p. (200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hu-HU" sz="4000" spc="-1" strike="noStrike">
                <a:solidFill>
                  <a:srgbClr val="000000"/>
                </a:solidFill>
                <a:latin typeface="Comic Sans MS"/>
              </a:rPr>
              <a:t>Köszönjük a figyelmet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Szirmai Erik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hu-HU" sz="30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szirmai</a:t>
            </a:r>
            <a:r>
              <a:rPr b="0" lang="en-US" sz="3000" spc="-1" strike="noStrike" u="sng">
                <a:solidFill>
                  <a:srgbClr val="996600"/>
                </a:solidFill>
                <a:uFillTx/>
                <a:latin typeface="Arial"/>
                <a:hlinkClick r:id="rId2"/>
              </a:rPr>
              <a:t>@kfrtkf.hu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őszeghy Attil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ttilakoszeghy@gmail.com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467280" y="549360"/>
            <a:ext cx="847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G.M. Batsch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H.M. Knof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ullies and their victims:Understanding a pervasive problem in the school</a:t>
            </a:r>
            <a:r>
              <a:rPr b="1" i="1" lang="hu-HU" sz="1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School Psychology Review, 23, 165-175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896760" y="2638440"/>
            <a:ext cx="77731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bullying </a:t>
            </a:r>
            <a:r>
              <a:rPr b="1" i="1" lang="hu-HU" sz="18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 a pervasive form of violen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 schools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 research has to find out about the relationship between bullying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hool clim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ademic perform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6" dur="8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7" dur="8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8" dur="8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3" dur="8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4" dur="8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5" dur="8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8" dur="8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9" dur="8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0" dur="8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5" dur="77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76" dur="77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78" dur="77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80" dur="77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6" dur="77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87" dur="77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89" dur="77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91" dur="77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fill="hold">
                            <p:stCondLst>
                              <p:cond delay="2000"/>
                            </p:stCondLst>
                            <p:childTnLst>
                              <p:par>
                                <p:cTn id="69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6" dur="8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7" dur="8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8" dur="8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2560"/>
                            </p:stCondLst>
                            <p:childTnLst>
                              <p:par>
                                <p:cTn id="70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2" dur="8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3" dur="8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4" dur="8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3T08:21:10Z</dcterms:created>
  <dc:creator>Felhasználó</dc:creator>
  <dc:description/>
  <dc:language>en-US</dc:language>
  <cp:lastModifiedBy>MeiJF</cp:lastModifiedBy>
  <dcterms:modified xsi:type="dcterms:W3CDTF">2009-03-23T13:31:36Z</dcterms:modified>
  <cp:revision>45</cp:revision>
  <dc:subject/>
  <dc:title>Az iskolai zaklatás kutatása Nagy-Britanniában és az Egyesült Államokban</dc:title>
</cp:coreProperties>
</file>