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2108-B07A-4100-A9F1-AA353A71E8B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iscons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18E-CEB3-4EB8-AB20-7D461C49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D6F-B259-49DA-93FD-ECC1DD2C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E388-1AD6-4E26-8320-A4CD75C2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E15-2553-4048-831F-58AD72D9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0F45-6F17-4439-89D1-C0AFCFA6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7586-0423-4232-A336-0E01BD7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1E59-D835-44CF-8A59-1A0F1DED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9E79-24FE-4135-9061-67974F1E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57F-06EB-4BA9-91BB-244D2110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EEA1-7F25-44E5-97B6-E1FF185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47FB-EE2F-4609-86C4-30178721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068-5BEA-45DA-9A0F-03B1B076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A300-0BA3-4D4E-A966-E3C77788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70F9-9FA9-4B34-B5FF-27C370C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F456-9C34-4658-BF1F-4E8AE78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CC9A-76D8-4C24-B11C-BE264459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F363-9486-4DC8-8032-B703AEDB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3E1-824F-4A32-BCEA-A7DEAED8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813-356C-48E8-92EE-7217B83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C15-48CC-4793-BE6C-8DD23500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A67-460B-422C-9E70-F31386B8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9D6-6694-49CD-92A4-64713214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362-9A57-42D0-9BC5-03F8F96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9C6C-52BA-4F3D-9C09-57F32F62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414E-176E-44CF-B9C6-B10A4333287F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7597-1098-4ABA-A84C-8A04B781C0F3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szirmai@kfrtkf.hu" TargetMode="External"/><Relationship Id="rId2" Type="http://schemas.openxmlformats.org/officeDocument/2006/relationships/hyperlink" Target="mailto:szirmai@kfrtkf.hu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3800" y="404640"/>
            <a:ext cx="77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33"/>
                </a:solidFill>
                <a:latin typeface="Arial"/>
              </a:rPr>
              <a:t>School Bullying in the USA –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Arial"/>
              </a:rPr>
              <a:t>Problems, Research, Results in the 199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0s and 20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3440" y="3357720"/>
            <a:ext cx="766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TTILA KŐSZEG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nior lecturer T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csey Ferenc Reformed Teacher Training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brecen, 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9120" y="568440"/>
            <a:ext cx="85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.P.Limber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 among school children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liminary findings from a school/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vention program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urham, N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63720" y="3141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students in Grade 4 through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ted to bullying anoth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ceding 3 months.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120" y="639720"/>
            <a:ext cx="736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R.Nansel et 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Bullying behaviors among US youth: Prevalance and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with psychosocial adjus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2920" y="2800440"/>
            <a:ext cx="68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urveyed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5 686 students in Grade 6 through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t involvement in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0,6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,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-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8400" y="40464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.M. Craig, D.J. Pepler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ations of bullying and victimization in the schoolyar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adian Journal of School Psychology, 13. 41-5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3360"/>
            <a:ext cx="821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ta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gressive and socially compet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n Grade 1 throug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ground of a Canadia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% were involved in bully epis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 activ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% observing th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% inter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% respectful to the b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% respectful to the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6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0440" y="5238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hat are the major observations of American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520" y="1628640"/>
            <a:ext cx="777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lly-victim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y” and “victim”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tic groups of ro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dyadi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The problem is mu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 than the categor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chotom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y or victim dyadic patt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 Relevant for understanding the motivations of  students involv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evention programs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92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5480" y="1125360"/>
            <a:ext cx="8413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Subset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Proactive form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rect and indirect forms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Repeated exposure to negat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fferent position of participants 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d-theor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60360" y="1484280"/>
            <a:ext cx="381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Pe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Teach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Behavior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5320" y="1628640"/>
            <a:ext cx="8009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ewing bullying from a Social-Ec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Bullying is not an individual devian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ullying is the result of a complex interplay between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is/her environment (peers, family, school atmosphere, societ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42840" y="1773360"/>
            <a:ext cx="496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Tanári attitűd-vizsgálatok 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iskolai zaklatás kutatásban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58920" y="2852280"/>
            <a:ext cx="58546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attilakoszeg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Debrec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3800" y="3333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gress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7640" y="172080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roactive (instrumental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0880" y="1773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Reactive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4000" y="3284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to obtain a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outcome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(eg. property, pow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800" y="2997360"/>
            <a:ext cx="39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s a result of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versive event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that elicited anger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frustration in the perpe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080" y="4653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79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836640"/>
            <a:ext cx="2232000" cy="936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00000" y="836640"/>
            <a:ext cx="1511280" cy="9367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2349360"/>
            <a:ext cx="2664000" cy="719280"/>
          </a:xfrm>
          <a:prstGeom prst="downArrowCallout">
            <a:avLst>
              <a:gd name="adj1" fmla="val 92601"/>
              <a:gd name="adj2" fmla="val 92593"/>
              <a:gd name="adj3" fmla="val 16667"/>
              <a:gd name="adj4" fmla="val 6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349360"/>
            <a:ext cx="2305080" cy="574920"/>
          </a:xfrm>
          <a:prstGeom prst="downArrowCallout">
            <a:avLst>
              <a:gd name="adj1" fmla="val 100244"/>
              <a:gd name="adj2" fmla="val 10023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300720" y="4076280"/>
            <a:ext cx="719280" cy="1079640"/>
          </a:xfrm>
          <a:custGeom>
            <a:avLst/>
            <a:gdLst>
              <a:gd name="textAreaLeft" fmla="*/ 0 w 719280"/>
              <a:gd name="textAreaRight" fmla="*/ 719640 w 71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fogalma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tanulóval zaklatás történik, illetve annak áldozata, ha ismételten, hosszú időn át negatív cselekményeknek van kitéve, amelyet egy vagy több más tanuló csinál(tat) vele.” 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zaklató és áldozata között nincs hatalmi egyensúly, és a zaklatás ismétlődően történik.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Comic Sans MS"/>
              </a:rPr>
              <a:t>Az iskolai zaklatás kutatások megindulása  az USA-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vek ele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gind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9 Columbine High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ittleton, Colorado Álla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Media fóku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év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ának robbanás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565360"/>
            <a:ext cx="18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284640"/>
            <a:ext cx="976320" cy="774720"/>
          </a:xfrm>
          <a:prstGeom prst="rightArrow">
            <a:avLst>
              <a:gd name="adj1" fmla="val 50000"/>
              <a:gd name="adj2" fmla="val 315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4005360"/>
            <a:ext cx="934920" cy="9349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9220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kutatása az USA-ba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[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aklató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áldoza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tatikus ellentétpárok, hanem – ahogy azt az amerikai kutatás már bizonyította (Espelage, Bosworth, Simon, 2000.) –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ly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t szélsőérték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 mentén számos szerep képzelhető el, melyek közül más-más szituációkban más-más szerep jut - gyakran ugyan annak a személynek i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becslések szerint 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ai amerikai iskolások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ül ezen szerepek valamelyike – zaklató, áldozat, zaklató-áldozat - a tanulók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özel 30%-át érintheti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ansel, Overpeck, Pilla, Ruan, Simmons-Morton, Scheidt, 200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Észrevesz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svájci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óvodá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vizsgálat szerin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sszhan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igyelhető meg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erekek és a pedagógusok által megfigyelt zaklatások száma közö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saker és Valkanover, 200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ok nagyobbik hányada azonban úgy találja, hogy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a zaklatás kisebb elterjedtségéről számolnak be, mint a diákok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939 amerikai vidéki általános iskolással és 37 tanárral végzett vizsgálat szerint (Stockdale et al., 200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(bel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rosi brit középiskolák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felmérés szerint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ákok a 26%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ette ki, ho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le már törté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asonló, míg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ezt az értéket 5-10% körűlinek itélt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(Pervin és Turner,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Jelent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merikai iskolákban a tanárok nem jelentették a zaklatásos eseteket,(még a 90-es években sem) m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9 előtt (lövöldözés a Columbine középiskolában) ez a problém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nem került a a Média érdeklődésén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homlokteréb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iákok nem hajlandók beszámolni olyan esetekről, amikor a tanár nem volt jelen -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élve a zaklató megtorlásá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ó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anárok – még akkor is, ha felismerik mértékét és jelentőségét – hezitálnak, hogy jelentsék-e, attól való félelmükben, ho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z saját szakmai megitélésüket rontj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;                                     (Alsakev és Valkanover, 2001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ok zaklatás-fogal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nárok zaklatás fogalma gyakran szűkebb, mint amit a kutatás indokolna, m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06064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38 brit pedagógus (óvodától a középiskoláig) között végzett vizsgálat azt mutatja, hogy bár a zaklatás fizikai és verbális formáival tisztában voltak, nem tekintették viszont a zaklatás fajtájának a kiközösítést (Boulton, 199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16 kanadai pedagógusjelölt között végzett vizsgálat szerint inkább a fizikai támadást tekintik zaklatásnak, mint a szóbeli összetűzést, a kiközösítést pedig még kevésbé érzik a zaklatáshoz tartozónak, mint a szóbeli összetűzést;(Craig, Henderson és Murphy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71 brit középiskolai tanár között végzett felmérés szerint a megkérdezett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tték a résztvevők hatalmi helyzetében való eltérés jelentőségét a zaklatásban, ismerték a zaklatás különböző fajtáit (fizikai, érzelmi,stb), de nem említették az ismétlődést mint döntő tényező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iann, Callaghan és Lockhart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</a:t>
            </a:r>
            <a:r>
              <a:rPr b="0" lang="en-US" sz="3200" spc="-1" strike="noStrike">
                <a:solidFill>
                  <a:srgbClr val="006633"/>
                </a:solidFill>
                <a:latin typeface="Comic Sans MS"/>
              </a:rPr>
              <a:t>i szem</a:t>
            </a: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élyiség és a zaklatá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1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árok személyisége befolyásoló tényező a zaklatás felismerés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85264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rg és Falzon(1989) kutatásai alapján a férfi tanárok hajlamosabbak komolynak tekinteni a zaklatá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ulton (1997) szerint a női tanárok negatívabban állnak a zaklatátó viselkedéséhe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Craig és szerzőtársai (2000) úgy találták a 116 kanadai pedagógusjelölt között, hogy a több empátiával rendelkezők között nagyobb a valószínűsége, hogy azonosítják a zaklatásos helyzeteket és be is avatkozn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 zaklatók sajátosságai és felismerhetőségü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075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zaklatók életkori, etnikai sajátosságai is befolyásolhatják a zaklatás felismerhetőség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7840" y="2389320"/>
            <a:ext cx="822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Leff és szerzőtársai (1999) úgy találták, h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kisiskolás korú zaklatók jobban felismerhető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(a mi fogalmaink szerinti) a felsős zaklató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ugyanezen tanulmányból kitűnik, hogy 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merikai tanároknak könnyebb felisme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f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-amerikai zaklatók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attitűd vizsgálatok szerep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iskolai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mélyzet attitűdjeinek megértése nem jelenti automatikusan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értjük viselkedésüke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8200" y="3665520"/>
            <a:ext cx="7364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ttitűdök vizsgálat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és értékel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 szükséges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ső lépés a megelőz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rogramok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meg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ervezés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olt és Keyes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7600" y="69696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Black"/>
              </a:rPr>
              <a:t>What is bull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548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1040" y="1700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erson is bullied/victimized if he/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9160" y="23493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peated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ugh a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39640" y="3284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t to nega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600" y="4221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not provoking (the bull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t ”reacting” to sg previously d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6160" y="407664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not defend him/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280" y="2060640"/>
            <a:ext cx="43164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060640"/>
            <a:ext cx="280836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241560" y="1700280"/>
            <a:ext cx="75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18 Wisconsin állambeli iskola tanáraira és tel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zetére terjedt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781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célja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zaklatással kapcsolatos-iskolai klímát befolyásoló- attit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nyílt rosszindul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pcsolato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sokszínű értékek elfogadásának mérté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iskola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ab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állapításának gyakorl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370080" y="907920"/>
            <a:ext cx="876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tvevők összetétele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összesen: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edagógus és pedagógus assziszt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ek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 n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1 férf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 fő nem adta meg a nemé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tnikai hovatartozás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5,4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hé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zsia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latin eredetű [Hispanic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3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vert etnikumú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o-amerik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[21 fő] nem jelezte etnikai hovatartoz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égzettség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érettség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valamennyi középiskola utáni iskola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mmunity colleg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(4 éves) főiskolai diploma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félévek,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diploma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doktori fokozat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nem adta meg a végzettségét: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20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2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0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2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0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2000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0"/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2000"/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95280" y="189000"/>
          <a:ext cx="8209080" cy="6342120"/>
        </p:xfrm>
        <a:graphic>
          <a:graphicData uri="http://schemas.openxmlformats.org/drawingml/2006/table">
            <a:tbl>
              <a:tblPr/>
              <a:tblGrid>
                <a:gridCol w="4924440"/>
                <a:gridCol w="765000"/>
                <a:gridCol w="863640"/>
                <a:gridCol w="709920"/>
                <a:gridCol w="9460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y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ekálás nem ártal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egy diákot szekálnak, a többiek ezt leállitjá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diákokat ebben az iskolában bevonják a szabályok megalkotásába és a problémák megoldásá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elnőttek itt rendszerint leállítják azt a diákot, aki a másik diákra sértő megjegyzéseket te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nek az iskolának a tanári kara ki van arra képezve, hogy szakszerűen beavatkozzon, ha diák diákot zak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n leállítom, ha valaki viccelődve vagy más módon tesz etnikai alapú megjegyzé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isztematikus módon vezettük be a multikulturális oktatá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ogadnám a biszexuális, homoszexuális fiú és lány tanulókat ebben az iskoláb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skolai adminisztrátorok támogatják a tanárokat abban, hogy zaklatás mentes legyen az isk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ttam olyan tanárokat, akik viccet csináltak abból, ahogy egy diák jár, vagy kinéz, vagy csinál dolgok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401400" y="14842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7% gondolja, hogy „egy kis szekálás nem á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7% hiszi azt, hogy a diákok nem avatkoznak be a zaklatáso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270828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3% véli, hogy a felnőttek beavatkoznának az etnikai alapú sértegetésekb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4% mondja, hogy ő maga állítana le etnikai tartalmú vicc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" y="42210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5% fogadná el biszexuális és homoszexuális diákok jelenlétét az iskolá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 koráb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6% állította, hogy vannak olyan tanárok, akik viccet csinálnak diák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nézetéből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"/>
          <p:cNvSpPr/>
          <p:nvPr/>
        </p:nvSpPr>
        <p:spPr>
          <a:xfrm>
            <a:off x="331200" y="1557360"/>
            <a:ext cx="85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gazság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1 pontja vonatkozott az igazságosságra (pl „a tanárok igazság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télnek”), vagy szabály alkotásra (pl. „a diákokat bevonják az iskolai szabály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állapításáb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0 pontja vonatkozott ellenséges motívumokra (pl. „a tanár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gúnyolják a homoszexuális tanulóka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5 pontja vonatkozott a diák sokszínűség elfogadásá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l. „a fogyatékkal élő diákok gyakran tehetségese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2 pontja vonatkozott arra, hogy a tanárok beavatkoznának-e, h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kadályozzák, hogy sértő viccek elhangozza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720" y="1052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 négy attitűd fajtát állapítottak meg a vizsgálatok eredményeké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474840" y="981000"/>
            <a:ext cx="61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 korrelációja a különböző iskolatipusokk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hol a pedagógusok dolgozt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73360"/>
            <a:ext cx="73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\ ált.isk. alsó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vodától az 5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lementary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\ ált.isk. felső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.-8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middle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\ középiskola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-12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high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240" y="2708280"/>
            <a:ext cx="69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Jelentős a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ézmény tipusok közöt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tatkozo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4160" y="4292640"/>
            <a:ext cx="82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lönbsé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es 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tézmény tipusok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l mutatkoznak.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7848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825840" y="1484280"/>
            <a:ext cx="731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at korrelációja a pedagógusok nem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incs jelentős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ttitűd fajták között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ülönböző nemű pedagógusok esetében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1802880" y="191628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1480" y="3213000"/>
            <a:ext cx="3214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lakoszeg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bre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3150"/>
                            </p:stCondLst>
                            <p:childTnLst>
                              <p:par>
                                <p:cTn id="15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4800"/>
                            </p:stCondLst>
                            <p:childTnLst>
                              <p:par>
                                <p:cTn id="15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550"/>
                            </p:stCondLst>
                            <p:childTnLst>
                              <p:par>
                                <p:cTn id="1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55320" y="1197000"/>
            <a:ext cx="878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saker, F.D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Valkanover,S. (2001), Early diagnosis and preve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ization in kindergarten. In J.Juvonen &amp; S. Graham (Eds.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assment in schools: The plight of the vulnerable and vic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175-195),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g, M.G. &amp; Falzon, J.M.(1989). Primary school teachers’ perception of pupil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sirable behaviours. Educational Studies, 15. 251-2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ton, M.J. (1997). Teachers’ views on bullying:Definitions, attitud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pe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ish Journal of Educational Psychology, 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23-2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, W. M., Henderson, K. &amp; Murphy, J. G.(2000). Prospective teachers’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ard bullying and victimiza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Intern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.5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D.L., Bosworth,K. &amp; Simon,T.R.(2000). Examining the context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n early adolescence. Journal of Counseling and Development,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-3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, M.K. &amp; Keyes, M.A.(2004). Teachers’ Attitudes Toward Bullying. In D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&amp; S.M.Swearer (Eds.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ying in American School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wah,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Erlbaum Associates, Publis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15640" y="1125360"/>
            <a:ext cx="892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foly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f, S.S., Kupersmidt, J.B., Patterson, C.J., &amp; Power, T.J. (1999) Factors infl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identification of peer bullies and victim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505-5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sel, T.R., Overpeck, M., Pilla, R.S., Ruan, W.J. Simons-Morton, B. &amp; Scheidt,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1). Bullying behaviors among among US youth: Preval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with psychosocial adjustmen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of the American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85. 2094-2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weus, D. (2001). Peer Harassment:A critical analysis and some important issues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Juvonen &amp; S. Graham (Eds.), Peer harassment in schools: The pligh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and the victimized (pp.3-20).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in, K. &amp; Turner, A. (1994).An investigation into staff and pupil knowledge,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iefs about bullying in an inner city schoo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 Care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6-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nn,G., Callaghan, M., &amp; Lockhart, R. (1993). Bullying: Teachers’ views an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. Educational Studies, 19, 307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dale, M.S. et al.(2002). Rural elementary students’, parents’, and teach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on of bully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can Journal of Health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, 266-2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87520" y="431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Black"/>
              </a:rPr>
              <a:t>Roles in a bull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60680" y="149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2760" y="292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160" y="2205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y-s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7812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43640" y="907920"/>
            <a:ext cx="37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2880" y="549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324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re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240" y="2205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ully-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6160" y="2924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4720" y="3429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1341360"/>
            <a:ext cx="432000" cy="897120"/>
          </a:xfrm>
          <a:prstGeom prst="rightArrowCallout">
            <a:avLst>
              <a:gd name="adj1" fmla="val 51921"/>
              <a:gd name="adj2" fmla="val 5191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2781360"/>
            <a:ext cx="503280" cy="609480"/>
          </a:xfrm>
          <a:prstGeom prst="rightArrowCallout">
            <a:avLst>
              <a:gd name="adj1" fmla="val 30278"/>
              <a:gd name="adj2" fmla="val 3027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32720" y="836280"/>
            <a:ext cx="360360" cy="107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4000" y="1700280"/>
            <a:ext cx="57636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349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565360"/>
            <a:ext cx="43200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3665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ook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9079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nfo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640" y="40244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9640" y="1268280"/>
            <a:ext cx="1440000" cy="86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287280" cy="1079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637000"/>
            <a:ext cx="1871640" cy="1368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1420920"/>
            <a:ext cx="789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9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iskolai zaklatás kutatása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38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ritannic Bold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78160" y="277560"/>
            <a:ext cx="137016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152388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68580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07480" y="7621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Daniel Olweus alapkutatásai az iskolai zaklatások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133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057400"/>
            <a:ext cx="1218960" cy="485640"/>
          </a:xfrm>
          <a:prstGeom prst="rightArrow">
            <a:avLst>
              <a:gd name="adj1" fmla="val 50000"/>
              <a:gd name="adj2" fmla="val 6275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9600" y="1981080"/>
            <a:ext cx="61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orvég kormány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lindít egy oly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skolai zaklat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egelőző program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melyben minden általáno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s középiskola részt ve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600" y="3429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4290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0400" y="335268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megind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0" y="5084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5013360"/>
            <a:ext cx="475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száma 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gyságrenddel meg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520" y="1332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34920" y="1255680"/>
            <a:ext cx="53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árom norvég tizenéves öngyilkosságot követ el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őket ért iskolai zaklatások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52388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5160" y="441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45480" y="4267080"/>
            <a:ext cx="63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kai titkosszolgálati jelentés: 1974 és 2000 közötti isko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övöldözők 71 %-a volt áldozata iskolai zaklatás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8080" y="4572000"/>
            <a:ext cx="16002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384120"/>
            <a:ext cx="87487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2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.H. Hoover, R. Oliver, R.J. Haz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Iskolai zaklatás: tizenéves áldozatok a közép-nyugati államokba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School Psychology International.13, 5-16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" y="3505320"/>
            <a:ext cx="92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megkérdezett tizenéves diákok (ált. iskolai felsős- és középiskolai osztályokbó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8680" y="426708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8%-a látott már zaklatást iskolai pályafutása sorá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0552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77%-a nyilatkozott úgy, hogy áldozata volt már ilyen zaklatás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66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0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4: G.M. Batsche és H.M. Kn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ók és áldozataik: egy kiterjedt iskolai probléma megértéséhe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800" y="335772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z iskolai zaklatás az erőszak kiterjedt fajtája az iskolák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520" y="3933720"/>
            <a:ext cx="70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kutatásnak fel kell tárnia a kapcsolatot az iskolai zaklatás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5800" y="4508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z iskola atmoszfér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720" y="51577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diákok tanulmányi teljesítménye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7: S.P.Limber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ás az iskolások között: egy prevenciós program kutatását megelőző állapoto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Durham, N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720" y="429264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egkérdezett 4-6. osztályos tanulók  25%-a vett részt egy másik tanu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ásában a megkérdezést megelőző három hónap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3480" y="4716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ypes of 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440" y="1268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hysica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7080" y="45813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Rel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11960" y="429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ign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0320" y="4869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ex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600" y="55166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goss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7628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p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sh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k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h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9440" y="285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Verb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0828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name-ca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240" y="1700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 (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440" y="3429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Indirect (c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92360" y="1628640"/>
            <a:ext cx="935280" cy="2160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492000" y="1915920"/>
            <a:ext cx="574920" cy="8650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6000" y="3860640"/>
            <a:ext cx="1150920" cy="720720"/>
          </a:xfrm>
          <a:prstGeom prst="line">
            <a:avLst/>
          </a:prstGeom>
          <a:ln w="316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29052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20" y="1197000"/>
            <a:ext cx="8556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001: T.R.Nansel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Iskolai zaklatás és erőszak összefüggés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az amerikai fiatalokn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9040" y="3573360"/>
            <a:ext cx="85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kérdezett 15 686 tizenéves diá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a nyilatkozott úgy, h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ran része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yen cselekményeknek;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3% zakl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 (bull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0,6% áldoz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(victim), míg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,3% mindkét szerep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bully-vict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458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Definí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9440" y="2127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akl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75840" y="2786040"/>
            <a:ext cx="684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szabb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szakon á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métlődő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lyik olyan valaki 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ki nem tudja megvédeni ma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ott szituáció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. Roland, E. Munthe (eds.)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zaklatásról: nemzetközi k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int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: David Fulton Publishers, 1989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3800" y="4297320"/>
            <a:ext cx="739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ssz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 proaktív formá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ben az elkövetőnek nin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e olyan előzményre, amellyel az áldozat „kiprovokál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„kiérdemli”) azt, ami vele történi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A. Dodge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reaktív és proaktív agresszió szerkezete és funkció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 Pepler és Rubin (eds.) A gyermekkori agresszió kialakulása és kezelé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llsdale,N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rlba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sz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 közvetlen és\vagy közvetett fajtája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len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aklató és áldozata közötti közvetlen fizikai (pl. ütés, rúgás, lökdösés, stb.) és\vagy verbális (pl. csúfolás, bosszantás,stb.) kontaktus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ett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agában foglal egy (vagy több) harmadik személyt, akin keresztül a zaklató pletyka, csúfnév, stb. terjesztésével követi el a zaklat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: a szándék felismerés, a depresszió, és a provokatív típus szere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Development and Psychopathology,7,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5) 31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22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68644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ó-áldozat 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42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a zaklató – áldozat statikus ellentét-pá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pe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em e két szélsőérték közötti haladvány mentén számos lehe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ció feltételez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40560" y="35211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lentős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kell távolodni a korábbi felfogást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ly szerint a diá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része rendszeresen áldozatává teszi diáktársait, mint „zaklató”, mí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ok, ennek kárvallottaiként „áldozatok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14360" y="4600440"/>
            <a:ext cx="74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is megkülönböztethetü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zaklatót”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resszív zaklató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ggressive 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ó-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(bully-victim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 (vic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ég számos egyéb verzió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19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s vizsgálatának mó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9920" y="263700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iákok közvetlen megkérdezésével (egy listából kell kiválasz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okat a viselkedésformákat, amelyek a zaklatót jellemz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90320" y="352116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diákok kapnak egy leírást a zaklatásról, ezután kell kitölteni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érdőív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84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\ Önbeszámo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\ A tanár\diák-társ által meghatározott zakl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5229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zemélyiségjogi és etikai problémákat implik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205000"/>
            <a:ext cx="77770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ójában az ált. isk. alsó osztályaiban alkalmazható, ahol  a tanár szorosabb kapcsolatban van a diákokkal, a diákok nem cserélnek csoportot és tanárt, a megfigyelés lehetősége a tanár számára folyamatos,stb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.J. Boulton,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anári nézetek a zaklatásról – a megbirkózás képessége: definíciók és attitűdö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ritish Journal of Educational Psychology,67,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) 2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147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\ A zaklató meghatározása megfigyelt viselkedés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7600" y="1628640"/>
            <a:ext cx="78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. videóval játszótéren, osztályteremben (stb.) rögzített viselkedé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720" y="213372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nadai gyermekek iskolaudvari viselkedését 6 éven át követő vizsgálatok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erült pl. h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4320" y="2852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85% vett részt zaklatásos jelenetek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2160" y="3213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0% aktív résztvev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3960" y="3573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3% megfigyel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3600" y="40053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12% beavatkozó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760" y="450864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kérdezettek 74%-a elismerően vélekedett zaklatóró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%-a együttérzett az áldozat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5157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.M. Craig, D.J. Pepler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 és viktimizáció megfigyelése egy iskolaudvar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nadian Journal of School Psychology, 13. (1997) 41-5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csolati agres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4320" y="1773360"/>
            <a:ext cx="8124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gyományosan a férfi nemet tekintik  az agresszívebb nemnek;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k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úk több agresszivitást mutatn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vizsgálatok szeri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.D. Coie és K.A. Dodge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gresszió és antiszociális magatartás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in N. Eisenbe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Handbook of Child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.3. New York: Wiley, 199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560" y="4221000"/>
            <a:ext cx="88614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pcsolati agresszió olyan „viselkedési formákat jelent, amely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ándék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rekednek egy gyermek barátságait tönkretenni, a közösségbe tartozás érz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rombo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280" y="3068640"/>
            <a:ext cx="8547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direkt/kapcsolati agresszió olyan „társadalmi manipuláció, amely célpontj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tételes módon támad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 Oesterman et al.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 női indirekt agresszió kultúraközi bizonyítékai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ggressive Behavior, 24 (1998) 1-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1 3-6. osztályos tanulót vizsgáltak egy 19 tételből álló kérdősorral, a tanulók ítéletei alapján négy csoportot állítottak fel, amelyekre jellemző a(z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27960" y="2781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Kapcsolati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3440" y="2781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yílt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4880" y="2781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indket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5960" y="27813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* Agresszíó hi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07600" y="3789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cs szignifiká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ülönb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800" y="4005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15,6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4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00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2%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,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0600" y="54896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08720" y="3141720"/>
            <a:ext cx="216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432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321300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jövőbeli kutatások (lehetséges) irány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2349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utatás módszertanának sokoldalúvá té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7560" y="4508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yermekek viselkedését befolyásoló rendszerek (család, korcsoport, isk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zsgálatának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9200" y="364500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jlődéslélektani különbségek fokozottabb figyelembevé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400" y="29973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 fogalmainak további pont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5880" y="39852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320" y="126828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e0363"/>
                </a:solidFill>
                <a:latin typeface="Arial"/>
              </a:rPr>
              <a:t>Daniel Olwe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Norway) coined the term ”mobbing”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206064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 individual or a group of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rassing, teasing, pesterin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heir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66320" y="352116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982 three 14-year-old boys committed suicide for being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harassed by class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800" y="494172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istry of Education in Norwa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aunched a nationa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ainst bullying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844640"/>
            <a:ext cx="1871640" cy="36036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554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orte"/>
              </a:rPr>
              <a:t>Köszönöm a figyelmet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64000" y="321300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attilakoszegh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3196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osworth et al.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os viselkedéssel kapcsolatos tényezők a felső tagozatos diákok esetéb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ournal of Early Adolescence, 19. (1999) 341-36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60" y="1773360"/>
            <a:ext cx="825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. Olweus.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Zaklatás az iskolában: hosszútávú következmények az áldo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Esetében – egy hatékony megelőző program az iskolák számá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. Huesmann (ed.)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gressive Behavior: Current Perspectives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w York: Plenum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560" y="2997360"/>
            <a:ext cx="876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wartz et al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ok agresszív áldozatainak korai szocializáció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ild Development 68. (1997) 665-67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0880" y="3860640"/>
            <a:ext cx="84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.T. Slee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kortárs viktimizáció és kapcsolata a depresszióval az ausztrál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általános iskolások körében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rsonality and Individual Differences, 18. (1995) 57-6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520" y="5229360"/>
            <a:ext cx="85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lberg és Olweu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 elterjedtségének vizsgálata az Olweus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féle Zaklató-áldozat kérdőív segítség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ggressive Behavior, 26, (2003)239-26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0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z iskolai zaklatás kutatása Nagy-Britanniában és az Egyesült Államokba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FRTKF Deb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zaklatás fogal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z erőszakos cselekedet, amelynek során az egyé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ően, hosszabb időn á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árgya egy másik személy vagy személyek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gatív cseleked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inek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ándéko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esti vagy lelki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almaz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nak fizikailag, szavakkal vagy más módon”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Olweus: Peer harassment 2001:5-6)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isztematikus hatalmi abúzus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mith és Sharp: School bullying. Insights and perspectives. Routledge, 1994: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ütt megtalálható elem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ás szándé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az interperszonális kapcsolatokat jellemző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gyenlőtlen hatalmi viszonyo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résztvevők közö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. Kezdeti kutatások Nagy-Britanniá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ő irányo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1 A jelenség vizsgál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 gyakorisága: eltérő kategóriák (gyakoriság, áttekintett időtartam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ok fajtái: leginkább direkt, fizikai zaklatás ábrázo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zereplők típusai: zaklató- áldozat-né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Hatáselemzése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gatív hatás az áldozat önértékelésére</a:t>
            </a: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oulton, M. J., Smith, P. K.: Zaklató-áldozat problémák felsőtagozatosok körében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British Journal of Developmental Psycholog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12, (1994), 315-329 p.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ncentrációra és a tanulás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, S., Smith, P.K.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zaklatás kezelése az iskoláb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London: Routledge (199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esszel kapcsolatos szimptómá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fejfájás, rémálmok), iskolafób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 és Smith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 - hatáselemzése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sszú távon: alacsony önbecsülés, depresszió, öngyilkoss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lee, P.T.:Kortársi viktimizációs szorongás  szituációs és interperszonális összefüggés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hild Psychiatry and Human Developme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25, (1994) 97-107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zaklatótól való elmenekülés az áldozat részéről visszahúzódó deviáns szerepre szocializál: az ilyen fiúk felnőttkori kapcsolataikban is gyakran küzdenek szégyellősséggel, kapcsolatkialakítási problémákka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ilmartin, B. G.: Férfiak súlyos szégyellős viselkedésének kortárs csoportbeli előzmény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Personalit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55/3, (1987) 467-488 p.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zdeti kutatások Nagy-Britanniá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 intervenciós lehetőségek, problémakezel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ézkedések a tanulói / iskolai biztonság érdekéb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1. állami intézkedés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rvényi szabályozás: 1999-től minden iskolának rendelkeznie kell zaklatásellenes politikával, melyet évente legalább egyszer a teljes iskolaközösség számára közzé kell ten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blémakezelő csomagok kifejleszt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idolgozott anyagok használatbavétele, értékel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7 Surv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Kezdeti kutatások – intervenciós törekvések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 szakmai és társadalmi szervezetek, szövetségek létrejötte és elterjedés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1 Anti-Bullying Association, Kidscape, Bullying Online, Childline: saját felmérések, kutatások és problémakezelő eljárások kifejlesztése, rendezvények: Anti-Bullying Week, ifjúsági konferenciá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2 rendőrségi tevéken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3 önkormányzati intézkedések: helyi konferencia, családsegítő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. Későbbi kutatások</a:t>
            </a:r>
            <a:br>
              <a:rPr sz="38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kutatások irányainak kiterjesztés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1. a korábbi kategóriák kiegészítés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replő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zaklató/áldoza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bully/victim) kategóriája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a brit oktatási minisztérium (DfES 1997) adata: az áldozatok 20%-a zaklató áldoz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zaklatási típuso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verbális és kapcsolati –társas zaklatás, homofób zaklatás, cyberbullying / elektronikus zakla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87520" y="54288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 in the U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73960" y="1576440"/>
            <a:ext cx="74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search on school bullying in the USA --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ate 19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s, early 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1160" y="265572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99 &gt;&gt;&gt; school shooting at Columbine High School, Col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8680" y="352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 on school shooters (between 1974-20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ommonality among 41 school shoo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3120" y="445608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1% had been a target of a bully earlier in thei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8960" y="517680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 2000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a proliferation of research in the field of school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ésőbbi kutatások: a kutatások irányainak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 A zaklatások összefüggéseinek vizsgál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2.1 A zaklatás és az érzelm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kapcsolatában két néze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. a zaklatás oka a szociális információfeldolgozás deficitje (pl. az áldozatokból hiányzik az asszertivitás szociális készsége, kevéssé tapasztaltak a szociális interakcióban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odge, K.A.: Szociális kogníció és gyermekkori agresszív viselkedés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51, (1980) 162-170 p. 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 a bántalmazók gyakorlott manipulátorok, felismerik mások érzéseit, de nem hajlandóak / képtelenek együttérzésr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utton J., Smith. P.K. , Swettenham J.: Szociális kogníció és a zaklatás:szociális elégtelenség vagy gyakorlott manipulálás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Development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17, (1999) 435-450 p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2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Életko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típ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ebb gyerekek inkább fizikai zaklatásban vesznek rés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sebbek már verbális és kapcsolati zaklatásban mutatnak nagyobb arányokat (fejlettebb szociális készség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gyakoriság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ktimizáció az életkor előrehaladtával csök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zaklatás gyakorisága nem változi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hitney, I., Smith, P.K.: A zaklatás természetének és elterjedtségének vizsgálata általános és középiskolában. Educational Research, 35, 3-25 p. (199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ncs semmilyen válto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Johnson, H. R., Thompson, M. J. J., Wilkonson, S., Walsh, L., Balding, J., Wright, V.: Zaklatásnak kitéve: Tanári jelentések általános iskolás gyerekek proszociális viselkedésében jelentkező érzelmi problémáiról, hiperaktivitásáról, kapcsolati nehézségeirő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ducation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22, (2002), 553-556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3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N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úk körében gyakoribb a fizikai bántalma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Stanford,K.: Iskolai zaklatás. D. Messer és S.Millar (szerk.) Fejlődéslélektan. London:Arnold.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ányokra inkább a verbális és kapcsolati bántalmazás jellemz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gyakoribb a nemen belüli bántalmazá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Szociális hátté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alacsony a korreláció a zaklató és társadalmi háttere között, ugyanakkor valószínűbb az alacsonyabb jövedelmű családi hátterű gyerekek zaklatása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 p.:149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ugyanakkor ok lehet a zaklatásra az is, ha egy gyerek drága holmit birtokol (márkás mobiltelefon, stb.)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DfES Survey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5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aládi háttér, szülői magatar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ülői figyelemhiány jelentősen hozzájárul zaklató viselkedés kialakulásához – fiúk és lányok között egyarán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louri, E., Buchanan A.: Az anyai és apai figyelem szerepe a serdülőkorúak zaklató viselkedésében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ournal of Interpersonal Violenc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18 (6): 634-644 Jun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úlzott anyai védelmező  magatartás gyakran fordul elő az áldozat családjába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Hawker, D. S. J., Boulton, M. J.: A kortárs zaklatás és pszichoszociális beilleszkedési zavarok húsz évnyi kutatása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Child Psychiatry and Psychiatr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41, 441-455 p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5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6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Iskolai teljesítmén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2. osztályosoknál nem volt kimutatható kapcsolat a tanulmányi teljesítmény és a direkt zaklatás között. Negyedik osztályosoknál a kapcsolati zaklatók szignifikánsan jobban teljesítettek tanulmányi munkájukban „jó képességű gyerekek rendelkeznek olyan szociális készségekkel, melyekkel kapcsolatokat tudnak manipulálni”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Woods és Wolke 2004:1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6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7 Iskolai környez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kis létszámú osztályokban és kisebb iskolákban gyakoribb a zaklat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Woods, S., Bloomfield, L. and Karstadt, L.:általános iskolai zaklatás és gyakori egészségügyi problémák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rchives of Disease in Childhoo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85, (2001) 197-201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8 Lakóhel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vidéki iskolákban több a zaklatási ese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9 Másság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9.1 Rivers 2004-es retrospektív vizsgálatában szereplő 60 leszbikus, homoszexuális, biszexuális megkérdezett állította, hogy szexuális orientációja miatt bántalmaztá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Rivers, I.: Visszatekintés iskolai zaklatásra és hosszú távú hatásuk leszbikusok, homoszexuális férfiak és biszexuálisok életére. Crisis 25 (2004) 169-175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7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.9.2 Hugh-Jones és Smith (1999) vizsgálata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dadogó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n: 276 résztvevő retrospektív vizsgálata: gyakori bántalmazás, kapcsolati nehézségek a dadogás miatt iskoláskorban; rövid- és hosszútávú negatív hatások a tanulmányi előmenetelre, de elsődlegesen a személyes kapcsolatok, az önbecsülés és a depresszió területein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Hugh-Jones, S. &amp; Smith, P.K.: Dadogó gyerekek önbeszámolói a zaklatás rövid- és hosszútávú hatásairól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69, (1999) 141-158 p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3. A zaklatás rövidebb és hosszabb távú hatásainak vizsgál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munkahelyi és az iskolai zaklatás kapcso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unkahelyi zaklatás legnagyobb kockázatának az iskolai zaklató-áldozatok vannak kitéve, őket követik az áldozati szerepűek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mith, P.K., Singer M., Hoel H., Cooper C.l.. Viktimizáció az iskolában és a munkahelyen: Van kapcsolat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Psychology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3) 175-188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 Kutatási módszerek fejlesztése, finomítása, kiterjeszté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kérdőívek pontosí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fogalom értelmezésének kuta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anárok: átfogóbb értelmezé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erekek: inkább csak a fizikai és verbális bántalmazást értik alatta, a fogalom értelmezésébe alig veszik be a kiközösítést, a hatalmi egyenlőtlenséget, valamint a bántás szándékát sem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Naylor, P., Cowie, H., Cossin, F., De Bettencourt, R., Lemme, F.: Tanárok és diákok zaklatás-meghatározásai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 Sep 2006, Vol 76 Issue 3, 553-576 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utatási módszerek fejlesztése, finomítása,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 1. 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kérdőív –fejlesztési ajánlások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fogalmi tisztázás, példák megadása, a gyakorisági kategóriák egységesítés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Ortega, R.; Mora-Merchán, J.A.; Singer, M.; Smith, P.K.; Pereira, B.&amp; Menesini, E.: A zaklatást vizsgáló kérdőívek és nominációs módszer munkacsoport zárójelentése. Seville meeting: TMR Network Project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Más kutatási módszerekkel való kiegészítés: 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interjúk, jelentés más személyről, megfigyelé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3720" y="37944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much is bullying pervasive in American sch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920" y="1557360"/>
            <a:ext cx="76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.H. Hoover, R. Oliver, R.J. Haz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: Perceptions of adolescent victims in the Midwestern USA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ool Psychology International.13, 5-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6560" y="3141720"/>
            <a:ext cx="63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r high and high school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% &gt; reported to have observed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 &gt; reported to have been a victim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5. Nemzetközi komparatív vizsgálat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tatócsoportok alakí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MR Network: brit, spanyol, portugál és német kutatók részvételével vizsgálatok több területen, eseti együttműködések, mér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ltúrák közötti összehasonlítás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lea, M., Menesini, E., Morita, Y., O’Moore, M., Mora-Merchán, J. A., Pereira, B., Smith, P.K.: Barátság és magányosság zaklatók és áldozatok körében: Adatok hét országbó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ressive Behavio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 30, 71-83 p.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Comic Sans MS"/>
              </a:rPr>
              <a:t>Köszönjük a figyelm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szirmai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@kfrtkf.h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7280" y="549360"/>
            <a:ext cx="84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.M. Bats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.M. Kn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ies and their victims:Understanding a pervasive problem in the school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6760" y="2638440"/>
            <a:ext cx="777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ing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pervasive form of viol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school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search has to find out about the relationship between bully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6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21:10Z</dcterms:created>
  <dc:creator>Felhasználó</dc:creator>
  <dc:description/>
  <dc:language>en-US</dc:language>
  <cp:lastModifiedBy>MeiJF</cp:lastModifiedBy>
  <dcterms:modified xsi:type="dcterms:W3CDTF">2009-03-23T13:31:36Z</dcterms:modified>
  <cp:revision>45</cp:revision>
  <dc:subject/>
  <dc:title>Az iskolai zaklatás kutatása Nagy-Britanniában és az Egyesült Államokban</dc:title>
</cp:coreProperties>
</file>