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7CBC-26B5-45D0-9C7C-74F8C1816FE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Wiscons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8EBE-F22C-4F8A-A5F5-4DA72E39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93A-4937-4F0D-8BEB-885F0294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49D-CF6D-425E-85AD-5E9B6860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80C-93D4-45AC-B3BF-2DA42722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6A47-2182-4CD5-B153-47F8C985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88A7-E137-4BFF-915C-3F283ECC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313D-713E-4F5B-8C87-986B675A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3157-038B-4548-855A-111BC28F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C1F0-49C4-469F-9C75-84A8A36F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630C-A057-4BC9-AFDD-B8273B6E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60EA-B12D-4361-B4D0-A022174A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BAE-A9FC-4024-9CD9-839C79CD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7AB6-266B-4BEC-ADD1-3FB0D75A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5D07-5607-4F85-B7B1-B88C1A6E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9CE7-655D-4EE8-A47A-4064F2A7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4D07-19BD-4328-911A-D03F662D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8C27-B622-406D-AF0F-77743F4C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67F-EE7C-4CFD-B614-B3129C89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9314-B9A8-434A-B796-B3604BB1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A11-27D4-413D-80F2-CDFC11A3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5E4-7ADF-4214-98FE-A5073850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BB28-8C4B-4465-AF5A-76DD2782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275-8799-45AD-9B91-0A57EE19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E50-DA5D-4449-B7F4-F8EC06F7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5056-E697-452E-A32B-02E407E47034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EFDD-08E5-4059-B099-362583AFE224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mailto:szirmai@kfrtkf.hu" TargetMode="External"/><Relationship Id="rId2" Type="http://schemas.openxmlformats.org/officeDocument/2006/relationships/hyperlink" Target="mailto:szirmai@kfrtkf.hu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3800" y="404640"/>
            <a:ext cx="776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6633"/>
                </a:solidFill>
                <a:latin typeface="Arial"/>
              </a:rPr>
              <a:t>School Bullying in the USA –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6633"/>
                </a:solidFill>
                <a:latin typeface="Arial"/>
              </a:rPr>
              <a:t>Problems, Research, Results in the 199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0s and 200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3440" y="3357720"/>
            <a:ext cx="76651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mic Sans MS"/>
              </a:rPr>
              <a:t>ATTILA KŐSZEG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 Black"/>
              </a:rPr>
              <a:t>senior lecturer TE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ölcsey Ferenc Reformed Teacher Training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ebrecen, Hung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19120" y="568440"/>
            <a:ext cx="859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.P.Limber et al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llying among school children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eliminary findings from a school/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rvention program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ifth Annual International Family Violence Research Conference, 1997 Ju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Durham, N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63720" y="314172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% of students in Grade 4 through 6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tted to bullying another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preceding 3 months.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77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3" dur="77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5" dur="77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7" dur="77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4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79120" y="639720"/>
            <a:ext cx="736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R.Nansel et al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Bullying behaviors among US youth: Prevalance and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with psychosocial adjust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Journal of American Medical Association, 285, 2094-2100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12920" y="2800440"/>
            <a:ext cx="681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urveyed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5 686 students in Grade 6 through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oss the 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9,9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or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t involvement in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3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10,6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ct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6,3%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lly-vic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6400"/>
                            </p:stCondLst>
                            <p:childTnLst>
                              <p:par>
                                <p:cTn id="7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8400" y="404640"/>
            <a:ext cx="69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W.M. Craig, D.J. Pepler (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servations of bullying and victimization in the schoolyar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anadian Journal of School Psychology, 13. 41-59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5440" y="1773360"/>
            <a:ext cx="8219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ta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ggressive and socially compet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in Grade 1 throug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yground of a Canadian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% were involved in bully epis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% active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% observing the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% interv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4% respectful to the b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% respectful to the 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77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8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0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2" dur="77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5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600"/>
                            </p:stCondLst>
                            <p:childTnLst>
                              <p:par>
                                <p:cTn id="8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0440" y="523800"/>
            <a:ext cx="69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What are the major observations of American resear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4520" y="1628640"/>
            <a:ext cx="7771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lly-victim c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y” and “victim”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tatic groups of ro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dyadic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The problem is mu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omplex than the categor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ichotomo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lly or victim dyadic patte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 Relevant for understanding the motivations of  students involved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evention programs.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77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3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5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7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7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8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9220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5480" y="1125360"/>
            <a:ext cx="84132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inition of bul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Subset of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Proactive form of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Direct and indirect forms of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Repeated exposure to negativ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 Different position of participants in the power structure of 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d-theory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77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4" dur="77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6" dur="77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8" dur="77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77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5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7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9" dur="77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77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6" dur="77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8" dur="77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0" dur="77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77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7" dur="77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9" dur="77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2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2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60360" y="1484280"/>
            <a:ext cx="3819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sessment of bul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Self-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Peer no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Teacher no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Behavioral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77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7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9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1" dur="77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5320" y="1628640"/>
            <a:ext cx="80096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iewing bullying from a Social-Ecologic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Bullying is not an individual devian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Bullying is the result of a complex interplay between the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is/her environment (peers, family, school atmosphere, society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77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4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6" dur="77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42840" y="1773360"/>
            <a:ext cx="496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nk you for your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ilakoszeghy@g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026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6633"/>
                </a:solidFill>
                <a:latin typeface="Franklin Gothic Demi"/>
              </a:rPr>
              <a:t>Tanári attitűd-vizsgálatok </a:t>
            </a:r>
            <a:br>
              <a:rPr sz="4200"/>
            </a:br>
            <a:r>
              <a:rPr b="0" lang="hu-HU" sz="4200" spc="-1" strike="noStrike">
                <a:solidFill>
                  <a:srgbClr val="006633"/>
                </a:solidFill>
                <a:latin typeface="Franklin Gothic Demi"/>
              </a:rPr>
              <a:t>az iskolai zaklatás kutatásban</a:t>
            </a:r>
            <a:br>
              <a:rPr sz="4200"/>
            </a:br>
            <a:r>
              <a:rPr b="0" lang="hu-HU" sz="42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58920" y="2852280"/>
            <a:ext cx="58546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mic Sans MS"/>
              </a:rPr>
              <a:t>Kőszeghy Att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mic Sans MS"/>
              </a:rPr>
              <a:t>attilakoszeg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 Black"/>
              </a:rPr>
              <a:t>KFRTK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 Black"/>
              </a:rPr>
              <a:t>Debrec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73800" y="33336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ggressive behavi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97640" y="1720800"/>
            <a:ext cx="40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Proactive (instrumental)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0880" y="17733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Arial"/>
              </a:rPr>
              <a:t>Reactive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4000" y="328464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Directed at a victim </a:t>
            </a: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to obtain a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outcome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(eg. property, power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5800" y="2997360"/>
            <a:ext cx="392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Directed at a victim </a:t>
            </a:r>
            <a:r>
              <a:rPr b="1" lang="hu-HU" sz="1800" spc="-1" strike="noStrike">
                <a:solidFill>
                  <a:srgbClr val="006633"/>
                </a:solidFill>
                <a:latin typeface="Arial"/>
              </a:rPr>
              <a:t>as a result of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6633"/>
                </a:solidFill>
                <a:latin typeface="Arial"/>
              </a:rPr>
              <a:t>aversive event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that elicited anger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frustration in the perpet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3080" y="465300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BUL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479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836640"/>
            <a:ext cx="2232000" cy="93672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900000" y="836640"/>
            <a:ext cx="1511280" cy="93672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2349360"/>
            <a:ext cx="2664000" cy="719280"/>
          </a:xfrm>
          <a:prstGeom prst="downArrowCallout">
            <a:avLst>
              <a:gd name="adj1" fmla="val 92601"/>
              <a:gd name="adj2" fmla="val 92593"/>
              <a:gd name="adj3" fmla="val 16667"/>
              <a:gd name="adj4" fmla="val 6666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349360"/>
            <a:ext cx="2305080" cy="574920"/>
          </a:xfrm>
          <a:prstGeom prst="downArrowCallout">
            <a:avLst>
              <a:gd name="adj1" fmla="val 100244"/>
              <a:gd name="adj2" fmla="val 100235"/>
              <a:gd name="adj3" fmla="val 16667"/>
              <a:gd name="adj4" fmla="val 6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6300720" y="4076280"/>
            <a:ext cx="719280" cy="1079640"/>
          </a:xfrm>
          <a:custGeom>
            <a:avLst/>
            <a:gdLst>
              <a:gd name="textAreaLeft" fmla="*/ 0 w 719280"/>
              <a:gd name="textAreaRight" fmla="*/ 719640 w 719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z iskolai zaklatás fogalma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 tanulóval zaklatás történik, illetve annak áldozata, ha ismételten, hosszú időn át negatív cselekményeknek van kitéve, amelyet egy vagy több más tanuló csinál(tat) vele.” (Olweus,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00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zaklató és áldozata között nincs hatalmi egyensúly, és a zaklatás ismétlődően történik.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Olweus,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00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Comic Sans MS"/>
              </a:rPr>
              <a:t>Az iskolai zaklatás kutatások megindulása  az USA-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vek ele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&gt;&gt;&gt;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skolai zaklatás kut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megindu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999 Columbine High 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Littleton, Colorado Álla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2800" spc="-1" strike="noStrike">
                <a:solidFill>
                  <a:srgbClr val="000000"/>
                </a:solidFill>
                <a:latin typeface="Arial Black"/>
              </a:rPr>
              <a:t>Media fókus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es év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&gt;&gt;&gt;&gt;&gt;&gt;&gt;&g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skolai zaklatás kutatá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ának robbanásszer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g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növeked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08720" y="2565360"/>
            <a:ext cx="187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3284640"/>
            <a:ext cx="976320" cy="774720"/>
          </a:xfrm>
          <a:prstGeom prst="rightArrow">
            <a:avLst>
              <a:gd name="adj1" fmla="val 50000"/>
              <a:gd name="adj2" fmla="val 315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93080" y="4005360"/>
            <a:ext cx="934920" cy="93492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9220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z iskolai zaklatás kutatása az USA-ban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[A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zaklató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s az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áldozat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statikus ellentétpárok, hanem – ahogy azt az amerikai kutatás már bizonyította (Espelage, Bosworth, Simon, 2000.) –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olyan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ét szélsőérték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amely mentén számos szerep képzelhető el, melyek közül más-más szituációkban más-más szerep jut - gyakran ugyan annak a személynek is.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es becslések szerint a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mai amerikai iskolások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özül ezen szerepek valamelyike – zaklató, áldozat, zaklató-áldozat - a tanulók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közel 30%-át érintheti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Nansel, Overpeck, Pilla, Ruan, Simmons-Morton, Scheidt, 2001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Észreveszik-e a tanárok a zaklatást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svájci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óvodába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észült vizsgálat szerint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összhan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figyelhető meg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gyerekek és a pedagógusok által megfigyelt zaklatások száma közöt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Alsaker és Valkanover, 200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utatások nagyobbik hányada azonban úgy találja, hogy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anárok a zaklatás kisebb elterjedtségéről számolnak be, mint a diákok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 939 amerikai vidéki általános iskolással és 37 tanárral végzett vizsgálat szerint (Stockdale et al., 200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(bel)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árosi brit középiskolákba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észült felmérés szerint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iákok a 26%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elentette ki, hogy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ele már történ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hasonló, míg a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anárok ezt az értéket 5-10% körűlinek itélté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 (Pervin és Turner,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Jelentik-e a tanárok a zaklatást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merikai iskolákban a tanárok nem jelentették a zaklatásos eseteket,(még a 90-es években sem) me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999 előtt (lövöldözés a Columbine középiskolában) ez a probléma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nem került a a Média érdeklődésének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homlokteréb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diákok nem hajlandók beszámolni olyan esetekről, amikor a tanár nem volt jelen -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félve a zaklató megtorlásá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tó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tanárok – még akkor is, ha felismerik mértékét és jelentőségét – hezitálnak, hogy jelentsék-e, attól való félelmükben, hogy 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ez saját szakmai megitélésüket rontja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;                                     (Alsakev és Valkanover, 2001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6633"/>
                </a:solidFill>
                <a:latin typeface="Comic Sans MS"/>
              </a:rPr>
              <a:t>A tanárok zaklatás-fogal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18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tanárok zaklatás fogalma gyakran szűkebb, mint amit a kutatás indokolna, m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2060640"/>
            <a:ext cx="896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138 brit pedagógus (óvodától a középiskoláig) között végzett vizsgálat azt mutatja, hogy bár a zaklatás fizikai és verbális formáival tisztában voltak, nem tekintették viszont a zaklatás fajtájának a kiközösítést (Boulton, 199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116 kanadai pedagógusjelölt között végzett vizsgálat szerint inkább a fizikai támadást tekintik zaklatásnak, mint a szóbeli összetűzést, a kiközösítést pedig még kevésbé érzik a zaklatáshoz tartozónak, mint a szóbeli összetűzést;(Craig, Henderson és Murphy, 2000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71 brit középiskolai tanár között végzett felmérés szerint a megkérdezette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rtették a résztvevők hatalmi helyzetében való eltérés jelentőségét a zaklatásban, ismerték a zaklatás különböző fajtáit (fizikai, érzelmi,stb), de nem említették az ismétlődést mint döntő tényező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Siann, Callaghan és Lockhart,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6633"/>
                </a:solidFill>
                <a:latin typeface="Comic Sans MS"/>
              </a:rPr>
              <a:t>A tanár</a:t>
            </a:r>
            <a:r>
              <a:rPr b="0" lang="en-US" sz="3200" spc="-1" strike="noStrike">
                <a:solidFill>
                  <a:srgbClr val="006633"/>
                </a:solidFill>
                <a:latin typeface="Comic Sans MS"/>
              </a:rPr>
              <a:t>i szem</a:t>
            </a:r>
            <a:r>
              <a:rPr b="0" lang="hu-HU" sz="3200" spc="-1" strike="noStrike">
                <a:solidFill>
                  <a:srgbClr val="006633"/>
                </a:solidFill>
                <a:latin typeface="Comic Sans MS"/>
              </a:rPr>
              <a:t>élyiség és a zaklatá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13744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anárok személyisége befolyásoló tényező a zaklatás felismeréséb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2852640"/>
            <a:ext cx="896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+ Borg és Falzon(1989) kutatásai alapján a férfi tanárok hajlamosabbak komolynak tekinteni a zaklatá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+ Boulton (1997) szerint a női tanárok negatívabban állnak a zaklatátó viselkedéséhe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+ Craig és szerzőtársai (2000) úgy találták a 116 kanadai pedagógusjelölt között, hogy a több empátiával rendelkezők között nagyobb a valószínűsége, hogy azonosítják a zaklatásos helyzeteket és be is avatkozn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 zaklatók sajátosságai és felismerhetőségük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075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zaklatók életkori, etnikai sajátosságai is befolyásolhatják a zaklatás felismerhetőségé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7840" y="2389320"/>
            <a:ext cx="822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 Leff és szerzőtársai (1999) úgy találták, h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 kisiskolás korú zaklatók jobban felismerhető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 (a mi fogalmaink szerinti) a felsős zaklató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 ugyanezen tanulmányból kitűnik, hogy a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merikai tanároknak könnyebb felismer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z af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-amerikai zaklatóka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2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277920"/>
            <a:ext cx="8002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6633"/>
                </a:solidFill>
                <a:latin typeface="Comic Sans MS"/>
              </a:rPr>
              <a:t>Az attitűd vizsgálatok szerep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072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 iskolai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személyzet attitűdjeinek megértése nem jelenti automatikusan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hogy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értjük viselkedésüket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08200" y="3665520"/>
            <a:ext cx="73641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ttitűdök vizsgálata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és értékelé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gy szükséges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első lépés a megelőz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programok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meg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tervezéséb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Holt és Keyes,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7600" y="696960"/>
            <a:ext cx="23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Black"/>
              </a:rPr>
              <a:t>What is bully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95480" y="164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21040" y="170028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erson is bullied/victimized if he/sh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89160" y="234936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peated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rough a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39640" y="328464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ut to nega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600" y="42210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e vict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s not provoking (the bully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ot ”reacting” to sg previously do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6160" y="4076640"/>
            <a:ext cx="424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e vict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annot defend him/he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 the power structure of 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971280" y="2060640"/>
            <a:ext cx="431640" cy="20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2060640"/>
            <a:ext cx="2808360" cy="2016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77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Egy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állambeli felméré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"/>
          <p:cNvSpPr/>
          <p:nvPr/>
        </p:nvSpPr>
        <p:spPr>
          <a:xfrm>
            <a:off x="241560" y="1700280"/>
            <a:ext cx="75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vizsgálat 18 Wisconsin állambeli iskola tanáraira és telj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emélyzetére terjedt 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2781360"/>
            <a:ext cx="896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vizsgálat célja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zaklatással kapcsolatos-iskolai klímát befolyásoló- attitűdök felméré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a nyílt rosszindul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pcsolatos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it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űdök felméré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a sokszínű értékek elfogadásának mérték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z iskolai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abá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gállapításának gyakorl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Egy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állambeli felméré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"/>
          <p:cNvSpPr/>
          <p:nvPr/>
        </p:nvSpPr>
        <p:spPr>
          <a:xfrm>
            <a:off x="370080" y="907920"/>
            <a:ext cx="876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észtvevők összetétele: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összesen: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7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ő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pedagógus és pedagógus assziszten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emek szeri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 nő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76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1 férf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 fő nem adta meg a nemé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tnikai hovatartozás szeri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95,4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hér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1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ázsia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,6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latin eredetű [Hispanic]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,3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evert etnikumú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0,1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o-amerika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2,6%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[21 fő] nem jelezte etnikai hovatartozásá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égzettség szerin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gt; érettség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valamennyi középiskola utáni iskola diploma nélkül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community colleg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(4 éves) főiskolai diploma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egyetemi félévek, diploma nélkül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egyetemi diploma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doktori fokozat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&gt; nem adta meg a végzettségét: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9" dur="2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2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5" dur="2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8" dur="2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20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6" dur="20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2000"/>
                                        <p:tgtEl>
                                          <p:spTgt spid="2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2000"/>
                                        <p:tgtEl>
                                          <p:spTgt spid="2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2000"/>
                                        <p:tgtEl>
                                          <p:spTgt spid="2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2000"/>
                                        <p:tgtEl>
                                          <p:spTgt spid="2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2000"/>
                                        <p:tgtEl>
                                          <p:spTgt spid="2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2000"/>
                                        <p:tgtEl>
                                          <p:spTgt spid="21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2000"/>
                                        <p:tgtEl>
                                          <p:spTgt spid="2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395280" y="189000"/>
          <a:ext cx="8209080" cy="6342120"/>
        </p:xfrm>
        <a:graphic>
          <a:graphicData uri="http://schemas.openxmlformats.org/drawingml/2006/table">
            <a:tbl>
              <a:tblPr/>
              <a:tblGrid>
                <a:gridCol w="4924440"/>
                <a:gridCol w="765000"/>
                <a:gridCol w="863640"/>
                <a:gridCol w="709920"/>
                <a:gridCol w="946080"/>
              </a:tblGrid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ő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etér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gyetér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 ért eg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gy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rt egy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szekálás nem ártal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 egy diákot szekálnak, a többiek ezt leállitjá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diákokat ebben az iskolában bevonják a szabályok megalkotásába és a problémák megoldásá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felnőttek itt rendszerint leállítják azt a diákot, aki a másik diákra sértő megjegyzéseket tes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nek az iskolának a tanári kara ki van arra képezve, hogy szakszerűen beavatkozzon, ha diák diákot zakl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n leállítom, ha valaki viccelődve vagy más módon tesz etnikai alapú megjegyzé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zisztematikus módon vezettük be a multikulturális oktatá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fogadnám a biszexuális, homoszexuális fiú és lány tanulókat ebben az iskolába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 iskolai adminisztrátorok támogatják a tanárokat abban, hogy zaklatás mentes legyen az isko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áttam olyan tanárokat, akik viccet csináltak abból, ahogy egy diák jár, vagy kinéz, vagy csinál dolgok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"/>
          <p:cNvSpPr/>
          <p:nvPr/>
        </p:nvSpPr>
        <p:spPr>
          <a:xfrm>
            <a:off x="401400" y="148428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7% gondolja, hogy „egy kis szekálás nem ár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7% hiszi azt, hogy a diákok nem avatkoznak be a zaklatások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2708280"/>
            <a:ext cx="78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3% véli, hogy a felnőttek beavatkoznának az etnikai alapú sértegetésekb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4% mondja, hogy ő maga állítana le etnikai tartalmú vicc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" y="4221000"/>
            <a:ext cx="79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5% fogadná el biszexuális és homoszexuális diákok jelenlétét az iskolá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ár koráb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6% állította, hogy vannak olyan tanárok, akik viccet csinálnak diák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nézetéből, s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2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"/>
          <p:cNvSpPr/>
          <p:nvPr/>
        </p:nvSpPr>
        <p:spPr>
          <a:xfrm>
            <a:off x="331200" y="1557360"/>
            <a:ext cx="852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gazságo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11 pontja vonatkozott az igazságosságra (pl „a tanárok igazságo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ítélnek”), vagy szabály alkotásra (pl. „a diákokat bevonják az iskolai szabály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állapításáb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llenség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10 pontja vonatkozott ellenséges motívumokra (pl. „a tanár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gúnyolják a homoszexuális tanulóka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yitott a sokféleség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5 pontja vonatkozott a diák sokszínűség elfogadásá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pl. „a fogyatékkal élő diákok gyakran tehetségesek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/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jlandó a beavatkozásr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zsgálat 2 pontja vonatkozott arra, hogy a tanárok beavatkoznának-e, h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akadályozzák, hogy sértő viccek elhangozza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6720" y="1052640"/>
            <a:ext cx="76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* négy attitűd fajtát állapítottak meg a vizsgálatok eredményekép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2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20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20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20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20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20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20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2000" fill="hold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2000" fill="hold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2000" fill="hold"/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2000" fill="hold"/>
                                        <p:tgtEl>
                                          <p:spTgt spid="2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2000" fill="hold"/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2000" fill="hold"/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"/>
          <p:cNvSpPr/>
          <p:nvPr/>
        </p:nvSpPr>
        <p:spPr>
          <a:xfrm>
            <a:off x="474840" y="981000"/>
            <a:ext cx="61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attitűd fajták korrelációja a különböző iskolatipusokk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hol a pedagógusok dolgozt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1773360"/>
            <a:ext cx="736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\ ált.isk. alsó tagozat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óvodától az 5 osztályi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lementary scho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\ ált.isk. felső tagozat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6.-8. osztályi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middle scho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\ középiskola 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9-12. osztályi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high schoo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9240" y="2708280"/>
            <a:ext cx="69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Jelentős a különb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„Igazságo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és a „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jlandó a beavatkozásra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ategóriák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ntézmény tipusok közöt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utatkozot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4160" y="4292640"/>
            <a:ext cx="820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ülönbség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„Igazságo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Ellensége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yitott a sokféleségre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é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jlandó a beavatkozásra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ategóriákban a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yes 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ntézmény tipusok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l mutatkoznak.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78487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Wisconsin-i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felmérés</a:t>
            </a:r>
            <a:r>
              <a:rPr b="0" lang="en-US" sz="2800" spc="-1" strike="noStrike">
                <a:solidFill>
                  <a:srgbClr val="1a264c"/>
                </a:solidFill>
                <a:latin typeface="Comic Sans MS"/>
              </a:rPr>
              <a:t> n</a:t>
            </a:r>
            <a:r>
              <a:rPr b="0" lang="hu-HU" sz="2800" spc="-1" strike="noStrike">
                <a:solidFill>
                  <a:srgbClr val="1a264c"/>
                </a:solidFill>
                <a:latin typeface="Comic Sans MS"/>
              </a:rPr>
              <a:t>éhány eredmény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"/>
          <p:cNvSpPr/>
          <p:nvPr/>
        </p:nvSpPr>
        <p:spPr>
          <a:xfrm>
            <a:off x="825840" y="1484280"/>
            <a:ext cx="731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z attitűd fajtákat korrelációja a pedagógusok nemé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Nincs jelentős különb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ttitűd fajták között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ülönböző nemű pedagógusok esetében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Tanári attitűd-vizsgálatok az iskolai zaklatás kutatásban</a:t>
            </a:r>
            <a:br>
              <a:rPr sz="2400"/>
            </a:b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"/>
          <p:cNvSpPr/>
          <p:nvPr/>
        </p:nvSpPr>
        <p:spPr>
          <a:xfrm>
            <a:off x="1802880" y="1916280"/>
            <a:ext cx="507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Black"/>
              </a:rPr>
              <a:t>Köszönöm a figyelme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81480" y="3213000"/>
            <a:ext cx="32148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omic Sans MS"/>
              </a:rPr>
              <a:t>Kőszeghy Att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ttilakoszeg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Black"/>
              </a:rPr>
              <a:t>KFRTK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bre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77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6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8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0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3150"/>
                            </p:stCondLst>
                            <p:childTnLst>
                              <p:par>
                                <p:cTn id="15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4800"/>
                            </p:stCondLst>
                            <p:childTnLst>
                              <p:par>
                                <p:cTn id="15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5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5550"/>
                            </p:stCondLst>
                            <p:childTnLst>
                              <p:par>
                                <p:cTn id="15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02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Tanári attitűd-vizsgálatok az iskolai zaklatás kutatásban</a:t>
            </a:r>
            <a:br>
              <a:rPr sz="2400"/>
            </a:b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"/>
          <p:cNvSpPr/>
          <p:nvPr/>
        </p:nvSpPr>
        <p:spPr>
          <a:xfrm>
            <a:off x="355320" y="1197000"/>
            <a:ext cx="8782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Felhasznált iro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saker, F.D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Valkanover,S. (2001), Early diagnosis and preven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timization in kindergarten. In J.Juvonen &amp; S. Graham (Eds.)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rassment in schools: The plight of the vulnerable and vic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175-195), New York: The Guilford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g, M.G. &amp; Falzon, J.M.(1989). Primary school teachers’ perception of pupil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sirable behaviours. Educational Studies, 15. 251-2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lton, M.J. (1997). Teachers’ views on bullying:Definitions, attitud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cope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itish Journal of Educational Psychology, 6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223-23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ig, W. M., Henderson, K. &amp; Murphy, J. G.(2000). Prospective teachers’ 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ward bullying and victimization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ool Psychology Interna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1.5-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lage, D.L., Bosworth,K. &amp; Simon,T.R.(2000). Examining the context of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 in early adolescence. Journal of Counseling and Development,7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-33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t, M.K. &amp; Keyes, M.A.(2004). Teachers’ Attitudes Toward Bullying. In D.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elage, &amp; S.M.Swearer (Eds.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llying in American School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hwah,N.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rence Erlbaum Associates, Publis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2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Tanári attitűd-vizsgálatok az iskolai zaklatás kutatásban</a:t>
            </a:r>
            <a:br>
              <a:rPr sz="2400"/>
            </a:br>
            <a:r>
              <a:rPr b="0" lang="hu-HU" sz="24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"/>
          <p:cNvSpPr/>
          <p:nvPr/>
        </p:nvSpPr>
        <p:spPr>
          <a:xfrm>
            <a:off x="215640" y="1125360"/>
            <a:ext cx="892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Felhasznált irodalom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foly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f, S.S., Kupersmidt, J.B., Patterson, C.J., &amp; Power, T.J. (1999) Factors infl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identification of peer bullies and victim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ool Psychology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. 505-5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nsel, T.R., Overpeck, M., Pilla, R.S., Ruan, W.J. Simons-Morton, B. &amp; Scheidt,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1). Bullying behaviors among among US youth: Prevale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with psychosocial adjustment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urnal of the American Me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oci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85. 2094-2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weus, D. (2001). Peer Harassment:A critical analysis and some important issues.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.Juvonen &amp; S. Graham (Eds.), Peer harassment in schools: The pligh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lnerable and the victimized (pp.3-20). New York: The Guilford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vin, K. &amp; Turner, A. (1994).An investigation into staff and pupil knowledge, 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liefs about bullying in an inner city school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toral Care in Edu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, 16-2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ann,G., Callaghan, M., &amp; Lockhart, R. (1993). Bullying: Teachers’ views and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s. Educational Studies, 19, 307-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dale, M.S. et al.(2002). Rural elementary students’, parents’, and teacher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ption of bullyin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erican Journal of Health Behav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6, 266-27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87520" y="43164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 Black"/>
              </a:rPr>
              <a:t>Roles in a bull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60680" y="149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hu-HU" sz="1800" spc="-1" strike="noStrike">
                <a:solidFill>
                  <a:srgbClr val="000000"/>
                </a:solidFill>
                <a:latin typeface="Arial Black"/>
              </a:rPr>
              <a:t>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2760" y="292428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 Black"/>
              </a:rPr>
              <a:t>vic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3160" y="2205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hu-HU" sz="1800" spc="-1" strike="noStrike">
                <a:solidFill>
                  <a:srgbClr val="000000"/>
                </a:solidFill>
                <a:latin typeface="Arial Black"/>
              </a:rPr>
              <a:t>y-st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781200" cy="761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908000" y="2060640"/>
            <a:ext cx="781200" cy="780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443640" y="907920"/>
            <a:ext cx="374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2880" y="5493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ul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83240" y="1484280"/>
            <a:ext cx="14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ggre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3240" y="22050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ully-vict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6160" y="29242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vict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44720" y="3429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0360" y="1341360"/>
            <a:ext cx="432000" cy="897120"/>
          </a:xfrm>
          <a:prstGeom prst="rightArrowCallout">
            <a:avLst>
              <a:gd name="adj1" fmla="val 51921"/>
              <a:gd name="adj2" fmla="val 51917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2781360"/>
            <a:ext cx="503280" cy="609480"/>
          </a:xfrm>
          <a:prstGeom prst="rightArrowCallout">
            <a:avLst>
              <a:gd name="adj1" fmla="val 30278"/>
              <a:gd name="adj2" fmla="val 30275"/>
              <a:gd name="adj3" fmla="val 16667"/>
              <a:gd name="adj4" fmla="val 66667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32720" y="836280"/>
            <a:ext cx="360360" cy="1079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804000" y="1700280"/>
            <a:ext cx="57636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04000" y="2349360"/>
            <a:ext cx="576360" cy="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2565360"/>
            <a:ext cx="432000" cy="432000"/>
          </a:xfrm>
          <a:prstGeom prst="line">
            <a:avLst/>
          </a:prstGeom>
          <a:ln w="12600">
            <a:solidFill>
              <a:srgbClr val="008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9440" y="3665520"/>
            <a:ext cx="139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id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look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2160" y="90792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enfor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9640" y="402444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nd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ath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39640" y="1268280"/>
            <a:ext cx="1440000" cy="865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637000"/>
            <a:ext cx="287280" cy="1079280"/>
          </a:xfrm>
          <a:prstGeom prst="line">
            <a:avLst/>
          </a:prstGeom>
          <a:ln w="507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2637000"/>
            <a:ext cx="1871640" cy="136836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26920" y="1420920"/>
            <a:ext cx="789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87280" y="2997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1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Franklin Gothic Demi"/>
              </a:rPr>
              <a:t>Az iskolai zaklatás kutatása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Franklin Gothic Demi"/>
              </a:rPr>
              <a:t>az Amerikai Egyesült Államokba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32360" y="3284280"/>
            <a:ext cx="338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Britannic Bold"/>
              </a:rPr>
              <a:t>Kőszeghy Att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 Black"/>
              </a:rPr>
              <a:t>KFRTK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78160" y="277560"/>
            <a:ext cx="137016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1523880" cy="4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97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28800" y="685800"/>
            <a:ext cx="762120" cy="485640"/>
          </a:xfrm>
          <a:prstGeom prst="rightArrow">
            <a:avLst>
              <a:gd name="adj1" fmla="val 50000"/>
              <a:gd name="adj2" fmla="val 3923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07480" y="76212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omic Sans MS"/>
              </a:rPr>
              <a:t>Daniel Olweus alapkutatásai az iskolai zaklatásokr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2133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2057400"/>
            <a:ext cx="1218960" cy="485640"/>
          </a:xfrm>
          <a:prstGeom prst="rightArrow">
            <a:avLst>
              <a:gd name="adj1" fmla="val 50000"/>
              <a:gd name="adj2" fmla="val 62750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59600" y="1981080"/>
            <a:ext cx="617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norvég kormány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elindít egy oly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iskolai zaklatá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megelőző programo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amelyben minden általános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és középiskola részt ve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600" y="342900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0-es é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3429000"/>
            <a:ext cx="838080" cy="485640"/>
          </a:xfrm>
          <a:prstGeom prst="rightArrow">
            <a:avLst>
              <a:gd name="adj1" fmla="val 50000"/>
              <a:gd name="adj2" fmla="val 4314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60400" y="3352680"/>
            <a:ext cx="48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z iskolai zaklatás tárgykörében végze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rikai (US) kutatások megindul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20" y="508464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-es év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68360" y="5157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5013360"/>
            <a:ext cx="4756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z iskolai zaklatás tárgykörében végze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merikai (US) kutatások száma 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agyságrenddel megn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1520" y="1332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34920" y="1255680"/>
            <a:ext cx="537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árom norvég tizenéves öngyilkosságot követ el 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őket ért iskolai zaklatások mi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152388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5160" y="4419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45480" y="4267080"/>
            <a:ext cx="63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erikai titkosszolgálati jelentés: 1974 és 2000 közötti iskol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övöldözők 71 %-a volt áldozata iskolai zaklatás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838080" y="4572000"/>
            <a:ext cx="1600200" cy="7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500"/>
                            </p:stCondLst>
                            <p:childTnLst>
                              <p:par>
                                <p:cTn id="17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384120"/>
            <a:ext cx="874872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992: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J.H. Hoover, R. Oliver, R.J. Haz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Iskolai zaklatás: tizenéves áldozatok a közép-nyugati államokba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hu-HU" sz="2100" spc="-1" strike="noStrike">
                <a:solidFill>
                  <a:srgbClr val="000000"/>
                </a:solidFill>
                <a:latin typeface="Times New Roman"/>
              </a:rPr>
              <a:t>School Psychology International.13, 5-16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80" y="3505320"/>
            <a:ext cx="92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A megkérdezett tizenéves diákok (ált. iskolai felsős- és középiskolai osztályokbó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8680" y="4267080"/>
            <a:ext cx="602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88%-a látott már zaklatást iskolai pályafutása sorá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5105520"/>
            <a:ext cx="744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77%-a nyilatkozott úgy, hogy áldozata volt már ilyen zaklatás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8" dur="indefinite" restart="never" nodeType="tmRoot">
          <p:childTnLst>
            <p:seq>
              <p:cTn id="1709" dur="indefinite" nodeType="mainSeq">
                <p:childTnLst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06616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209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994: G.M. Batsche és H.M. Kno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Zaklatók és áldozataik: egy kiterjedt iskolai probléma megértéséhez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School Psychology Review, 23, 165-175.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29800" y="3357720"/>
            <a:ext cx="68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Az iskolai zaklatás az erőszak kiterjedt fajtája az iskolák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8520" y="3933720"/>
            <a:ext cx="70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A kutatásnak fel kell tárnia a kapcsolatot az iskolai zaklatás 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05800" y="450864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z iskola atmoszférá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32720" y="5157720"/>
            <a:ext cx="48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 diákok tanulmányi teljesítménye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1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84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60436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997: S.P.Limber et 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Zaklatás az iskolások között: egy prevenciós program kutatását megelőző állapotok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Fifth Annual International Family Violence Research Conference, 1997 June, Durham, NH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6720" y="4292640"/>
            <a:ext cx="84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megkérdezett 4-6. osztályos tanulók  25%-a vett részt egy másik tanul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zaklatásában a megkérdezést megelőző három hónap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63480" y="47160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Types of bul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7440" y="12682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cc"/>
                </a:solidFill>
                <a:latin typeface="Arial"/>
              </a:rPr>
              <a:t>Physical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57080" y="45813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9900"/>
                </a:solidFill>
                <a:latin typeface="Arial"/>
              </a:rPr>
              <a:t>Rel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11960" y="429264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9900"/>
                </a:solidFill>
                <a:latin typeface="Arial"/>
              </a:rPr>
              <a:t>ign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80320" y="48690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9900"/>
                </a:solidFill>
                <a:latin typeface="Arial"/>
              </a:rPr>
              <a:t>ex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3600" y="551664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9900"/>
                </a:solidFill>
                <a:latin typeface="Arial"/>
              </a:rPr>
              <a:t>gossi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76280"/>
            <a:ext cx="151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pu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sho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ki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h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69440" y="2852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Verba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2708280"/>
            <a:ext cx="208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threa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        </a:t>
            </a: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name-cal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6633"/>
                </a:solidFill>
                <a:latin typeface="Arial"/>
              </a:rPr>
              <a:t>tea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240" y="170028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cc"/>
                </a:solidFill>
                <a:latin typeface="Arial"/>
              </a:rPr>
              <a:t>Direct (overt)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440" y="342900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9900"/>
                </a:solidFill>
                <a:latin typeface="Arial"/>
              </a:rPr>
              <a:t>Indirect (covert) ag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492360" y="1628640"/>
            <a:ext cx="935280" cy="21600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492000" y="1915920"/>
            <a:ext cx="574920" cy="86508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476000" y="3860640"/>
            <a:ext cx="1150920" cy="720720"/>
          </a:xfrm>
          <a:prstGeom prst="line">
            <a:avLst/>
          </a:prstGeom>
          <a:ln w="3168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77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0728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iskolai zaklatások elterjedtsége az USA-ba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290520" y="285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9320" y="1197000"/>
            <a:ext cx="85564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001: T.R.Nansel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Iskolai zaklatás és erőszak összefüggés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Arial"/>
              </a:rPr>
              <a:t>az amerikai fiatalokná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Journal of American Medical Association, 285, 2094-2100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39040" y="3573360"/>
            <a:ext cx="852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gkérdezett 15 686 tizenéves diák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29,9%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a nyilatkozott úgy, h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gyakran részes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lyen cselekményeknek;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13% zaklató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nt (bully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10,6% áldoza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nt(victim), míg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6,3% mindkét szerepbe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bully-victi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0" dur="indefinite" restart="never" nodeType="tmRoot">
          <p:childTnLst>
            <p:seq>
              <p:cTn id="1771" dur="indefinite" nodeType="mainSeq">
                <p:childTnLst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2458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Definíció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9440" y="21272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zakla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75840" y="2786040"/>
            <a:ext cx="68482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&gt;&gt;</a:t>
            </a:r>
            <a:r>
              <a:rPr b="0" lang="hu-H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szabb i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őszakon á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smétlődőe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olyik olyan valaki 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ki nem tudja megvédeni ma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z adott szituációb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. Roland, E. Munthe (eds.),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A zaklatásról: nemzetközi ki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int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don: David Fulton Publishers, 1989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33800" y="4297320"/>
            <a:ext cx="7398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z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ssz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ó proaktív formáj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amelyben az elkövetőnek nin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üksége olyan előzményre, amellyel az áldozat „kiprovokál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„kiérdemli”) azt, ami vele történi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.A. Dodge,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A reaktív és proaktív agresszió szerkezete és funkció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 Pepler és Rubin (eds.) A gyermekkori agresszió kialakulása és kezelés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illsdale,N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rlba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199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6" dur="indefinite" restart="never" nodeType="tmRoot">
          <p:childTnLst>
            <p:seq>
              <p:cTn id="1787" dur="indefinite" nodeType="mainSeq">
                <p:childTnLst>
                  <p:par>
                    <p:cTn id="1788" fill="hold">
                      <p:stCondLst>
                        <p:cond delay="0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het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sz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ó közvetlen és\vagy közvetett fajtája;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özvetlen agresszi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zaklató és áldozata közötti közvetlen fizikai (pl. ütés, rúgás, lökdösés, stb.) és\vagy verbális (pl. csúfolás, bosszantás,stb.) kontaktus; a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özvetett agresszió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agában foglal egy (vagy több) harmadik személyt, akin keresztül a zaklató pletyka, csúfnév, stb. terjesztésével követi el a zaklatá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hu-H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.R. Crick,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apcsolati agresszió: a szándék felismerés, a depresszió, és a provokatív típus szere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Development and Psychopathology,7,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5) 31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22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686448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akla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ó-áldozat k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87280" y="242100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elenség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m a zaklató – áldozat statikus ellentét-pár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épez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em e két szélsőérték közötti haladvány mentén számos lehetsé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áció feltételezhet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40560" y="3521160"/>
            <a:ext cx="79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lentős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kell távolodni a korábbi felfogástó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ely szerint a diá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 része rendszeresen áldozatává teszi diáktársait, mint „zaklató”, mí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ok, ennek kárvallottaiként „áldozatok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14360" y="4600440"/>
            <a:ext cx="74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gyis megkülönböztethetün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„zaklatót”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ully),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gresszív zaklató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ggressive bully),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zaklató-áldozato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(bully-victim),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áldozato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 (vict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még számos egyéb verzió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6193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zakla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s vizsgálatának módszere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39920" y="263700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iákok közvetlen megkérdezésével (egy listából kell kiválaszt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okat a viselkedésformákat, amelyek a zaklatót jellemzi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90320" y="3521160"/>
            <a:ext cx="68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diákok kapnak egy leírást a zaklatásról, ezután kell kitölteniü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érdőív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8360" y="1844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\ Önbeszámol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9" dur="indefinite" restart="never" nodeType="tmRoot">
          <p:childTnLst>
            <p:seq>
              <p:cTn id="1830" dur="indefinite" nodeType="mainSeq">
                <p:childTnLst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\ A tanár\diák-társ által meghatározott zakla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5640" y="5229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zemélyiségjogi és etikai problémákat implik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2205000"/>
            <a:ext cx="777708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lójában az ált. isk. alsó osztályaiban alkalmazható, ahol  a tanár szorosabb kapcsolatban van a diákokkal, a diákok nem cserélnek csoportot és tanárt, a megfigyelés lehetősége a tanár számára folyamatos,stb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.J. Boulton,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Tanári nézetek a zaklatásról – a megbirkózás képessége: definíciók és attitűdö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ritish Journal of Educational Psychology,67,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) 22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14716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\ A zaklató meghatározása megfigyelt viselkedés alapj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7600" y="1628640"/>
            <a:ext cx="789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. videóval játszótéren, osztályteremben (stb.) rögzített viselkedé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3720" y="2133720"/>
            <a:ext cx="820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anadai gyermekek iskolaudvari viselkedését 6 éven át követő vizsgálatokb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derült pl. h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4320" y="2852640"/>
            <a:ext cx="43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85% vett részt zaklatásos jelenetekb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2160" y="321300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30% aktív résztvevőké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03960" y="3573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23% megfigyelőké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3600" y="400536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12% beavatkozóké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7760" y="4508640"/>
            <a:ext cx="61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kérdezettek 74%-a elismerően vélekedett zaklatóró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3%-a együttérzett az áldozat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5157720"/>
            <a:ext cx="842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W.M. Craig, D.J. Pepler.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Zaklatás és viktimizáció megfigyelése egy iskolaudvar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Canadian Journal of School Psychology, 13. (1997) 41-59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850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pcsolati agres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4320" y="1773360"/>
            <a:ext cx="8124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gyományosan a férfi nemet tekintik  az agresszívebb nemnek; 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sko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iúk több agresszivitást mutatna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vizsgálatok szeri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.D. Coie és K.A. Dodge.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„Agresszió és antiszociális magatartás”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in N. Eisenber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Handbook of Child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.3. New York: Wiley, 1998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7560" y="4221000"/>
            <a:ext cx="88614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apcsolati agresszió olyan „viselkedési formákat jelent, amelyek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zándéko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örekednek egy gyermek barátságait tönkretenni, a közösségbe tartozás érzés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erombolni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.R. Crick és J.K.Grotpeter.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apcsolati agresszió és a nemek: szociálpszichológia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pontosítás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.”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Child Development, 66. (1995) 71ö-72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0280" y="3068640"/>
            <a:ext cx="85474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indirekt/kapcsolati agresszió olyan „társadalmi manipuláció, amely célpontjá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ttételes módon támad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. Oesterman et al.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„A női indirekt agresszió kultúraközi bizonyítékai”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ggressive Behavior, 24 (1998) 1-8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184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91 3-6. osztályos tanulót vizsgáltak egy 19 tételből álló kérdősorral, a tanulók ítéletei alapján négy csoportot állítottak fel, amelyekre jellemző a(z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512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27960" y="278136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Kapcsolati agress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3440" y="27813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yílt agress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34880" y="27813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indkett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735960" y="278136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* Agresszíó hiá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07600" y="378936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cs szignifiká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ülönb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7800" y="400536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úk 15,6%-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ányok 4%-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75240" y="400536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úk 2%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ányo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,4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0600" y="5489640"/>
            <a:ext cx="82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.R. Crick és J.K.Grotpeter.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Kapcsolati agresszió és a nemek: szociálpszichológia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pontosítás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.”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Child Development, 66. (1995) 71ö-72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308720" y="3141720"/>
            <a:ext cx="216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26920" y="3213000"/>
            <a:ext cx="43200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19640" y="3213000"/>
            <a:ext cx="0" cy="79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500"/>
                            </p:stCondLst>
                            <p:childTnLst>
                              <p:par>
                                <p:cTn id="19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z amerikai kutatások főbb irányai és felismerése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jövőbeli kutatások (lehetséges) irány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9640" y="234936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utatás módszertanának sokoldalúvá tét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7560" y="4508640"/>
            <a:ext cx="80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yermekek viselkedését befolyásoló rendszerek (család, korcsoport, isko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zsgálatának továbbfejlesz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9200" y="3645000"/>
            <a:ext cx="64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fejlődéslélektani különbségek fokozottabb figyelembevéte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7400" y="299736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elenség fogalmainak további pontosí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7" dur="indefinite" restart="never" nodeType="tmRoot">
          <p:childTnLst>
            <p:seq>
              <p:cTn id="2018" dur="indefinite" nodeType="mainSeq">
                <p:childTnLst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15880" y="398520"/>
            <a:ext cx="45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w did research on bullying st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4320" y="1268280"/>
            <a:ext cx="62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e0363"/>
                </a:solidFill>
                <a:latin typeface="Arial"/>
              </a:rPr>
              <a:t>Daniel Olweu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Norway) coined the term ”mobbing” in 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81440" y="206064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n individual or a group of individu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arassing, teasing, pesterin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their 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66320" y="3521160"/>
            <a:ext cx="69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1982 three 14-year-old boys committed suicide for being extrem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harassed by class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3800" y="4941720"/>
            <a:ext cx="72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Ministry of Education in Norwa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launched a national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gainst bullying in 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63640" y="1844640"/>
            <a:ext cx="1871640" cy="360360"/>
          </a:xfrm>
          <a:prstGeom prst="line">
            <a:avLst/>
          </a:prstGeom>
          <a:ln w="63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77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9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3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77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77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8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2" dur="77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76000" y="1341360"/>
            <a:ext cx="5545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orte"/>
              </a:rPr>
              <a:t>Köszönöm a figyelmet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64000" y="3213000"/>
            <a:ext cx="54100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őszeghy Atti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attilakoszegh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@gmail.com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431964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9280" y="54900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osworth et al. „</a:t>
            </a:r>
            <a:r>
              <a:rPr b="1" i="1" lang="hu-HU" sz="1600" spc="-1" strike="noStrike">
                <a:solidFill>
                  <a:srgbClr val="000000"/>
                </a:solidFill>
                <a:latin typeface="Arial"/>
              </a:rPr>
              <a:t>Zaklatásos viselkedéssel kapcsolatos tényezők a felső tagozatos diákok esetében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ournal of Early Adolescence, 19. (1999) 341-36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1760" y="1773360"/>
            <a:ext cx="8259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. Olweus.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Zaklatás az iskolában: hosszútávú következmények az áldoz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Esetében – egy hatékony megelőző program az iskolák számára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L. Huesmann (ed.),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ggressive Behavior: Current Perspectives,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ew York: Plenum, 199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76560" y="2997360"/>
            <a:ext cx="8765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wartz et al. „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z iskolai zaklatások agresszív áldozatainak korai szocializációj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hild Development 68. (1997) 665-67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70880" y="3860640"/>
            <a:ext cx="84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.T. Slee. „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 kortárs viktimizáció és kapcsolata a depresszióval az ausztráli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általános iskolások körében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ersonality and Individual Differences, 18. (1995) 57-6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4520" y="5229360"/>
            <a:ext cx="850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olberg és Olweus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Az iskolai zaklatás elterjedtségének vizsgálata az Olweus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féle Zaklató-áldozat kérdőív segítségév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ggressive Behavior, 26, (2003)239-268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7" dur="indefinite" restart="never" nodeType="tmRoot">
          <p:childTnLst>
            <p:seq>
              <p:cTn id="2048" dur="indefinite" nodeType="mainSeq">
                <p:childTnLst>
                  <p:par>
                    <p:cTn id="2049" fill="hold">
                      <p:stCondLst>
                        <p:cond delay="0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z iskolai zaklatás kutatása Nagy-Britanniában és az Egyesült Államokban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őszeghy Att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irmai Er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FRTKF Debre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zaklatás fogalm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az erőszakos cselekedet, amelynek során az egyén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smétlődően, hosszabb időn á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tárgya egy másik személy vagy személyek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negatív cselekede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inek,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szándéko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testi vagy lelki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bántalmazá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ának fizikailag, szavakkal vagy más módon”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Olweus: Peer harassment 2001:5-6)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szisztematikus hatalmi abúzus”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Smith és Sharp: School bullying. Insights and perspectives. Routledge, 1994: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indenütt megtalálható elem a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bántás szándék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, az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smétlőd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és az interperszonális kapcsolatokat jellemző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egyenlőtlen hatalmi viszonyo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résztvevők közöt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. Kezdeti kutatások Nagy-Britanniába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ő irányok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1 A jelenség vizsgál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zaklatás gyakorisága: eltérő kategóriák (gyakoriság, áttekintett időtartam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zaklatások fajtái: leginkább direkt, fizikai zaklatás ábrázolód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zereplők típusai: zaklató- áldozat-néz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Kezdeti kutatások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Hatáselemzések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gatív hatás az áldozat önértékelésére</a:t>
            </a:r>
            <a:r>
              <a:rPr b="0" lang="hu-HU" sz="3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oulton, M. J., Smith, P. K.: Zaklató-áldozat problémák felsőtagozatosok körében.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British Journal of Developmental Psycholog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12, (1994), 315-329 p.,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oncentrációra és a tanulásr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Sharp, S., Smith, P.K.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 zaklatás kezelése az iskolába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 London: Routledge (199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tresszel kapcsolatos szimptómá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fejfájás, rémálmok), iskolafóbi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Sharp és Smith 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Kezdeti kutatások - hatáselemzések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osszú távon: alacsony önbecsülés, depresszió, öngyilkosság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Slee, P.T.:Kortársi viktimizációs szorongás  szituációs és interperszonális összefüggései.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Child Psychiatry and Human Developme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25, (1994) 97-107 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zaklatótól való elmenekülés az áldozat részéről visszahúzódó deviáns szerepre szocializál: az ilyen fiúk felnőttkori kapcsolataikban is gyakran küzdenek szégyellősséggel, kapcsolatkialakítási problémákkal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Gilmartin, B. G.: Férfiak súlyos szégyellős viselkedésének kortárs csoportbeli előzményei.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Journal of Personalit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55/3, (1987) 467-488 p.198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zdeti kutatások Nagy-Britanniáb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1.2. intervenciós lehetőségek, problémakezel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intézkedések a tanulói / iskolai biztonság érdekéb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1.2.1. állami intézkedése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örvényi szabályozás: 1999-től minden iskolának rendelkeznie kell zaklatásellenes politikával, melyet évente legalább egyszer a teljes iskolaközösség számára közzé kell ten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roblémakezelő csomagok kifejlesztése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fES Anti-Bullying Pack 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kidolgozott anyagok használatbavétele, értékelése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fES Anti-Bullying Pack 1997 Surv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Kezdeti kutatások – intervenciós törekvések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1.2 szakmai és társadalmi szervezetek, szövetségek létrejötte és elterjedés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.2.1 Anti-Bullying Association, Kidscape, Bullying Online, Childline: saját felmérések, kutatások és problémakezelő eljárások kifejlesztése, rendezvények: Anti-Bullying Week, ifjúsági konferenciá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.2.2 rendőrségi tevékenysé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1.2.3 önkormányzati intézkedések: helyi konferencia, családsegítő program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I. Későbbi kutatások</a:t>
            </a:r>
            <a:br>
              <a:rPr sz="38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kutatások irányainak kiterjesztés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1. a korábbi kategóriák kiegészítés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szereplő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: a </a:t>
            </a:r>
            <a:r>
              <a:rPr b="0" i="1" lang="hu-HU" sz="3000" spc="-1" strike="noStrike">
                <a:solidFill>
                  <a:srgbClr val="000000"/>
                </a:solidFill>
                <a:latin typeface="Arial"/>
              </a:rPr>
              <a:t>zaklató/áldozat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(bully/victim) kategóriája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(a brit oktatási minisztérium (DfES 1997) adata: az áldozatok 20%-a zaklató áldoza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zaklatási típuso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hu-HU" sz="3000" spc="-1" strike="noStrike">
                <a:solidFill>
                  <a:srgbClr val="000000"/>
                </a:solidFill>
                <a:latin typeface="Arial"/>
              </a:rPr>
              <a:t>verbális és kapcsolati –társas zaklatás, homofób zaklatás, cyberbullying / elektronikus zaklat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87520" y="542880"/>
            <a:ext cx="58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w did research on bullying start in the U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73960" y="1576440"/>
            <a:ext cx="74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search on school bullying in the USA --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hu-HU" sz="1800" spc="-1" strike="noStrike">
                <a:solidFill>
                  <a:srgbClr val="ff0000"/>
                </a:solidFill>
                <a:latin typeface="Arial"/>
              </a:rPr>
              <a:t>ate 198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s, early 199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51160" y="2655720"/>
            <a:ext cx="70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999 &gt;&gt;&gt; school shooting at Columbine High School, Colo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8680" y="3521160"/>
            <a:ext cx="70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 Secret 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ort on school shooters (between 1974-200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commonality among 41 school shoo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03120" y="4456080"/>
            <a:ext cx="58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1% had been a target of a bully earlier in their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48960" y="5176800"/>
            <a:ext cx="78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arly 2000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a proliferation of research in the field of school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77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77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77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77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77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Későbbi kutatások: a kutatások irányainak kiterjesztése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 A zaklatások összefüggéseinek vizsgálat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2.1 A zaklatás és az érzelmek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kapcsolatában két nézet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. a zaklatás oka a szociális információfeldolgozás deficitje (pl. az áldozatokból hiányzik az asszertivitás szociális készsége, kevéssé tapasztaltak a szociális interakcióban)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Dodge, K.A.: Szociális kogníció és gyermekkori agresszív viselkedés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hild Development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51, (1980) 162-170 p. 19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. a bántalmazók gyakorlott manipulátorok, felismerik mások érzéseit, de nem hajlandóak / képtelenek együttérzésre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utton J., Smith. P.K. , Swettenham J.: Szociális kogníció és a zaklatás:szociális elégtelenség vagy gyakorlott manipulálás?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British Journal of Developmenta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17, (1999) 435-450 p.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199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A zaklatások összefüggéseinek vizsgálata 2.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Életkor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s a zaklatás típu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sebb gyerekek inkább fizikai zaklatásban vesznek rés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dősebbek már verbális és kapcsolati zaklatásban mutatnak nagyobb arányokat (fejlettebb szociális készség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és a zaklatás gyakoriság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ktimizáció az életkor előrehaladtával csökk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zaklatás gyakorisága nem változi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hitney, I., Smith, P.K.: A zaklatás természetének és elterjedtségének vizsgálata általános és középiskolában. Educational Research, 35, 3-25 p. (199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incs semmilyen változá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Johnson, H. R., Thompson, M. J. J., Wilkonson, S., Walsh, L., Balding, J., Wright, V.: Zaklatásnak kitéve: Tanári jelentések általános iskolás gyerekek proszociális viselkedésében jelentkező érzelmi problémáiról, hiperaktivitásáról, kapcsolati nehézségeiről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Educationa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22, (2002), 553-556 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3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1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Nem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fiúk körében gyakoribb a fizikai bántalmazá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lke, D., Stanford,K.: Iskolai zaklatás. D. Messer és S.Millar (szerk.) Fejlődéslélektan. London:Arnold.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lányokra inkább a verbális és kapcsolati bántalmazás jellemző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általában gyakoribb a nemen belüli bántalmazá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.4 </a:t>
            </a:r>
            <a:r>
              <a:rPr b="1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Szociális háttér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általában alacsony a korreláció a zaklató és társadalmi háttere között, ugyanakkor valószínűbb az alacsonyabb jövedelmű családi hátterű gyerekek zaklatása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ods, S., Wolke, D.: és Direkt és kapcsolati zaklatás általános iskolások között és a tanulmányi eredmény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Journal of Schoo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ume 42, Issue 2, March-April 2004, 135-155 p.:149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ugyanakkor ok lehet a zaklatásra az is, ha egy gyerek drága holmit birtokol (márkás mobiltelefon, stb.)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DfES Survey 19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5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Családi háttér, szülői magatartá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ülői figyelemhiány jelentősen hozzájárul zaklató viselkedés kialakulásához – fiúk és lányok között egyaránt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Flouri, E., Buchanan A.: Az anyai és apai figyelem szerepe a serdülőkorúak zaklató viselkedésében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Journal of Interpersonal Violenc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18 (6): 634-644 Jun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túlzott anyai védelmező  magatartás gyakran fordul elő az áldozat családjában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Hawker, D. S. J., Boulton, M. J.: A kortárs zaklatás és pszichoszociális beilleszkedési zavarok húsz évnyi kutatása.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Journal of Child Psychiatry and Psychiatr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41, 441-455 p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6633"/>
                </a:solidFill>
                <a:latin typeface="Garamond"/>
              </a:rPr>
              <a:t>A zaklatások összefüggéseinek vizsgálata 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5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6 </a:t>
            </a:r>
            <a:r>
              <a:rPr b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Iskolai teljesítmény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2. osztályosoknál nem volt kimutatható kapcsolat a tanulmányi teljesítmény és a direkt zaklatás között. Negyedik osztályosoknál a kapcsolati zaklatók szignifikánsan jobban teljesítettek tanulmányi munkájukban „jó képességű gyerekek rendelkeznek olyan szociális készségekkel, melyekkel kapcsolatokat tudnak manipulálni”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Woods és Wolke 2004:1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</a:t>
            </a: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6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7 Iskolai környeze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kis létszámú osztályokban és kisebb iskolákban gyakoribb a zaklatás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lke, D., Woods, S., Bloomfield, L. and Karstadt, L.:általános iskolai zaklatás és gyakori egészségügyi problémák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rchives of Disease in Childhood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85, (2001) 197-201 p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8 Lakóhely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vidéki iskolákban több a zaklatási eset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Wolke et al. 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 u="sng">
                <a:solidFill>
                  <a:srgbClr val="000000"/>
                </a:solidFill>
                <a:uFillTx/>
                <a:latin typeface="Arial"/>
              </a:rPr>
              <a:t>2.9 Másság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.9.1 Rivers 2004-es retrospektív vizsgálatában szereplő 60 leszbikus, homoszexuális, biszexuális megkérdezett állította, hogy szexuális orientációja miatt bántalmazták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Rivers, I.: Visszatekintés iskolai zaklatásra és hosszú távú hatásuk leszbikusok, homoszexuális férfiak és biszexuálisok életére. Crisis 25 (2004) 169-175 p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6633"/>
                </a:solidFill>
                <a:latin typeface="Garamond"/>
              </a:rPr>
              <a:t>A zaklatások összefüggéseinek vizsgálata </a:t>
            </a: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7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2.9.2 Hugh-Jones és Smith (1999) vizsgálata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dadogó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on: 276 résztvevő retrospektív vizsgálata: gyakori bántalmazás, kapcsolati nehézségek a dadogás miatt iskoláskorban; rövid- és hosszútávú negatív hatások a tanulmányi előmenetelre, de elsődlegesen a személyes kapcsolatok, az önbecsülés és a depresszió területein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Hugh-Jones, S. &amp; Smith, P.K.: Dadogó gyerekek önbeszámolói a zaklatás rövid- és hosszútávú hatásairól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ritish Journal of Educational Psycholog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69, (1999) 141-158 p.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3. A zaklatás rövidebb és hosszabb távú hatásainak vizsgálat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A munkahelyi és az iskolai zaklatás kapcsol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munkahelyi zaklatás legnagyobb kockázatának az iskolai zaklató-áldozatok vannak kitéve, őket követik az áldozati szerepűek.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mith, P.K., Singer M., Hoel H., Cooper C.l.. Viktimizáció az iskolában és a munkahelyen: Van kapcsolat?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British Journal of Psychology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2003) 175-188 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4. Kutatási módszerek fejlesztése, finomítása, kiterjesztés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A kérdőívek pontosítása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4.1.1 </a:t>
            </a: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a fogalom értelmezésének kutatása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anárok: átfogóbb értelmezé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gyerekek: inkább csak a fizikai és verbális bántalmazást értik alatta, a fogalom értelmezésébe alig veszik be a kiközösítést, a hatalmi egyenlőtlenséget, valamint a bántás szándékát sem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Naylor, P., Cowie, H., Cossin, F., De Bettencourt, R., Lemme, F.: Tanárok és diákok zaklatás-meghatározásai.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ritish Journal of Educational Psycholog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; Sep 2006, Vol 76 Issue 3, 553-576 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Kutatási módszerek fejlesztése, finomítása, kiterjesztése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4. 1. 2 </a:t>
            </a:r>
            <a:r>
              <a:rPr b="0" lang="hu-HU" sz="3400" spc="-1" strike="noStrike" u="sng">
                <a:solidFill>
                  <a:srgbClr val="000000"/>
                </a:solidFill>
                <a:uFillTx/>
                <a:latin typeface="Arial"/>
              </a:rPr>
              <a:t>kérdőív –fejlesztési ajánlások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fogalmi tisztázás, példák megadása, a gyakorisági kategóriák egységesítése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Ortega, R.; Mora-Merchán, J.A.; Singer, M.; Smith, P.K.; Pereira, B.&amp; Menesini, E.: A zaklatást vizsgáló kérdőívek és nominációs módszer munkacsoport zárójelentése. Seville meeting: TMR Network Project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0" lang="hu-HU" sz="3400" spc="-1" strike="noStrike" u="sng">
                <a:solidFill>
                  <a:srgbClr val="000000"/>
                </a:solidFill>
                <a:uFillTx/>
                <a:latin typeface="Arial"/>
              </a:rPr>
              <a:t>Más kutatási módszerekkel való kiegészítés: 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interjúk, jelentés más személyről, megfigyelé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3720" y="379440"/>
            <a:ext cx="67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ow much is bullying pervasive in American schoo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920" y="1557360"/>
            <a:ext cx="76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.H. Hoover, R. Oliver, R.J. Hazl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llying: Perceptions of adolescent victims in the Midwestern USA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chool Psychology International.13, 5-1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6560" y="3141720"/>
            <a:ext cx="63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ior high and high school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% &gt; reported to have observed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7% &gt; reported to have been a victim of 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77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6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8" dur="77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5. Nemzetközi komparatív vizsgálatok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Kutatócsoportok alakítá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TMR Network: brit, spanyol, portugál és német kutatók részvételével vizsgálatok több területen, eseti együttműködések, mérés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000000"/>
                </a:solidFill>
                <a:uFillTx/>
                <a:latin typeface="Arial"/>
              </a:rPr>
              <a:t>Kultúrák közötti összehasonlítás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Woods, S., Wolke, D.: és Direkt és kapcsolati zaklatás általános iskolások között és a tanulmányi eredmény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Journal of School Psycholog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ume 42, Issue 2, March-April 2004, 135-155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slea, M., Menesini, E., Morita, Y., O’Moore, M., Mora-Merchán, J. A., Pereira, B., Smith, P.K.: Barátság és magányosság zaklatók és áldozatok körében: Adatok hét országból.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gressive Behaviour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, Vol 30, 71-83 p. (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4000" spc="-1" strike="noStrike">
                <a:solidFill>
                  <a:srgbClr val="000000"/>
                </a:solidFill>
                <a:latin typeface="Comic Sans MS"/>
              </a:rPr>
              <a:t>Köszönjük a figyelme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irmai Er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szirmai</a:t>
            </a: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@kfrtkf.h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őszeghy Atti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ilakoszeghy@gmail.com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7280" y="549360"/>
            <a:ext cx="84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.M. Batsc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H.M. Kno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ullies and their victims:Understanding a pervasive problem in the school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School Psychology Review, 23, 165-17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96760" y="2638440"/>
            <a:ext cx="777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ullying 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a pervasive form of viol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schools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research has to find out about the relationship between bully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ademic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77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6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8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0" dur="77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77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7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9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1" dur="77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560"/>
                            </p:stCondLst>
                            <p:childTnLst>
                              <p:par>
                                <p:cTn id="7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8:21:10Z</dcterms:created>
  <dc:creator>Felhasználó</dc:creator>
  <dc:description/>
  <dc:language>en-US</dc:language>
  <cp:lastModifiedBy>MeiJF</cp:lastModifiedBy>
  <dcterms:modified xsi:type="dcterms:W3CDTF">2009-03-23T13:31:36Z</dcterms:modified>
  <cp:revision>45</cp:revision>
  <dc:subject/>
  <dc:title>Az iskolai zaklatás kutatása Nagy-Britanniában és az Egyesült Államokban</dc:title>
</cp:coreProperties>
</file>