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60B7-5AEF-4297-9734-18B80F7BD5AD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Wiscons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4DB4-7E14-46A8-95BF-D2EF3EED4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A188-1CE2-420C-A677-DA08F02D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5E02-EE17-498D-A11F-109AFE291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F547-4BAF-4F16-9699-C59B06B8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B8A7-157E-435C-8BE2-F1ED7EC17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5711-1726-4E90-9E67-9802CA91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1C69-418A-401D-A9BC-3996F6DF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F47E-0DC1-4FE6-8BE5-DFD70478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E5AC-3235-40A0-A577-99ED322E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5577-2F74-4ECE-A1B2-6134AC00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87CD-05B7-4E96-9CC9-A2ADFC11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E90D-011E-468B-9C5C-558255C4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BF8C-002D-4676-93AC-DE8598D5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3381-149D-47AC-B41D-A171A024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F958-5240-4D1A-8491-E8004B90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24EC-A9ED-4B43-AB57-190F6E47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1DF0-C0BF-4BD8-8821-4FCCDBB2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EEFE-E6BE-4438-A6CA-FCE64A66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227C-C23B-4A63-BBF3-3CF23544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1545-DD50-464A-88DE-4615939E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6E41-82A1-4299-9CD0-647B7DA3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F624-EBDD-4B48-BD91-B85A04B8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FE58-7D1B-4E2D-AE36-D4D41B6D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F7F2-D482-487D-A3EC-EBC34197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FA7D-A283-45E6-BE25-3EA5395F67B8}" type="slidenum">
              <a:rPr b="0" lang="hu-H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624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FF97-386C-44CF-B722-0F94F59CD914}" type="slidenum">
              <a:rPr b="0" lang="hu-H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3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hyperlink" Target="mailto:szirmai@kfrtkf.hu" TargetMode="External"/><Relationship Id="rId2" Type="http://schemas.openxmlformats.org/officeDocument/2006/relationships/hyperlink" Target="mailto:szirmai@kfrtkf.hu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13800" y="404640"/>
            <a:ext cx="776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6633"/>
                </a:solidFill>
                <a:latin typeface="Arial"/>
              </a:rPr>
              <a:t>School Bullying in the USA –</a:t>
            </a: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Arial"/>
              </a:rPr>
              <a:t>Problems, Research, Results in the 199</a:t>
            </a: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0s and 200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3440" y="3357720"/>
            <a:ext cx="766512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ATTILA KŐSZEG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Black"/>
              </a:rPr>
              <a:t>senior lecturer TE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ölcsey Ferenc Reformed Teacher Training 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Debrecen, Hung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19120" y="568440"/>
            <a:ext cx="8591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.P.Limber et al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ullying among school children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eliminary findings from a school/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rvention program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ifth Annual International Family Violence Research Conference, 1997 Ju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Durham, N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63720" y="3141720"/>
            <a:ext cx="615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% of students in Grade 4 through 6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mitted to bullying another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preceding 3 months.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77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3" dur="77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5" dur="77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7" dur="77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2000"/>
                            </p:stCondLst>
                            <p:childTnLst>
                              <p:par>
                                <p:cTn id="7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2" dur="8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4" dur="8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79120" y="639720"/>
            <a:ext cx="736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.R.Nansel et al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Bullying behaviors among US youth: Prevalance and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with psychosocial adjustm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Journal of American Medical Association, 285, 2094-2100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12920" y="2800440"/>
            <a:ext cx="6810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urveyed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15 686 students in Grade 6 through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ross the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29,9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port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quent involvement in 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13%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10,6%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icti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6,3%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ully-vict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3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6400"/>
                            </p:stCondLst>
                            <p:childTnLst>
                              <p:par>
                                <p:cTn id="7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08400" y="404640"/>
            <a:ext cx="69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W.M. Craig, D.J. Pepler (19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bservations of bullying and victimization in the schoolyar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anadian Journal of School Psychology, 13. 41-59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5440" y="1773360"/>
            <a:ext cx="8219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eotap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ggressive and socially compete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ldren in Grade 1 through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yground of a Canadian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% were involved in bully epis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% active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% observing the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% interv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4% respectful to the bu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% respectful to the vic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1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2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77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8" dur="77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0" dur="77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2" dur="77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7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4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5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600"/>
                            </p:stCondLst>
                            <p:childTnLst>
                              <p:par>
                                <p:cTn id="8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0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1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60440" y="523800"/>
            <a:ext cx="69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What are the major observations of American resear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4520" y="1628640"/>
            <a:ext cx="7771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ully-victim continu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y” and “victim” a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static groups of ro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 dyadic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The problem is muc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complex than the categor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ichotomou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lly or victim dyadic patte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 Relevant for understanding the motivations of  students involved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revention programs.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7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9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77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3" dur="77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5" dur="77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7" dur="77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2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1" dur="8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2" dur="8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dur="8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6" dur="8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7" dur="8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8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92200" y="49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5480" y="1125360"/>
            <a:ext cx="841320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finition of bull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 Subset of ag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 Proactive form of ag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 Direct and indirect forms of 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 Repeated exposure to negative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 Different position of participants in the power structure of th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ind-theory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77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4" dur="77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6" dur="77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8" dur="77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77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5" dur="77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7" dur="77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9" dur="77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77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6" dur="77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8" dur="77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0" dur="77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77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7" dur="77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9" dur="77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20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20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60360" y="1484280"/>
            <a:ext cx="3819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ssessment of bull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Self-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Peer no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Teacher no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Behavioral 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77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7" dur="77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9" dur="77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1" dur="77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35320" y="1628640"/>
            <a:ext cx="80096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iewing bullying from a Social-Ecological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Bullying is not an individual deviant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Bullying is the result of a complex interplay between the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his/her environment (peers, family, school atmosphere, society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77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2" dur="77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4" dur="77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6" dur="77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842840" y="1773360"/>
            <a:ext cx="49676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ank you for your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ilakoszeghy@g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3026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6633"/>
                </a:solidFill>
                <a:latin typeface="Franklin Gothic Demi"/>
              </a:rPr>
              <a:t>Tanári attitűd-vizsgálatok </a:t>
            </a:r>
            <a:br>
              <a:rPr sz="4200"/>
            </a:br>
            <a:r>
              <a:rPr b="0" lang="hu-HU" sz="4200" spc="-1" strike="noStrike">
                <a:solidFill>
                  <a:srgbClr val="006633"/>
                </a:solidFill>
                <a:latin typeface="Franklin Gothic Demi"/>
              </a:rPr>
              <a:t>az iskolai zaklatás kutatásban</a:t>
            </a:r>
            <a:br>
              <a:rPr sz="4200"/>
            </a:br>
            <a:r>
              <a:rPr b="0" lang="hu-HU" sz="4200" spc="-1" strike="noStrike">
                <a:solidFill>
                  <a:srgbClr val="006633"/>
                </a:solidFill>
                <a:latin typeface="Franklin Gothic Demi"/>
              </a:rPr>
              <a:t>az Amerikai Egyesült Államokb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58920" y="2852280"/>
            <a:ext cx="58546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omic Sans MS"/>
              </a:rPr>
              <a:t>Kőszeghy Att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attilakoszegh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@g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 Black"/>
              </a:rPr>
              <a:t>KFRTK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 Black"/>
              </a:rPr>
              <a:t>Debrec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73800" y="33336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ggressive behavi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97640" y="1720800"/>
            <a:ext cx="40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cc"/>
                </a:solidFill>
                <a:latin typeface="Arial"/>
              </a:rPr>
              <a:t>Proactive (instrumental) ag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0880" y="177336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6633"/>
                </a:solidFill>
                <a:latin typeface="Arial"/>
              </a:rPr>
              <a:t>Reactive ag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4000" y="3284640"/>
            <a:ext cx="42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Directed at a victim </a:t>
            </a:r>
            <a:r>
              <a:rPr b="1" lang="hu-HU" sz="1800" spc="-1" strike="noStrike">
                <a:solidFill>
                  <a:srgbClr val="0000cc"/>
                </a:solidFill>
                <a:latin typeface="Arial"/>
              </a:rPr>
              <a:t>to obtain a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cc"/>
                </a:solidFill>
                <a:latin typeface="Arial"/>
              </a:rPr>
              <a:t>outcome </a:t>
            </a: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(eg. property, power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5800" y="2997360"/>
            <a:ext cx="392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Directed at a victim </a:t>
            </a:r>
            <a:r>
              <a:rPr b="1" lang="hu-HU" sz="1800" spc="-1" strike="noStrike">
                <a:solidFill>
                  <a:srgbClr val="006633"/>
                </a:solidFill>
                <a:latin typeface="Arial"/>
              </a:rPr>
              <a:t>as a result of 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6633"/>
                </a:solidFill>
                <a:latin typeface="Arial"/>
              </a:rPr>
              <a:t>aversive event</a:t>
            </a: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 that elicited anger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frustration in the perpetra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3080" y="465300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BULL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479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836640"/>
            <a:ext cx="2232000" cy="93672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900000" y="836640"/>
            <a:ext cx="1511280" cy="93672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0000" y="2349360"/>
            <a:ext cx="2664000" cy="719280"/>
          </a:xfrm>
          <a:prstGeom prst="downArrowCallout">
            <a:avLst>
              <a:gd name="adj1" fmla="val 92601"/>
              <a:gd name="adj2" fmla="val 92593"/>
              <a:gd name="adj3" fmla="val 16667"/>
              <a:gd name="adj4" fmla="val 66667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2349360"/>
            <a:ext cx="2305080" cy="574920"/>
          </a:xfrm>
          <a:prstGeom prst="downArrowCallout">
            <a:avLst>
              <a:gd name="adj1" fmla="val 100244"/>
              <a:gd name="adj2" fmla="val 100235"/>
              <a:gd name="adj3" fmla="val 16667"/>
              <a:gd name="adj4" fmla="val 66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6300720" y="4076280"/>
            <a:ext cx="719280" cy="1079640"/>
          </a:xfrm>
          <a:custGeom>
            <a:avLst/>
            <a:gdLst>
              <a:gd name="textAreaLeft" fmla="*/ 0 w 719280"/>
              <a:gd name="textAreaRight" fmla="*/ 719640 w 71928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33"/>
                </a:solidFill>
                <a:latin typeface="Comic Sans MS"/>
              </a:rPr>
              <a:t>Az iskolai zaklatás fogalma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gy tanulóval zaklatás történik, illetve annak áldozata, ha ismételten, hosszú időn át negatív cselekményeknek van kitéve, amelyet egy vagy több más tanuló csinál(tat) vele.” (Olweus,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00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zaklató és áldozata között nincs hatalmi egyensúly, és a zaklatás ismétlődően történik.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(Olweus,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00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33"/>
                </a:solidFill>
                <a:latin typeface="Comic Sans MS"/>
              </a:rPr>
              <a:t>Az iskolai zaklatás kutatások megindulása  az USA-ban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9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-e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évek elej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&gt;&gt;&gt;&gt;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skolai zaklatás kutat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egindul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999 Columbine High 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Littleton, Colorado Állam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hu-HU" sz="2800" spc="-1" strike="noStrike">
                <a:solidFill>
                  <a:srgbClr val="000000"/>
                </a:solidFill>
                <a:latin typeface="Arial Black"/>
              </a:rPr>
              <a:t>Media fókus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es év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&gt;&gt;&gt;&gt;&gt;&gt;&gt;&gt;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skolai zaklatás kutat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ámának robbanásszer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g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növeked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08720" y="2565360"/>
            <a:ext cx="187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00720" y="3284640"/>
            <a:ext cx="976320" cy="774720"/>
          </a:xfrm>
          <a:prstGeom prst="rightArrow">
            <a:avLst>
              <a:gd name="adj1" fmla="val 50000"/>
              <a:gd name="adj2" fmla="val 315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93080" y="4005360"/>
            <a:ext cx="934920" cy="93492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92200" y="639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33"/>
                </a:solidFill>
                <a:latin typeface="Comic Sans MS"/>
              </a:rPr>
              <a:t>Az iskolai zaklatás kutatása az USA-ban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[A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zaklató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s az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áldozat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m statikus ellentétpárok, hanem – ahogy azt az amerikai kutatás már bizonyította (Espelage, Bosworth, Simon, 2000.) –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gy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olyan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ét szélsőérték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amely mentén számos szerep képzelhető el, melyek közül más-más szituációkban más-más szerep jut - gyakran ugyan annak a személynek is.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gyes becslések szerint a </a:t>
            </a: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mai amerikai iskolások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özül ezen szerepek valamelyike – zaklató, áldozat, zaklató-áldozat - a tanulók </a:t>
            </a: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közel 30%-át érinthetik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Nansel, Overpeck, Pilla, Ruan, Simmons-Morton, Scheidt, 2001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33"/>
                </a:solidFill>
                <a:latin typeface="Comic Sans MS"/>
              </a:rPr>
              <a:t>Észreveszik-e a tanárok a zaklatást?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 svájci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óvodába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készült vizsgálat szerint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összhang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figyelhető meg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gyerekek és a pedagógusok által megfigyelt zaklatások száma közöt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(Alsaker és Valkanover, 200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utatások nagyobbik hányada azonban úgy találja, hogy a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anárok a zaklatás kisebb elterjedtségéről számolnak be, mint a diákok,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l. 939 amerikai vidéki általános iskolással és 37 tanárral végzett vizsgálat szerint (Stockdale et al., 2002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 (bel)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árosi brit középiskolákba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készült felmérés szerint a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diákok a 26%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elentette ki, hogy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ele már történ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hasonló, míg a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anárok ezt az értéket 5-10% körűlinek itélté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. (Pervin és Turner,199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33"/>
                </a:solidFill>
                <a:latin typeface="Comic Sans MS"/>
              </a:rPr>
              <a:t>Jelentik-e a tanárok a zaklatást?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merikai iskolákban a tanárok nem jelentették a zaklatásos eseteket,(még a 90-es években sem) me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1999 előtt (lövöldözés a Columbine középiskolában) ez a probléma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nem került a a Média érdeklődésének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homlokteréb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diákok nem hajlandók beszámolni olyan esetekről, amikor a tanár nem volt jelen -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félve a zaklató megtorlásá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tó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tanárok – még akkor is, ha felismerik mértékét és jelentőségét – hezitálnak, hogy jelentsék-e, attól való félelmükben, hogy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ez saját szakmai megitélésüket rontja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;                                     (Alsakev és Valkanover, 2001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6633"/>
                </a:solidFill>
                <a:latin typeface="Comic Sans MS"/>
              </a:rPr>
              <a:t>A tanárok zaklatás-fogal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184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tanárok zaklatás fogalma gyakran szűkebb, mint amit a kutatás indokolna, m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9280" y="2060640"/>
            <a:ext cx="8964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138 brit pedagógus (óvodától a középiskoláig) között végzett vizsgálat azt mutatja, hogy bár a zaklatás fizikai és verbális formáival tisztában voltak, nem tekintették viszont a zaklatás fajtájának a kiközösítést (Boulton, 1997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116 kanadai pedagógusjelölt között végzett vizsgálat szerint inkább a fizikai támadást tekintik zaklatásnak, mint a szóbeli összetűzést, a kiközösítést pedig még kevésbé érzik a zaklatáshoz tartozónak, mint a szóbeli összetűzést;(Craig, Henderson és Murphy, 2000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71 brit középiskolai tanár között végzett felmérés szerint a megkérdezette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rtették a résztvevők hatalmi helyzetében való eltérés jelentőségét a zaklatásban, ismerték a zaklatás különböző fajtáit (fizikai, érzelmi,stb), de nem említették az ismétlődést mint döntő tényező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Siann, Callaghan és Lockhart, 199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6633"/>
                </a:solidFill>
                <a:latin typeface="Comic Sans MS"/>
              </a:rPr>
              <a:t>A tanár</a:t>
            </a:r>
            <a:r>
              <a:rPr b="0" lang="en-US" sz="3200" spc="-1" strike="noStrike">
                <a:solidFill>
                  <a:srgbClr val="006633"/>
                </a:solidFill>
                <a:latin typeface="Comic Sans MS"/>
              </a:rPr>
              <a:t>i szem</a:t>
            </a:r>
            <a:r>
              <a:rPr b="0" lang="hu-HU" sz="3200" spc="-1" strike="noStrike">
                <a:solidFill>
                  <a:srgbClr val="006633"/>
                </a:solidFill>
                <a:latin typeface="Comic Sans MS"/>
              </a:rPr>
              <a:t>élyiség és a zaklatá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13744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tanárok személyisége befolyásoló tényező a zaklatás felismeréséb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9280" y="2852640"/>
            <a:ext cx="896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+ Borg és Falzon(1989) kutatásai alapján a férfi tanárok hajlamosabbak komolynak tekinteni a zaklatá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+ Boulton (1997) szerint a női tanárok negatívabban állnak a zaklatátó viselkedéséhez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+ Craig és szerzőtársai (2000) úgy találták a 116 kanadai pedagógusjelölt között, hogy a több empátiával rendelkezők között nagyobb a valószínűsége, hogy azonosítják a zaklatásos helyzeteket és be is avatkozn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0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2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33"/>
                </a:solidFill>
                <a:latin typeface="Comic Sans MS"/>
              </a:rPr>
              <a:t>A zaklatók sajátosságai és felismerhetőségük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0755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zaklatók életkori, etnikai sajátosságai is befolyásolhatják a zaklatás felismerhetőségé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7840" y="2389320"/>
            <a:ext cx="822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+ Leff és szerzőtársai (1999) úgy találták, h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a kisiskolás korú zaklatók jobban felismerhetők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t (a mi fogalmaink szerinti) a felsős zaklató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+ ugyanezen tanulmányból kitűnik, hogy a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amerikai tanároknak könnyebb felismer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az af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-amerikai zaklatóka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2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9" dur="2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6" dur="2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2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2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20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2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2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6" dur="20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000" y="277920"/>
            <a:ext cx="800244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33"/>
                </a:solidFill>
                <a:latin typeface="Comic Sans MS"/>
              </a:rPr>
              <a:t>Az attitűd vizsgálatok szerepe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072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gy iskolai </a:t>
            </a: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személyzet attitűdjeinek megértése nem jelenti automatikusan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hogy </a:t>
            </a: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értjük viselkedésüket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i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08200" y="3665520"/>
            <a:ext cx="73641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attitűdök vizsgálata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és értékelé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gy szükséges </a:t>
            </a:r>
            <a:r>
              <a:rPr b="1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első lépés a megelőz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programok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meg</a:t>
            </a:r>
            <a:r>
              <a:rPr b="1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tervezéséb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Holt és Keyes,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2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2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7600" y="696960"/>
            <a:ext cx="23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Black"/>
              </a:rPr>
              <a:t>What is bully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95480" y="1647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21040" y="1700280"/>
            <a:ext cx="42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erson is bullied/victimized if he/she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89160" y="234936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repeated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hrough a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39640" y="328464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ut to nega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9600" y="422100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he victi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s not provoking (the bully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ot ”reacting” to sg previously do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6160" y="4076640"/>
            <a:ext cx="424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he victi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annot defend him/he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 the power structure of th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971280" y="2060640"/>
            <a:ext cx="431640" cy="2016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2060640"/>
            <a:ext cx="2808360" cy="2016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77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77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90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Egy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Wisconsin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állambeli felmérés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"/>
          <p:cNvSpPr/>
          <p:nvPr/>
        </p:nvSpPr>
        <p:spPr>
          <a:xfrm>
            <a:off x="241560" y="1700280"/>
            <a:ext cx="75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vizsgálat 18 Wisconsin állambeli iskola tanáraira és telj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zemélyzetére terjedt k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280" y="2781360"/>
            <a:ext cx="8964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vizsgálat célja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zaklatással kapcsolatos-iskolai klímát befolyásoló- attitűdök felméré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a nyílt rosszindul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pcsolatos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it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űdök felméré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a sokszínű értékek elfogadásának mérték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z iskolai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zabá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k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egállapításának gyakorl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2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2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2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2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20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Egy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Wisconsin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állambeli felmérés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"/>
          <p:cNvSpPr/>
          <p:nvPr/>
        </p:nvSpPr>
        <p:spPr>
          <a:xfrm>
            <a:off x="370080" y="907920"/>
            <a:ext cx="8765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Résztvevők összetétele: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összesen: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7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ő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pedagógus és pedagógus assziszten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nemek szerin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 nő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76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1 férf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23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 fő nem adta meg a nemé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tnikai hovatartozás szerin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95,4%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fehér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1%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ázsiai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0,6%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latin eredetű [Hispanic]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0,3%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evert etnikumú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0,1%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o-amerika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2,6%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[21 fő] nem jelezte etnikai hovatartozásá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égzettség szerin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gt; érettség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&gt; valamennyi középiskola utáni iskola diploma nélkül: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community college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(4 éves) főiskolai diploma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&gt; egyetemi félévek, diploma nélkül: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&gt; egyetemi diploma: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&gt; doktori fokozat: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&gt; nem adta meg a végzettségét: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 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3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4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9" dur="2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2" dur="20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5" dur="20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8" dur="20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3" dur="2000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6" dur="200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9" dur="2000"/>
                                        <p:tgtEl>
                                          <p:spTgt spid="2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2000"/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5" dur="2000"/>
                                        <p:tgtEl>
                                          <p:spTgt spid="2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2000"/>
                                        <p:tgtEl>
                                          <p:spTgt spid="2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1" dur="2000"/>
                                        <p:tgtEl>
                                          <p:spTgt spid="2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4" dur="2000"/>
                                        <p:tgtEl>
                                          <p:spTgt spid="2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2000"/>
                                        <p:tgtEl>
                                          <p:spTgt spid="21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395280" y="189000"/>
          <a:ext cx="8209080" cy="6342120"/>
        </p:xfrm>
        <a:graphic>
          <a:graphicData uri="http://schemas.openxmlformats.org/drawingml/2006/table">
            <a:tbl>
              <a:tblPr/>
              <a:tblGrid>
                <a:gridCol w="4924440"/>
                <a:gridCol w="765000"/>
                <a:gridCol w="863640"/>
                <a:gridCol w="709920"/>
                <a:gridCol w="946080"/>
              </a:tblGrid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ős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gyetér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gyetér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m ért egy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gy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rt egy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szekálás nem ártal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 egy diákot szekálnak, a többiek ezt leállitják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diákokat ebben az iskolában bevonják a szabályok megalkotásába és a problémák megoldásá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felnőttek itt rendszerint leállítják azt a diákot, aki a másik diákra sértő megjegyzéseket tes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nek az iskolának a tanári kara ki van arra képezve, hogy szakszerűen beavatkozzon, ha diák diákot zakl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n leállítom, ha valaki viccelődve vagy más módon tesz etnikai alapú megjegyzé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isztematikus módon vezettük be a multikulturális oktatá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fogadnám a biszexuális, homoszexuális fiú és lány tanulókat ebben az iskolába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 iskolai adminisztrátorok támogatják a tanárokat abban, hogy zaklatás mentes legyen az iskol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áttam olyan tanárokat, akik viccet csináltak abból, ahogy egy diák jár, vagy kinéz, vagy csinál dolgok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Wisconsin-i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felmérés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n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éhány eredménye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"/>
          <p:cNvSpPr/>
          <p:nvPr/>
        </p:nvSpPr>
        <p:spPr>
          <a:xfrm>
            <a:off x="401400" y="148428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7% gondolja, hogy „egy kis szekálás nem ár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7% hiszi azt, hogy a diákok nem avatkoznak be a zaklatások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4200" y="2708280"/>
            <a:ext cx="783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3% véli, hogy a felnőttek beavatkoznának az etnikai alapú sértegetésekb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4% mondja, hogy ő maga állítana le etnikai tartalmú vicc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8800" y="4221000"/>
            <a:ext cx="79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5% fogadná el biszexuális és homoszexuális diákok jelenlétét az iskoláb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ár koráb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6% állította, hogy vannak olyan tanárok, akik viccet csinálnak diák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nézetéből, s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2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2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2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2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Wisconsin-i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felmérés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n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éhány eredménye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"/>
          <p:cNvSpPr/>
          <p:nvPr/>
        </p:nvSpPr>
        <p:spPr>
          <a:xfrm>
            <a:off x="331200" y="1557360"/>
            <a:ext cx="8526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/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gazságo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izsgálat 11 pontja vonatkozott az igazságosságra (pl „a tanárok igazságos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ítélnek”), vagy szabály alkotásra (pl. „a diákokat bevonják az iskolai szabály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állapításáb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/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llenség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izsgálat 10 pontja vonatkozott ellenséges motívumokra (pl. „a tanár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gúnyolják a homoszexuális tanulóka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/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Nyitott a sokféleségr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izsgálat 5 pontja vonatkozott a diák sokszínűség elfogadásá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pl. „a fogyatékkal élő diákok gyakran tehetségesek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/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Hajlandó a beavatkozásr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izsgálat 2 pontja vonatkozott arra, hogy a tanárok beavatkoznának-e, h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akadályozzák, hogy sértő viccek elhangozzan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6720" y="1052640"/>
            <a:ext cx="76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* négy attitűd fajtát állapítottak meg a vizsgálatok eredményeképp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4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2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2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20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20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20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20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20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20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2000" fill="hold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2000" fill="hold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2000" fill="hold"/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2000" fill="hold"/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2000" fill="hold"/>
                                        <p:tgtEl>
                                          <p:spTgt spid="2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2000" fill="hold"/>
                                        <p:tgtEl>
                                          <p:spTgt spid="2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2000" fill="hold"/>
                                        <p:tgtEl>
                                          <p:spTgt spid="2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2000" fill="hold"/>
                                        <p:tgtEl>
                                          <p:spTgt spid="2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Wisconsin-i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felmérés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n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éhány eredménye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"/>
          <p:cNvSpPr/>
          <p:nvPr/>
        </p:nvSpPr>
        <p:spPr>
          <a:xfrm>
            <a:off x="474840" y="981000"/>
            <a:ext cx="61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z attitűd fajták korrelációja a különböző iskolatipusokk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hol a pedagógusok dolgozta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1773360"/>
            <a:ext cx="736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\ ált.isk. alsó tagozat (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óvodától az 5 osztályi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elementary schoo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\ ált.isk. felső tagozat (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6.-8. osztályi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middle schoo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\ középiskola (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9-12. osztályi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high schoo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9240" y="2708280"/>
            <a:ext cx="69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Jelentős a különb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„Igazságos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és a „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Hajlandó a beavatkozásra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ategóriák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ntézmény tipusok közöt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mutatkozot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4160" y="4292640"/>
            <a:ext cx="8204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ülönbség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„Igazságos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llenséges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Nyitott a sokféleségre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é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Hajlandó a beavatkozásra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ategóriákban az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gyes i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ntézmény tipusok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ül mutatkoznak.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5" dur="indefinite" restart="never" nodeType="tmRoot">
          <p:childTnLst>
            <p:seq>
              <p:cTn id="1456" dur="indefinite" nodeType="mainSeq">
                <p:childTnLst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1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4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277920"/>
            <a:ext cx="784872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Wisconsin-i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felmérés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n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éhány eredménye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" name=""/>
          <p:cNvSpPr/>
          <p:nvPr/>
        </p:nvSpPr>
        <p:spPr>
          <a:xfrm>
            <a:off x="825840" y="1484280"/>
            <a:ext cx="731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z attitűd fajtákat korrelációja a pedagógusok nemé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Nincs jelentős különb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attitűd fajták között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ülönböző nemű pedagógusok esetében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33"/>
                </a:solidFill>
                <a:latin typeface="Franklin Gothic Demi"/>
              </a:rPr>
              <a:t>Tanári attitűd-vizsgálatok az iskolai zaklatás kutatásban</a:t>
            </a:r>
            <a:br>
              <a:rPr sz="2400"/>
            </a:br>
            <a:r>
              <a:rPr b="0" lang="hu-HU" sz="2400" spc="-1" strike="noStrike">
                <a:solidFill>
                  <a:srgbClr val="006633"/>
                </a:solidFill>
                <a:latin typeface="Franklin Gothic Demi"/>
              </a:rPr>
              <a:t>az Amerikai Egyesült Államokban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"/>
          <p:cNvSpPr/>
          <p:nvPr/>
        </p:nvSpPr>
        <p:spPr>
          <a:xfrm>
            <a:off x="1802880" y="1916280"/>
            <a:ext cx="507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 Black"/>
              </a:rPr>
              <a:t>Köszönöm a figyelme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81480" y="3213000"/>
            <a:ext cx="321480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omic Sans MS"/>
              </a:rPr>
              <a:t>Kőszeghy Att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ttilakoszegh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g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 Black"/>
              </a:rPr>
              <a:t>KFRTK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ebrec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5" dur="77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6" dur="77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8" dur="77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0" dur="77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9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3150"/>
                            </p:stCondLst>
                            <p:childTnLst>
                              <p:par>
                                <p:cTn id="15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7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4800"/>
                            </p:stCondLst>
                            <p:childTnLst>
                              <p:par>
                                <p:cTn id="15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5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5550"/>
                            </p:stCondLst>
                            <p:childTnLst>
                              <p:par>
                                <p:cTn id="15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002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33"/>
                </a:solidFill>
                <a:latin typeface="Franklin Gothic Demi"/>
              </a:rPr>
              <a:t>Tanári attitűd-vizsgálatok az iskolai zaklatás kutatásban</a:t>
            </a:r>
            <a:br>
              <a:rPr sz="2400"/>
            </a:br>
            <a:r>
              <a:rPr b="0" lang="hu-HU" sz="2400" spc="-1" strike="noStrike">
                <a:solidFill>
                  <a:srgbClr val="006633"/>
                </a:solidFill>
                <a:latin typeface="Franklin Gothic Demi"/>
              </a:rPr>
              <a:t>az Amerikai Egyesült Államokban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"/>
          <p:cNvSpPr/>
          <p:nvPr/>
        </p:nvSpPr>
        <p:spPr>
          <a:xfrm>
            <a:off x="355320" y="1197000"/>
            <a:ext cx="87822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Felhasznált iro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lsaker, F.D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Valkanover,S. (2001), Early diagnosis and preventi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ctimization in kindergarten. In J.Juvonen &amp; S. Graham (Eds.)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rassment in schools: The plight of the vulnerable and vic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175-195), New York: The Guilford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g, M.G. &amp; Falzon, J.M.(1989). Primary school teachers’ perception of pupil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sirable behaviours. Educational Studies, 15. 251-26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lton, M.J. (1997). Teachers’ views on bullying:Definitions, attitudes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cope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itish Journal of Educational Psychology, 6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223-23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ig, W. M., Henderson, K. &amp; Murphy, J. G.(2000). Prospective teachers’ attit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ward bullying and victimization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chool Psychology Internat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1.5-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lage, D.L., Bosworth,K. &amp; Simon,T.R.(2000). Examining the context of 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havior in early adolescence. Journal of Counseling and Development,7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-33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t, M.K. &amp; Keyes, M.A.(2004). Teachers’ Attitudes Toward Bullying. In D.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lage, &amp; S.M.Swearer (Eds.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llying in American School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hwah,N.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wrence Erlbaum Associates, Publis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00244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33"/>
                </a:solidFill>
                <a:latin typeface="Franklin Gothic Demi"/>
              </a:rPr>
              <a:t>Tanári attitűd-vizsgálatok az iskolai zaklatás kutatásban</a:t>
            </a:r>
            <a:br>
              <a:rPr sz="2400"/>
            </a:br>
            <a:r>
              <a:rPr b="0" lang="hu-HU" sz="2400" spc="-1" strike="noStrike">
                <a:solidFill>
                  <a:srgbClr val="006633"/>
                </a:solidFill>
                <a:latin typeface="Franklin Gothic Demi"/>
              </a:rPr>
              <a:t>az Amerikai Egyesült Államokban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"/>
          <p:cNvSpPr/>
          <p:nvPr/>
        </p:nvSpPr>
        <p:spPr>
          <a:xfrm>
            <a:off x="215640" y="1125360"/>
            <a:ext cx="8922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Felhasznált irodalom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(foly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f, S.S., Kupersmidt, J.B., Patterson, C.J., &amp; Power, T.J. (1999) Factors influe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identification of peer bullies and victims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chool Psychology Re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. 505-5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nsel, T.R., Overpeck, M., Pilla, R.S., Ruan, W.J. Simons-Morton, B. &amp; Scheidt, 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01). Bullying behaviors among among US youth: Prevalenc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 with psychosocial adjustment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ournal of the American Med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oci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85. 2094-21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weus, D. (2001). Peer Harassment:A critical analysis and some important issues.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.Juvonen &amp; S. Graham (Eds.), Peer harassment in schools: The plight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ulnerable and the victimized (pp.3-20). New York: The Guilford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vin, K. &amp; Turner, A. (1994).An investigation into staff and pupil knowledge, attit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beliefs about bullying in an inner city school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storal Care in Edu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, 16-2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ann,G., Callaghan, M., &amp; Lockhart, R. (1993). Bullying: Teachers’ views and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s. Educational Studies, 19, 307-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dale, M.S. et al.(2002). Rural elementary students’, parents’, and teacher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ption of bullying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merican Journal of Health Behavi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6, 266-27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87520" y="43164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 Black"/>
              </a:rPr>
              <a:t>Roles in a bully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60680" y="149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0" lang="hu-HU" sz="1800" spc="-1" strike="noStrike">
                <a:solidFill>
                  <a:srgbClr val="000000"/>
                </a:solidFill>
                <a:latin typeface="Arial Black"/>
              </a:rPr>
              <a:t>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2760" y="292428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 Black"/>
              </a:rPr>
              <a:t>vict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3160" y="22050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0" lang="hu-HU" sz="1800" spc="-1" strike="noStrike">
                <a:solidFill>
                  <a:srgbClr val="000000"/>
                </a:solidFill>
                <a:latin typeface="Arial Black"/>
              </a:rPr>
              <a:t>y-sta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211640" y="2924280"/>
            <a:ext cx="781200" cy="761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140360" y="98100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908000" y="2060640"/>
            <a:ext cx="781200" cy="780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443640" y="907920"/>
            <a:ext cx="374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22880" y="5493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ul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83240" y="1484280"/>
            <a:ext cx="14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ggres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83240" y="220500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bully-vict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66160" y="29242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vict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44720" y="34290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40360" y="1341360"/>
            <a:ext cx="432000" cy="897120"/>
          </a:xfrm>
          <a:prstGeom prst="rightArrowCallout">
            <a:avLst>
              <a:gd name="adj1" fmla="val 51921"/>
              <a:gd name="adj2" fmla="val 51917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40360" y="2781360"/>
            <a:ext cx="503280" cy="609480"/>
          </a:xfrm>
          <a:prstGeom prst="rightArrowCallout">
            <a:avLst>
              <a:gd name="adj1" fmla="val 30278"/>
              <a:gd name="adj2" fmla="val 30275"/>
              <a:gd name="adj3" fmla="val 16667"/>
              <a:gd name="adj4" fmla="val 66667"/>
            </a:avLst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732720" y="836280"/>
            <a:ext cx="360360" cy="1079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804000" y="1700280"/>
            <a:ext cx="576360" cy="433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04000" y="2349360"/>
            <a:ext cx="576360" cy="0"/>
          </a:xfrm>
          <a:prstGeom prst="line">
            <a:avLst/>
          </a:prstGeom>
          <a:ln w="1260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04000" y="2565360"/>
            <a:ext cx="432000" cy="432000"/>
          </a:xfrm>
          <a:prstGeom prst="line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9440" y="3665520"/>
            <a:ext cx="139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sid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-look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2160" y="90792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a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enfor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69640" y="4024440"/>
            <a:ext cx="14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nd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path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39640" y="1268280"/>
            <a:ext cx="1440000" cy="8654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637000"/>
            <a:ext cx="287280" cy="107928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16000" y="2637000"/>
            <a:ext cx="1871640" cy="136836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77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3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77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2" dur="770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6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26920" y="1420920"/>
            <a:ext cx="789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87280" y="299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21844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Franklin Gothic Demi"/>
              </a:rPr>
              <a:t>Az iskolai zaklatás kutatása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Franklin Gothic Demi"/>
              </a:rPr>
              <a:t>az Amerikai Egyesült Államokba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932360" y="3284280"/>
            <a:ext cx="3384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Britannic Bold"/>
              </a:rPr>
              <a:t>Kőszeghy Att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 Black"/>
              </a:rPr>
              <a:t>KFRTK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78160" y="277560"/>
            <a:ext cx="1370160" cy="61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1523880" cy="4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97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28800" y="685800"/>
            <a:ext cx="762120" cy="485640"/>
          </a:xfrm>
          <a:prstGeom prst="rightArrow">
            <a:avLst>
              <a:gd name="adj1" fmla="val 50000"/>
              <a:gd name="adj2" fmla="val 39233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607480" y="76212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omic Sans MS"/>
              </a:rPr>
              <a:t>Daniel Olweus alapkutatásai az iskolai zaklatásokró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2133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47920" y="2057400"/>
            <a:ext cx="1218960" cy="485640"/>
          </a:xfrm>
          <a:prstGeom prst="rightArrow">
            <a:avLst>
              <a:gd name="adj1" fmla="val 50000"/>
              <a:gd name="adj2" fmla="val 62750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59600" y="1981080"/>
            <a:ext cx="617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norvég kormány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elindít egy olya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iskolai zaklatá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megelőző programot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, amelyben minden általános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s középiskola részt ves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3600" y="342900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0-es év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90920" y="3429000"/>
            <a:ext cx="838080" cy="485640"/>
          </a:xfrm>
          <a:prstGeom prst="rightArrow">
            <a:avLst>
              <a:gd name="adj1" fmla="val 50000"/>
              <a:gd name="adj2" fmla="val 43143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60400" y="3352680"/>
            <a:ext cx="48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z iskolai zaklatás tárgykörében végzet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merikai (US) kutatások megindul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20" y="508464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0-es év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68360" y="5157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92360" y="5013360"/>
            <a:ext cx="4756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z iskolai zaklatás tárgykörében végzet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merikai (US) kutatások száma e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agyságrenddel megn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1520" y="1332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734920" y="1255680"/>
            <a:ext cx="537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árom norvég tizenéves öngyilkosságot követ el 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őket ért iskolai zaklatások mia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90720" y="152388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55160" y="4419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45480" y="4267080"/>
            <a:ext cx="639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merikai titkosszolgálati jelentés: 1974 és 2000 közötti iskol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övöldözők 71 %-a volt áldozata iskolai zaklatásn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838080" y="4572000"/>
            <a:ext cx="1600200" cy="76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6" dur="indefinite" restart="never" nodeType="tmRoot">
          <p:childTnLst>
            <p:seq>
              <p:cTn id="1597" dur="indefinite" nodeType="mainSeq">
                <p:childTnLst>
                  <p:par>
                    <p:cTn id="1598" fill="hold">
                      <p:stCondLst>
                        <p:cond delay="0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500"/>
                            </p:stCondLst>
                            <p:childTnLst>
                              <p:par>
                                <p:cTn id="1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3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7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1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65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500"/>
                            </p:stCondLst>
                            <p:childTnLst>
                              <p:par>
                                <p:cTn id="17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95280" y="384120"/>
            <a:ext cx="874872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iskolai zaklatások elterjedtsége az USA-ba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6197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1992: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J.H. Hoover, R. Oliver, R.J. Haz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hu-HU" sz="3000" spc="-1" strike="noStrike">
                <a:solidFill>
                  <a:srgbClr val="000000"/>
                </a:solidFill>
                <a:latin typeface="Arial"/>
              </a:rPr>
              <a:t>Iskolai zaklatás: tizenéves áldozatok a közép-nyugati államokba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hu-HU" sz="2100" spc="-1" strike="noStrike">
                <a:solidFill>
                  <a:srgbClr val="000000"/>
                </a:solidFill>
                <a:latin typeface="Times New Roman"/>
              </a:rPr>
              <a:t>School Psychology International.13, 5-16.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80" y="3505320"/>
            <a:ext cx="92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A megkérdezett tizenéves diákok (ált. iskolai felsős- és középiskolai osztályokbó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8680" y="4267080"/>
            <a:ext cx="602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88%-a látott már zaklatást iskolai pályafutása sorá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5105520"/>
            <a:ext cx="744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77%-a nyilatkozott úgy, hogy áldozata volt már ilyen zaklatásn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8" dur="indefinite" restart="never" nodeType="tmRoot">
          <p:childTnLst>
            <p:seq>
              <p:cTn id="1709" dur="indefinite" nodeType="mainSeq">
                <p:childTnLst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06616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iskolai zaklatások elterjedtsége az USA-ba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2090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1994: G.M. Batsche és H.M. Kno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hu-HU" sz="3000" spc="-1" strike="noStrike">
                <a:solidFill>
                  <a:srgbClr val="000000"/>
                </a:solidFill>
                <a:latin typeface="Arial"/>
              </a:rPr>
              <a:t>Zaklatók és áldozataik: egy kiterjedt iskolai probléma megértéséhez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School Psychology Review, 23, 165-175.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29800" y="3357720"/>
            <a:ext cx="68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Az iskolai zaklatás az erőszak kiterjedt fajtája az iskolákb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8520" y="3933720"/>
            <a:ext cx="70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A kutatásnak fel kell tárnia a kapcsolatot az iskolai zaklatás 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05800" y="450864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z iskola atmoszférá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32720" y="5157720"/>
            <a:ext cx="48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 diákok tanulmányi teljesítménye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1" dur="indefinite" restart="never" nodeType="tmRoot">
          <p:childTnLst>
            <p:seq>
              <p:cTn id="1732" dur="indefinite" nodeType="mainSeq">
                <p:childTnLst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4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1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8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9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848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iskolai zaklatások elterjedtsége az USA-ba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604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1997: S.P.Limber et 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hu-HU" sz="3000" spc="-1" strike="noStrike">
                <a:solidFill>
                  <a:srgbClr val="000000"/>
                </a:solidFill>
                <a:latin typeface="Arial"/>
              </a:rPr>
              <a:t>Zaklatás az iskolások között: egy prevenciós program kutatását megelőző állapotok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Fifth Annual International Family Violence Research Conference, 1997 June, Durham, NH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6720" y="4292640"/>
            <a:ext cx="844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megkérdezett 4-6. osztályos tanulók  25%-a vett részt egy másik tanul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zaklatásában a megkérdezést megelőző három hónapb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1" dur="indefinite" restart="never" nodeType="tmRoot">
          <p:childTnLst>
            <p:seq>
              <p:cTn id="1762" dur="indefinite" nodeType="mainSeq">
                <p:childTnLst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63480" y="47160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ypes of bull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57440" y="126828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cc"/>
                </a:solidFill>
                <a:latin typeface="Arial"/>
              </a:rPr>
              <a:t>Physical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57080" y="45813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9900"/>
                </a:solidFill>
                <a:latin typeface="Arial"/>
              </a:rPr>
              <a:t>Rel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11960" y="4292640"/>
            <a:ext cx="9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cc9900"/>
                </a:solidFill>
                <a:latin typeface="Arial"/>
              </a:rPr>
              <a:t>ign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80320" y="486900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cc9900"/>
                </a:solidFill>
                <a:latin typeface="Arial"/>
              </a:rPr>
              <a:t>exclu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43600" y="551664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cc9900"/>
                </a:solidFill>
                <a:latin typeface="Arial"/>
              </a:rPr>
              <a:t>gossi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476280"/>
            <a:ext cx="1517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pus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sho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ki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hi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69440" y="2852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Verba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6000" y="2708280"/>
            <a:ext cx="208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threa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name-cal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tea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9240" y="170028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Direct (overt) ag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1440" y="3429000"/>
            <a:ext cx="31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9900"/>
                </a:solidFill>
                <a:latin typeface="Arial"/>
              </a:rPr>
              <a:t>Indirect (covert) ag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492360" y="1628640"/>
            <a:ext cx="935280" cy="21600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3492000" y="1915920"/>
            <a:ext cx="574920" cy="86508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1476000" y="3860640"/>
            <a:ext cx="1150920" cy="720720"/>
          </a:xfrm>
          <a:prstGeom prst="line">
            <a:avLst/>
          </a:prstGeom>
          <a:ln w="3168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77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77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0" dur="77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0728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iskolai zaklatások elterjedtsége az USA-ba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"/>
          <p:cNvSpPr/>
          <p:nvPr/>
        </p:nvSpPr>
        <p:spPr>
          <a:xfrm>
            <a:off x="290520" y="2855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9320" y="1197000"/>
            <a:ext cx="85564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2001: T.R.Nansel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hu-HU" sz="3200" spc="-1" strike="noStrike">
                <a:solidFill>
                  <a:srgbClr val="000000"/>
                </a:solidFill>
                <a:latin typeface="Arial"/>
              </a:rPr>
              <a:t>Iskolai zaklatás és erőszak összefüggése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Arial"/>
              </a:rPr>
              <a:t>az amerikai fiatalokná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Journal of American Medical Association, 285, 2094-2100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39040" y="3573360"/>
            <a:ext cx="8523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megkérdezett 15 686 tizenéves diák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29,9%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a nyilatkozott úgy, h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gyakran részes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lyen cselekményeknek;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13% zaklató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ént (bully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10,6% áldoza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ént(victim), míg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6,3% mindkét szerepben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bully-victim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0" dur="indefinite" restart="never" nodeType="tmRoot">
          <p:childTnLst>
            <p:seq>
              <p:cTn id="1771" dur="indefinite" nodeType="mainSeq">
                <p:childTnLst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075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2458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Definíció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9440" y="212724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zakla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275840" y="2786040"/>
            <a:ext cx="68482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gt;&gt;&gt;</a:t>
            </a: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szabb id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őszakon á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smétlődően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folyik olyan valaki 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ki nem tudja megvédeni magá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z adott szituációb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. Roland, E. Munthe (eds.), 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A zaklatásról: nemzetközi kit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kinté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don: David Fulton Publishers, 1989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333800" y="4297320"/>
            <a:ext cx="739836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z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sszi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ó proaktív formáj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amelyben az elkövetőnek nin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üksége olyan előzményre, amellyel az áldozat „kiprovokálj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„kiérdemli”) azt, ami vele történi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.A. Dodge, 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A reaktív és proaktív agresszió szerkezete és funkció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n Pepler és Rubin (eds.) A gyermekkori agresszió kialakulása és kezelés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Hillsdale,N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rlba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199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6" dur="indefinite" restart="never" nodeType="tmRoot">
          <p:childTnLst>
            <p:seq>
              <p:cTn id="1787" dur="indefinite" nodeType="mainSeq">
                <p:childTnLst>
                  <p:par>
                    <p:cTn id="1788" fill="hold">
                      <p:stCondLst>
                        <p:cond delay="0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ehet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sz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ó közvetlen és\vagy közvetett fajtája;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özvetlen agresszió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zaklató és áldozata közötti közvetlen fizikai (pl. ütés, rúgás, lökdösés, stb.) és\vagy verbális (pl. csúfolás, bosszantás,stb.) kontaktus;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özvetett agresszió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magában foglal egy (vagy több) harmadik személyt, akin keresztül a zaklató pletyka, csúfnév, stb. terjesztésével követi el a zaklatá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.R. Crick, 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Kapcsolati agresszió: a szándék felismerés, a depresszió, és a provokatív típus szere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Development and Psychopathology,7,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9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5) 31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322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686448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zakla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ó-áldozat kontinu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87280" y="2421000"/>
            <a:ext cx="79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elenség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m a zaklató – áldozat statikus ellentét-párj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épez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em e két szélsőérték közötti haladvány mentén számos lehetsé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áció feltételezhet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40560" y="3521160"/>
            <a:ext cx="791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lentős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kell távolodni a korábbi felfogástó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ely szerint a diák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y része rendszeresen áldozatává teszi diáktársait, mint „zaklató”, mí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ások, ennek kárvallottaiként „áldozatok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14360" y="4600440"/>
            <a:ext cx="746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agyis megkülönböztethetünk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„zaklatót”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ully),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gresszív zaklató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ggressive bully),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zaklató-áldozato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”(bully-victim),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áldozato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” (victi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s még számos egyéb verzió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6" dur="indefinite" restart="never" nodeType="tmRoot">
          <p:childTnLst>
            <p:seq>
              <p:cTn id="1807" dur="indefinite" nodeType="mainSeq">
                <p:childTnLst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552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619308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zaklat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ás vizsgálatának módszere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339920" y="263700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iákok közvetlen megkérdezésével (egy listából kell kiválaszt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okat a viselkedésformákat, amelyek a zaklatót jellemzik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390320" y="3521160"/>
            <a:ext cx="68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diákok kapnak egy leírást a zaklatásról, ezután kell kitölteniü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kérdőív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68360" y="184464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\ Önbeszámol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9" dur="indefinite" restart="never" nodeType="tmRoot">
          <p:childTnLst>
            <p:seq>
              <p:cTn id="1830" dur="indefinite" nodeType="mainSeq">
                <p:childTnLst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6264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\ A tanár\diák-társ által meghatározott zaklat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55640" y="52293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zemélyiségjogi és etikai problémákat impliká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55640" y="2205000"/>
            <a:ext cx="777708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alójában az ált. isk. alsó osztályaiban alkalmazható, ahol  a tanár szorosabb kapcsolatban van a diákokkal, a diákok nem cserélnek csoportot és tanárt, a megfigyelés lehetősége a tanár számára folyamatos,stb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.J. Boulton,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Tanári nézetek a zaklatásról – a megbirkózás képessége: definíciók és attitűdö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ritish Journal of Educational Psychology,67,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) 22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2" dur="indefinite" restart="never" nodeType="tmRoot">
          <p:childTnLst>
            <p:seq>
              <p:cTn id="1853" dur="indefinite" nodeType="mainSeq">
                <p:childTnLst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5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14716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\ A zaklató meghatározása megfigyelt viselkedés alapj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97600" y="1628640"/>
            <a:ext cx="789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. videóval játszótéren, osztályteremben (stb.) rögzített viselkedé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93720" y="2133720"/>
            <a:ext cx="820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anadai gyermekek iskolaudvari viselkedését 6 éven át követő vizsgálatokbó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derült pl. h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04320" y="2852640"/>
            <a:ext cx="43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85% vett részt zaklatásos jelenetekb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02160" y="3213000"/>
            <a:ext cx="28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30% aktív résztvevőké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03960" y="357336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23% megfigyelőké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03600" y="400536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12% beavatkozóké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17760" y="4508640"/>
            <a:ext cx="612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egkérdezettek 74%-a elismerően vélekedett zaklatóró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3%-a együttérzett az áldozat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5280" y="5157720"/>
            <a:ext cx="842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W.M. Craig, D.J. Pepler. 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Zaklatás és viktimizáció megfigyelése egy iskolaudvar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anadian Journal of School Psychology, 13. (1997) 41-59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8" dur="indefinite" restart="never" nodeType="tmRoot">
          <p:childTnLst>
            <p:seq>
              <p:cTn id="1869" dur="indefinite" nodeType="mainSeq">
                <p:childTnLst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5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6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850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pcsolati agres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z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84320" y="1773360"/>
            <a:ext cx="8124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gyományosan a férfi nemet tekintik  az agresszívebb nemnek; az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skol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iúk több agresszivitást mutatna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 vizsgálatok szerin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.D. Coie és K.A. Dodge. 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„Agresszió és antiszociális magatartás”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in N. Eisenber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Handbook of Child Psycholog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Vol.3. New York: Wiley, 1998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77560" y="4221000"/>
            <a:ext cx="886140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apcsolati agresszió olyan „viselkedési formákat jelent, amelyek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zándékos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örekednek egy gyermek barátságait tönkretenni, a közösségbe tartozás érzésé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lerombolni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.R. Crick és J.K.Grotpeter.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Kapcsolati agresszió és a nemek: szociálpszichológia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pontosítás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.”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Child Development, 66. (1995) 71ö-72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60280" y="3068640"/>
            <a:ext cx="85474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indirekt/kapcsolati agresszió olyan „társadalmi manipuláció, amely célpontjá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ttételes módon támadj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. Oesterman et al.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„A női indirekt agresszió kultúraközi bizonyítékai”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ggressive Behavior, 24 (1998) 1-8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5" dur="indefinite" restart="never" nodeType="tmRoot">
          <p:childTnLst>
            <p:seq>
              <p:cTn id="1926" dur="indefinite" nodeType="mainSeq">
                <p:childTnLst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44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184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91 3-6. osztályos tanulót vizsgáltak egy 19 tételből álló kérdősorral, a tanulók ítéletei alapján négy csoportot állítottak fel, amelyekre jellemző a(z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5120" y="2440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127960" y="2781360"/>
            <a:ext cx="24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Kapcsolati agress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3440" y="27813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Nyílt agress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934880" y="278136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Mindkett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735960" y="278136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* Agresszíó hiá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807600" y="378936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ncs szignifiká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ülönb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7800" y="400536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úk 15,6%-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ányok 4%-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775240" y="4005360"/>
            <a:ext cx="19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úk 2%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ányo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,4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0600" y="5489640"/>
            <a:ext cx="821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.R. Crick és J.K.Grotpeter.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Kapcsolati agresszió és a nemek: szociálpszichológia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pontosítás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.”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Child Development, 66. (1995) 71ö-72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7308720" y="3141720"/>
            <a:ext cx="21600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26920" y="3213000"/>
            <a:ext cx="432000" cy="86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19640" y="3213000"/>
            <a:ext cx="0" cy="792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1" dur="indefinite" restart="never" nodeType="tmRoot">
          <p:childTnLst>
            <p:seq>
              <p:cTn id="1952" dur="indefinite" nodeType="mainSeq">
                <p:childTnLst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fill="hold">
                      <p:stCondLst>
                        <p:cond delay="indefinite"/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3" fill="hold">
                            <p:stCondLst>
                              <p:cond delay="500"/>
                            </p:stCondLst>
                            <p:childTnLst>
                              <p:par>
                                <p:cTn id="19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jövőbeli kutatások (lehetséges) iránya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39640" y="234936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kutatás módszertanának sokoldalúvá tét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7560" y="4508640"/>
            <a:ext cx="801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yermekek viselkedését befolyásoló rendszerek (család, korcsoport, isko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zsgálatának továbbfejleszt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19200" y="3645000"/>
            <a:ext cx="64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fejlődéslélektani különbségek fokozottabb figyelembevéte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0920" y="321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17400" y="299736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elenség fogalmainak további pontosí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7" dur="indefinite" restart="never" nodeType="tmRoot">
          <p:childTnLst>
            <p:seq>
              <p:cTn id="2018" dur="indefinite" nodeType="mainSeq">
                <p:childTnLst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15880" y="398520"/>
            <a:ext cx="450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ow did research on bullying sta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4320" y="1268280"/>
            <a:ext cx="62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e0363"/>
                </a:solidFill>
                <a:latin typeface="Arial"/>
              </a:rPr>
              <a:t>Daniel Olweu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Norway) coined the term ”mobbing” in </a:t>
            </a:r>
            <a:r>
              <a:rPr b="1" lang="hu-HU" sz="1800" spc="-1" strike="noStrike">
                <a:solidFill>
                  <a:srgbClr val="ff0000"/>
                </a:solidFill>
                <a:latin typeface="Arial"/>
              </a:rPr>
              <a:t>19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81440" y="2060640"/>
            <a:ext cx="44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n individual or a group of individu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harassing, teasing, pesterin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their pe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66320" y="3521160"/>
            <a:ext cx="692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1982 three 14-year-old boys committed suicide for being extrem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harassed by class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73800" y="4941720"/>
            <a:ext cx="72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inistry of Education in Norwa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launched a national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gainst bullying in </a:t>
            </a:r>
            <a:r>
              <a:rPr b="1" lang="hu-HU" sz="1800" spc="-1" strike="noStrike">
                <a:solidFill>
                  <a:srgbClr val="ff0000"/>
                </a:solidFill>
                <a:latin typeface="Arial"/>
              </a:rPr>
              <a:t>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63640" y="1844640"/>
            <a:ext cx="1871640" cy="360360"/>
          </a:xfrm>
          <a:prstGeom prst="line">
            <a:avLst/>
          </a:prstGeom>
          <a:ln w="63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77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9" dur="77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1" dur="77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3" dur="77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77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77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1" dur="77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3" dur="77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77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8" dur="77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0" dur="77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2" dur="77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76000" y="1341360"/>
            <a:ext cx="5545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Forte"/>
              </a:rPr>
              <a:t>Köszönöm a figyelmet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564000" y="3213000"/>
            <a:ext cx="541008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őszeghy Atti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(attilakoszegh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@gmail.com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431964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9280" y="549000"/>
            <a:ext cx="7993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osworth et al. „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Zaklatásos viselkedéssel kapcsolatos tényezők a felső tagozatos diákok esetében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ournal of Early Adolescence, 19. (1999) 341-36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01760" y="1773360"/>
            <a:ext cx="8259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. Olweus.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”Zaklatás az iskolában: hosszútávú következmények az áldoz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Esetében – egy hatékony megelőző program az iskolák számára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L. Huesmann (ed.),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Aggressive Behavior: Current Perspectives,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ew York: Plenum, 199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76560" y="2997360"/>
            <a:ext cx="8765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wartz et al. „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Az iskolai zaklatások agresszív áldozatainak korai szocializációj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hild Development 68. (1997) 665-67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70880" y="3860640"/>
            <a:ext cx="84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.T. Slee. „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A kortárs viktimizáció és kapcsolata a depresszióval az ausztráli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általános iskolások körében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ersonality and Individual Differences, 18. (1995) 57-6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54520" y="5229360"/>
            <a:ext cx="850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olberg és Olweus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Az iskolai zaklatás elterjedtségének vizsgálata az Olweus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féle Zaklató-áldozat kérdőív segítségév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ggressive Behavior, 26, (2003)239-268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7" dur="indefinite" restart="never" nodeType="tmRoot">
          <p:childTnLst>
            <p:seq>
              <p:cTn id="2048" dur="indefinite" nodeType="mainSeq">
                <p:childTnLst>
                  <p:par>
                    <p:cTn id="2049" fill="hold">
                      <p:stCondLst>
                        <p:cond delay="0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5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624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Az iskolai zaklatás kutatása Nagy-Britanniában és az Egyesült Államokban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őszeghy Atti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irmai Er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FRTKF Debrec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 zaklatás fogal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az erőszakos cselekedet, amelynek során az egyén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ismétlődően, hosszabb időn át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tárgya egy másik személy vagy személyek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negatív cselekedet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inek,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szándéko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testi vagy lelki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bántalmazá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ának fizikailag, szavakkal vagy más módon”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Olweus: Peer harassment 2001:5-6)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szisztematikus hatalmi abúzus”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Smith és Sharp: School bullying. Insights and perspectives. Routledge, 1994: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indenütt megtalálható elem a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bántás szándéka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, az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ismétlődé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és az interperszonális kapcsolatokat jellemző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egyenlőtlen hatalmi viszonyok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a résztvevők közöt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I. Kezdeti kutatások Nagy-Britanniába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ő irányok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1 A jelenség vizsgál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zaklatás gyakorisága: eltérő kategóriák (gyakoriság, áttekintett időtartam)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zaklatások fajtái: leginkább direkt, fizikai zaklatás ábrázolódi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zereplők típusai: zaklató- áldozat-néz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Kezdeti kutatások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500" spc="-1" strike="noStrike">
                <a:solidFill>
                  <a:srgbClr val="000000"/>
                </a:solidFill>
                <a:latin typeface="Arial"/>
              </a:rPr>
              <a:t>Hatáselemzések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egatív hatás az áldozat önértékelésére</a:t>
            </a:r>
            <a:r>
              <a:rPr b="0" lang="hu-HU" sz="35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oulton, M. J., Smith, P. K.: Zaklató-áldozat problémák felsőtagozatosok körében.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 British Journal of Developmental Psycholog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12, (1994), 315-329 p.,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koncentrációra és a tanulásr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Sharp, S., Smith, P.K.: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A zaklatás kezelése az iskolában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. London: Routledge (199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tresszel kapcsolatos szimptómá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(fejfájás, rémálmok), iskolafóbi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Sharp és Smith 199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Kezdeti kutatások - hatáselemzések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osszú távon: alacsony önbecsülés, depresszió, öngyilkosság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Slee, P.T.:Kortársi viktimizációs szorongás  szituációs és interperszonális összefüggései.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Child Psychiatry and Human Developmen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25, (1994) 97-107 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zaklatótól való elmenekülés az áldozat részéről visszahúzódó deviáns szerepre szocializál: az ilyen fiúk felnőttkori kapcsolataikban is gyakran küzdenek szégyellősséggel, kapcsolatkialakítási problémákkal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Gilmartin, B. G.: Férfiak súlyos szégyellős viselkedésének kortárs csoportbeli előzményei.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Journal of Personalit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55/3, (1987) 467-488 p.198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ezdeti kutatások Nagy-Britanniáb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1.2. intervenciós lehetőségek, problémakezelé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intézkedések a tanulói / iskolai biztonság érdekéb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1.2.1. állami intézkedések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örvényi szabályozás: 1999-től minden iskolának rendelkeznie kell zaklatásellenes politikával, melyet évente legalább egyszer a teljes iskolaközösség számára közzé kell tenn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problémakezelő csomagok kifejlesztése 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fES Anti-Bullying Pack 19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kidolgozott anyagok használatbavétele, értékelése 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fES Anti-Bullying Pack 1997 Surv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Kezdeti kutatások – intervenciós törekvések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1.2 szakmai és társadalmi szervezetek, szövetségek létrejötte és elterjedése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1.2.1 Anti-Bullying Association, Kidscape, Bullying Online, Childline: saját felmérések, kutatások és problémakezelő eljárások kifejlesztése, rendezvények: Anti-Bullying Week, ifjúsági konferenciá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1.2.2 rendőrségi tevékenysé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1.2.3 önkormányzati intézkedések: helyi konferencia, családsegítő program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II. Későbbi kutatások</a:t>
            </a:r>
            <a:br>
              <a:rPr sz="38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 kutatások irányainak kiterjesztés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1. a korábbi kategóriák kiegészítés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szereplők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: a </a:t>
            </a:r>
            <a:r>
              <a:rPr b="0" i="1" lang="hu-HU" sz="3000" spc="-1" strike="noStrike">
                <a:solidFill>
                  <a:srgbClr val="000000"/>
                </a:solidFill>
                <a:latin typeface="Arial"/>
              </a:rPr>
              <a:t>zaklató/áldozat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(bully/victim) kategóriája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(a brit oktatási minisztérium (DfES 1997) adata: az áldozatok 20%-a zaklató áldoza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1.2 </a:t>
            </a: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zaklatási típusok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hu-HU" sz="3000" spc="-1" strike="noStrike">
                <a:solidFill>
                  <a:srgbClr val="000000"/>
                </a:solidFill>
                <a:latin typeface="Arial"/>
              </a:rPr>
              <a:t>verbális és kapcsolati –társas zaklatás, homofób zaklatás, cyberbullying / elektronikus zaklatá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87520" y="542880"/>
            <a:ext cx="58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ow did research on bullying start in the US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73960" y="1576440"/>
            <a:ext cx="74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research on school bullying in the USA --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hu-HU" sz="1800" spc="-1" strike="noStrike">
                <a:solidFill>
                  <a:srgbClr val="ff0000"/>
                </a:solidFill>
                <a:latin typeface="Arial"/>
              </a:rPr>
              <a:t>ate 198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s, early 199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51160" y="2655720"/>
            <a:ext cx="703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999 &gt;&gt;&gt; school shooting at Columbine High School, Colo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8680" y="3521160"/>
            <a:ext cx="70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 Secret Serv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port on school shooters (between 1974-2000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commonality among 41 school shoo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03120" y="4456080"/>
            <a:ext cx="58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1% had been a target of a bully earlier in their l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48960" y="5176800"/>
            <a:ext cx="782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arly 2000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 a proliferation of research in the field of school 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77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8" dur="77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0" dur="77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2" dur="77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77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6" dur="77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8" dur="77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0" dur="77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77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4" dur="77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6" dur="77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8" dur="77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Későbbi kutatások: a kutatások irányainak kiterjesztése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2. A zaklatások összefüggéseinek vizsgálat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 u="sng">
                <a:solidFill>
                  <a:srgbClr val="000000"/>
                </a:solidFill>
                <a:uFillTx/>
                <a:latin typeface="Arial"/>
              </a:rPr>
              <a:t>2.1 A zaklatás és az érzelmek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kapcsolatában két nézet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1. a zaklatás oka a szociális információfeldolgozás deficitje (pl. az áldozatokból hiányzik az asszertivitás szociális készsége, kevéssé tapasztaltak a szociális interakcióban)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Dodge, K.A.: Szociális kogníció és gyermekkori agresszív viselkedés.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Child Development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51, (1980) 162-170 p. 198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2. a bántalmazók gyakorlott manipulátorok, felismerik mások érzéseit, de nem hajlandóak / képtelenek együttérzésre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utton J., Smith. P.K. , Swettenham J.: Szociális kogníció és a zaklatás:szociális elégtelenség vagy gyakorlott manipulálás?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British Journal of Developmental Psycholog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17, (1999) 435-450 p.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1999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A zaklatások összefüggéseinek vizsgálata 2.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2.2 </a:t>
            </a: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Életkor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és a zaklatás típus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sebb gyerekek inkább fizikai zaklatásban vesznek rész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dősebbek már verbális és kapcsolati zaklatásban mutatnak nagyobb arányokat (fejlettebb szociális készségek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és a zaklatás gyakorisága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iktimizáció az életkor előrehaladtával csökk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zaklatás gyakorisága nem változik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Whitney, I., Smith, P.K.: A zaklatás természetének és elterjedtségének vizsgálata általános és középiskolában. Educational Research, 35, 3-25 p. (199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incs semmilyen változás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Johnson, H. R., Thompson, M. J. J., Wilkonson, S., Walsh, L., Balding, J., Wright, V.: Zaklatásnak kitéve: Tanári jelentések általános iskolás gyerekek proszociális viselkedésében jelentkező érzelmi problémáiról, hiperaktivitásáról, kapcsolati nehézségeiről.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Educational Psycholog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22, (2002), 553-556 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A zaklatások összefüggéseinek vizsgálata 3.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2.3 </a:t>
            </a:r>
            <a:r>
              <a:rPr b="1" lang="hu-HU" sz="2100" spc="-1" strike="noStrike" u="sng">
                <a:solidFill>
                  <a:srgbClr val="000000"/>
                </a:solidFill>
                <a:uFillTx/>
                <a:latin typeface="Arial"/>
              </a:rPr>
              <a:t>Nem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fiúk körében gyakoribb a fizikai bántalmazás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Wolke, D., Stanford,K.: Iskolai zaklatás. D. Messer és S.Millar (szerk.) Fejlődéslélektan. London:Arnold. 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lányokra inkább a verbális és kapcsolati bántalmazás jellemző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általában gyakoribb a nemen belüli bántalmazás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2.4 </a:t>
            </a:r>
            <a:r>
              <a:rPr b="1" lang="hu-HU" sz="2100" spc="-1" strike="noStrike" u="sng">
                <a:solidFill>
                  <a:srgbClr val="000000"/>
                </a:solidFill>
                <a:uFillTx/>
                <a:latin typeface="Arial"/>
              </a:rPr>
              <a:t>Szociális háttér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általában alacsony a korreláció a zaklató és társadalmi háttere között, ugyanakkor valószínűbb az alacsonyabb jövedelmű családi hátterű gyerekek zaklatása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Woods, S., Wolke, D.: és Direkt és kapcsolati zaklatás általános iskolások között és a tanulmányi eredmény.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Journal of School Psycholog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Volume 42, Issue 2, March-April 2004, 135-155 p.:149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ugyanakkor ok lehet a zaklatásra az is, ha egy gyerek drága holmit birtokol (márkás mobiltelefon, stb.)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DfES Survey 199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A zaklatások összefüggéseinek vizsgálata 4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2.5 </a:t>
            </a:r>
            <a:r>
              <a:rPr b="1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Családi háttér, szülői magatartá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ülői figyelemhiány jelentősen hozzájárul zaklató viselkedés kialakulásához – fiúk és lányok között egyaránt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Flouri, E., Buchanan A.: Az anyai és apai figyelem szerepe a serdülőkorúak zaklató viselkedésében.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Journal of Interpersonal Violenc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18 (6): 634-644 Jun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túlzott anyai védelmező  magatartás gyakran fordul elő az áldozat családjában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Hawker, D. S. J., Boulton, M. J.: A kortárs zaklatás és pszichoszociális beilleszkedési zavarok húsz évnyi kutatása.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Journal of Child Psychiatry and Psychiatr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41, 441-455 p. (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6633"/>
                </a:solidFill>
                <a:latin typeface="Garamond"/>
              </a:rPr>
              <a:t>A zaklatások összefüggéseinek vizsgálata </a:t>
            </a: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5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2.6 </a:t>
            </a:r>
            <a:r>
              <a:rPr b="1" lang="hu-HU" sz="3200" spc="-1" strike="noStrike" u="sng">
                <a:solidFill>
                  <a:srgbClr val="000000"/>
                </a:solidFill>
                <a:uFillTx/>
                <a:latin typeface="Arial"/>
              </a:rPr>
              <a:t>Iskolai teljesítmény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 2. osztályosoknál nem volt kimutatható kapcsolat a tanulmányi teljesítmény és a direkt zaklatás között. Negyedik osztályosoknál a kapcsolati zaklatók szignifikánsan jobban teljesítettek tanulmányi munkájukban „jó képességű gyerekek rendelkeznek olyan szociális készségekkel, melyekkel kapcsolatokat tudnak manipulálni”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Woods és Wolke 2004:1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6633"/>
                </a:solidFill>
                <a:latin typeface="Garamond"/>
              </a:rPr>
              <a:t>A zaklatások összefüggéseinek vizsgálata </a:t>
            </a: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6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2.7 Iskolai környezet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kis létszámú osztályokban és kisebb iskolákban gyakoribb a zaklatás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Wolke, D., Woods, S., Bloomfield, L. and Karstadt, L.:általános iskolai zaklatás és gyakori egészségügyi problémák.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Archives of Disease in Childhood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85, (2001) 197-201 p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2.8 Lakóhely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vidéki iskolákban több a zaklatási eset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Wolke et al. 20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2.9 Másság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2.9.1 Rivers 2004-es retrospektív vizsgálatában szereplő 60 leszbikus, homoszexuális, biszexuális megkérdezett állította, hogy szexuális orientációja miatt bántalmazták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Rivers, I.: Visszatekintés iskolai zaklatásra és hosszú távú hatásuk leszbikusok, homoszexuális férfiak és biszexuálisok életére. Crisis 25 (2004) 169-175 p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6633"/>
                </a:solidFill>
                <a:latin typeface="Garamond"/>
              </a:rPr>
              <a:t>A zaklatások összefüggéseinek vizsgálata </a:t>
            </a: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7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2.9.2 Hugh-Jones és Smith (1999) vizsgálata </a:t>
            </a: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dadogók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on: 276 résztvevő retrospektív vizsgálata: gyakori bántalmazás, kapcsolati nehézségek a dadogás miatt iskoláskorban; rövid- és hosszútávú negatív hatások a tanulmányi előmenetelre, de elsődlegesen a személyes kapcsolatok, az önbecsülés és a depresszió területein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Hugh-Jones, S. &amp; Smith, P.K.: Dadogó gyerekek önbeszámolói a zaklatás rövid- és hosszútávú hatásairól.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British Journal of Educational Psycholog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69, (1999) 141-158 p.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3. A zaklatás rövidebb és hosszabb távú hatásainak vizsgálat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A munkahelyi és az iskolai zaklatás kapcsol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munkahelyi zaklatás legnagyobb kockázatának az iskolai zaklató-áldozatok vannak kitéve, őket követik az áldozati szerepűek.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mith, P.K., Singer M., Hoel H., Cooper C.l.. Viktimizáció az iskolában és a munkahelyen: Van kapcsolat?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British Journal of Psychology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2003) 175-188 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4. Kutatási módszerek fejlesztése, finomítása, kiterjesztés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4.1 </a:t>
            </a: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A kérdőívek pontosítása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4.1.1 </a:t>
            </a: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a fogalom értelmezésének kutatása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tanárok: átfogóbb értelmezé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gyerekek: inkább csak a fizikai és verbális bántalmazást értik alatta, a fogalom értelmezésébe alig veszik be a kiközösítést, a hatalmi egyenlőtlenséget, valamint a bántás szándékát sem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Naylor, P., Cowie, H., Cossin, F., De Bettencourt, R., Lemme, F.: Tanárok és diákok zaklatás-meghatározásai.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British Journal of Educational Psycholog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; Sep 2006, Vol 76 Issue 3, 553-576 p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Kutatási módszerek fejlesztése, finomítása, kiterjesztése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4. 1. 2 </a:t>
            </a:r>
            <a:r>
              <a:rPr b="0" lang="hu-HU" sz="3400" spc="-1" strike="noStrike" u="sng">
                <a:solidFill>
                  <a:srgbClr val="000000"/>
                </a:solidFill>
                <a:uFillTx/>
                <a:latin typeface="Arial"/>
              </a:rPr>
              <a:t>kérdőív –fejlesztési ajánlások</a:t>
            </a: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fogalmi tisztázás, példák megadása, a gyakorisági kategóriák egységesítése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Ortega, R.; Mora-Merchán, J.A.; Singer, M.; Smith, P.K.; Pereira, B.&amp; Menesini, E.: A zaklatást vizsgáló kérdőívek és nominációs módszer munkacsoport zárójelentése. Seville meeting: TMR Network Project (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4.2 </a:t>
            </a:r>
            <a:r>
              <a:rPr b="0" lang="hu-HU" sz="3400" spc="-1" strike="noStrike" u="sng">
                <a:solidFill>
                  <a:srgbClr val="000000"/>
                </a:solidFill>
                <a:uFillTx/>
                <a:latin typeface="Arial"/>
              </a:rPr>
              <a:t>Más kutatási módszerekkel való kiegészítés: </a:t>
            </a: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interjúk, jelentés más személyről, megfigyelé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03720" y="379440"/>
            <a:ext cx="67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ow much is bullying pervasive in American schoo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4920" y="1557360"/>
            <a:ext cx="769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J.H. Hoover, R. Oliver, R.J. Hazl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9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ullying: Perceptions of adolescent victims in the Midwestern USA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chool Psychology International.13, 5-1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86560" y="3141720"/>
            <a:ext cx="633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ior high and high school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8% &gt; reported to have observed 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7% &gt; reported to have been a victim of 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77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4" dur="77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6" dur="77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8" dur="77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5. Nemzetközi komparatív vizsgálatok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Kutatócsoportok alakítá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TMR Network: brit, spanyol, portugál és német kutatók részvételével vizsgálatok több területen, eseti együttműködések, mérés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Kultúrák közötti összehasonlításo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Woods, S., Wolke, D.: és Direkt és kapcsolati zaklatás általános iskolások között és a tanulmányi eredmény.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Journal of School Psycholog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Volume 42, Issue 2, March-April 2004, 135-155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slea, M., Menesini, E., Morita, Y., O’Moore, M., Mora-Merchán, J. A., Pereira, B., Smith, P.K.: Barátság és magányosság zaklatók és áldozatok körében: Adatok hét országból.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Agressive Behaviour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Vol 30, 71-83 p. (20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u-HU" sz="4000" spc="-1" strike="noStrike">
                <a:solidFill>
                  <a:srgbClr val="000000"/>
                </a:solidFill>
                <a:latin typeface="Comic Sans MS"/>
              </a:rPr>
              <a:t>Köszönjük a figyelme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Szirmai Er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szirmai</a:t>
            </a: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@kfrtkf.h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őszeghy Atti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tilakoszeghy@gmail.com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7280" y="549360"/>
            <a:ext cx="847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.M. Batsc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H.M. Knof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ullies and their victims:Understanding a pervasive problem in the school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chool Psychology Review, 23, 165-17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96760" y="2638440"/>
            <a:ext cx="7773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ullying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a pervasive form of viole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schools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research has to find out about the relationship between bully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ool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ademic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77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6" dur="77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8" dur="77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0" dur="77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77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7" dur="77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9" dur="77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1" dur="77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2000"/>
                            </p:stCondLst>
                            <p:childTnLst>
                              <p:par>
                                <p:cTn id="6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6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560"/>
                            </p:stCondLst>
                            <p:childTnLst>
                              <p:par>
                                <p:cTn id="7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8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08:21:10Z</dcterms:created>
  <dc:creator>Felhasználó</dc:creator>
  <dc:description/>
  <dc:language>en-US</dc:language>
  <cp:lastModifiedBy>MeiJF</cp:lastModifiedBy>
  <dcterms:modified xsi:type="dcterms:W3CDTF">2009-03-23T13:31:36Z</dcterms:modified>
  <cp:revision>45</cp:revision>
  <dc:subject/>
  <dc:title>Az iskolai zaklatás kutatása Nagy-Britanniában és az Egyesült Államokban</dc:title>
</cp:coreProperties>
</file>