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E57F-52B0-42CA-962C-71C68206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C5A-2857-4721-96F3-D5D53B27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8C9-65F7-43B1-AB66-894B6642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CD1-25A7-43B4-8489-052F1571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5F02-6DBE-4082-9AA2-549FD664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1860-DF37-4C90-A715-1B1FA1A5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CFCD-A508-46FB-8AB6-57D53A9E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8DE2-8A96-4CAA-81E1-B9584397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6876-C72F-4933-B2BC-C0A3AFD5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E4C9-C3F6-4342-ABAC-F41A9902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BB27-90D5-413D-B211-B124D169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5A0-04B3-40B6-992C-BCFF52E8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2015-2D17-47E7-866C-983939A9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4C29-B0AD-4829-8CC7-C80EC5F1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9C4E-0D71-49D4-ABB3-C3A3DDD0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319C-5BE8-410E-92A0-6687A02B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AD67-C992-4E6B-9D72-434AE6CC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CEF99-5629-4F25-AF4B-1C6CC06A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31586-B7FA-45E8-85EE-37A78CF0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25FFC-F1B9-4DC0-802C-61EEC9D1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93F53-A2C6-4859-BEC5-CB89AEF0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6EE98-808F-4636-9647-A22583D5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2BA-8D3B-4C6C-BD7C-2D91FB29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D9850-5749-475E-816E-1DB2A038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F7E41-4B8D-4CC4-A9E4-DA3BA680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B2F0D-1264-44D7-B629-B87859BF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9252C-A9FC-4261-8402-1F0E5F52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01156-D841-4E50-921B-35032298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83CDA-7149-4402-9C94-6C601322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3E16A-6F2D-4786-859D-D784997B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FC356-F941-4810-ADD8-1EBFEFFE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67C72-0133-47D4-BDBC-5C86CA9B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27C7A-CF0A-470E-BD2D-EF5A6C0A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C29-5EFE-4A2D-AC38-DDA1EFEA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D3189-5A9D-40CC-A4F0-D8AAAD77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9F7BC-8A54-42E6-B1AE-135974BA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C4E97-30E8-4EF5-AB56-175C510B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E022F-C936-41F5-B691-E5F19C00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F39FB-7DC4-4C33-8196-1A4DAAD9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93D32-CFD0-4F35-A84C-7D3B1B7F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46E4B-A927-43F3-8FA9-C99B55D0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D59C0-E199-47CE-BB46-25A63577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9E8F7-449F-4B4F-A696-4B85848C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56AED-F211-4053-B1DF-5C567B15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1780-E411-4298-AECC-17925A74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6195E-2949-49F6-AE4F-AA87E05C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2E729-8F9B-4213-AA3A-C5516EB1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561CD-4267-46E2-A4E9-FDFD760F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5FA7B-61EB-4C7A-AB9C-818D2C02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1F1CE-B2E1-4F6C-8725-5A5D9CB1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ECA38-FD3D-4BD2-A49C-E7C55C82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63749-75CC-41A0-8B48-BB21DB15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51A4C-E877-4A7B-A7A4-FD9C9E80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D646B-B4B0-4E14-AC3D-91DAE9E5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40814-5A4D-4C96-8F8F-62904F15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7A9-96FA-410C-96E8-5774B44A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A0F27-ED75-4852-A4B7-7AD5460D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B04A2-C189-4766-94E5-94272FFA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37265-B86C-4841-95C9-8B98F396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F4E06-420B-47B6-8479-E079DDD7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2AF26-CC8F-4697-961B-AFFE05C4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88793-BAE9-4755-AF6F-6B5470D8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1FFEA-2C4C-40EF-ACE7-D8B95294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7A7F5-0AFE-4030-9280-58278D08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9C494-DF8A-477B-B580-DAAD970E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17378-1F5D-47A0-882F-94147105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908-836C-40D5-A788-51D1AC8D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550AA-F135-44A2-BC57-437B1753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9D01B-E988-494E-9F56-3AB344AC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3A3B0-C5FD-452B-8ACA-C8D4B02E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5CA03-69FB-4A6B-AFCF-3D838BFA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94B39-29AD-4ECD-B8F6-76D412E4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BF6E6-0D27-4174-BC4D-E0DCB5FD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428FB-9DB5-41B9-9632-BB59B531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C0BCC-D83C-4906-B694-02031FD2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D576C-8322-45B1-9102-FD901A91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1DDD6-65FC-4D23-81DB-7F67C125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764-3DB1-48D7-A8CC-D1C5D9A7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E6BA7-269B-4923-B5D6-80F7249F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42380-430C-4241-A733-240CE4DC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EEB80-38C7-4205-88F8-C6D55F1D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18621-6DFF-41F4-B0A0-96769E73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07F2A-42A4-4492-8B93-1BFC5404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CD023-E5D9-4C32-8891-464238AC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A7BE5-E607-41CC-B3B9-BE0CE582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26735-E487-469A-BE5A-8D7D1065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DEF8D-3DAA-42F4-99A6-FE0CC36B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8B1C0-3BD1-44D9-80DC-76834ED3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D9A-7E5F-447A-A373-A20AB96D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3F990-3A5A-40E4-B547-A40346BB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C8005-8DB2-4390-A35D-035AE622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F4BDA-507B-4D97-AEBF-498AC2B3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45991-9D84-4EF8-AD7C-A9964B0A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A2E00-7042-4ECD-ACD2-939DA32A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545B3-7BF0-402C-824D-6A59C3A9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7938D-351F-4E56-9991-EFF8B8D0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66DE-08A8-4FCB-B0B6-78BA64F100DA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Rechthoek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Rechthoek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E443-1367-42AE-B78C-40E62A3591DB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f4e7ed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B7DF-82DF-4B24-839E-89292A9CBF48}" type="slidenum"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AE2B-FA20-46F8-A19A-441927984076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34D1-D7E8-4952-B919-63D7E078504D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Gelijkbenige driehoek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293D-E977-4AA7-8B35-DB10C6F57273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Rechthoek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f4e7ed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15A8-511B-4FC1-B3F3-39AE244849E0}" type="slidenum"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Rechte verbindingslijn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1461-EDC4-4726-9097-FC1F3CDAC77C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schools.fsusd.k12.ca.us/schools/fhs/teacher/link/GigioC/Dreamweaver%202/Oh%20The%20Places%20you&apos;ll%20Go.ht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7030a0"/>
                </a:solidFill>
                <a:latin typeface="Matura MT Script Capitals"/>
              </a:rPr>
              <a:t>Oh, the Places You’ll Go!</a:t>
            </a:r>
            <a:endParaRPr b="0" lang="en-US" sz="40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13f9a"/>
                </a:solidFill>
                <a:latin typeface="Bookman Old Style"/>
              </a:rPr>
              <a:t>Minor MVT -  Young Adult Litera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Afbeelding 1" descr="product afbeelding"/>
          <p:cNvPicPr/>
          <p:nvPr/>
        </p:nvPicPr>
        <p:blipFill>
          <a:blip r:embed="rId1"/>
          <a:stretch/>
        </p:blipFill>
        <p:spPr>
          <a:xfrm>
            <a:off x="6784920" y="1066680"/>
            <a:ext cx="154152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will come to a place where the streets are not marke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 windows are lighted. But mostly they're darke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lace you could sprain both you elbow and chin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 you dare to stay out? Do you dare to go in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much can you lose? How much can you wi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IF you go in, should you turn left or right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right-and-three-quarters? Or, maybe, not quite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go around back and sneak in from behind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mple it's not, I'm afraid you will find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a mind-maker-upper to make up his min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get so confused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at you'll start in to ra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wn long wiggled roads at a break-necking pa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grind on for miles across weirdish wild space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aded, I fear, toward a most useless plac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Waiting Place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42720" y="2571840"/>
            <a:ext cx="654372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for people just waiti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iting for a train to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bus to come, or a plane to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the mail to come, or the rain to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the phone to ring, or the snow to snow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around for a Yes or a N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for their hair to gro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veryone is just wai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iting for the fish to b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for wind to fly a k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around for Friday nig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, perhaps, for their Uncle Jak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pot to boil, or a Better Break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sting of pearls, or a pair of pan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wig with curls, or Another Chanc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veryone is just wai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643040" y="2214720"/>
            <a:ext cx="585792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NO!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That's not for you!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how you'll escap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that waiting and stayi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find the bright plac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 Boom Bands are play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banner flip-flapping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ce more you'll ride high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dy for anything under the sky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dy because you're that kind of a guy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h, the places you'll go! There is fun to be don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are points to be scored. there are games to be wo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the magical things you can do with that ba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ll make you the winning-est winner of all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me! You'll be famous as famous can be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the whole wide world watching you win on TV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357520" y="5214960"/>
            <a:ext cx="332892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xcept when they don'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ecause, sometimes, they won't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'm afraid that some tim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play lonely games too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ames you can't wi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'cause you'll play against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Alon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you like it or not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one will be something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quite a lo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when you're alone, there's a very good chan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meet things that scare you right out of your pant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are some, down the road between hither and yo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at can scare you so much you won't want to go 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 on you will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the weather be fou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you will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your enemies prow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gratulation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day is your day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off to Great Place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off and away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have brains in your hea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have feet in your sho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steer yourself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y direction you choos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on your own. And you know what you kno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 are the guy who'll decide where to g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you will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the Hakken-Kraks how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ward up man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frightening creek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your arms may get so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r sneakers may leak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and on you will hik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I know you'll hike fa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face up to your problem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ever they ar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get mixed up, of cours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s you already kno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get mixed u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many strange birds as you go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 be sure when you step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ep with care and great tac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remember that Life'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Great Balancing Ac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never forget to be dexterous and def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never mix up your right foot with your lef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714320" y="2499840"/>
            <a:ext cx="56862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12760" indent="-21276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And will you succeed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500200" y="2286000"/>
            <a:ext cx="3329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Yes!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Tijdelijke aanduiding voor inhoud 2"/>
          <p:cNvSpPr/>
          <p:nvPr/>
        </p:nvSpPr>
        <p:spPr>
          <a:xfrm>
            <a:off x="500040" y="714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Tijdelijke aanduiding voor inhoud 2"/>
          <p:cNvSpPr/>
          <p:nvPr/>
        </p:nvSpPr>
        <p:spPr>
          <a:xfrm>
            <a:off x="6786720" y="642960"/>
            <a:ext cx="20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dadad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Tijdelijke aanduiding voor inhoud 2"/>
          <p:cNvSpPr/>
          <p:nvPr/>
        </p:nvSpPr>
        <p:spPr>
          <a:xfrm>
            <a:off x="1071720" y="450072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Yes!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Tijdelijke aanduiding voor inhoud 2"/>
          <p:cNvSpPr/>
          <p:nvPr/>
        </p:nvSpPr>
        <p:spPr>
          <a:xfrm>
            <a:off x="5286240" y="4643280"/>
            <a:ext cx="1214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Yes!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Tijdelijke aanduiding voor inhoud 2"/>
          <p:cNvSpPr/>
          <p:nvPr/>
        </p:nvSpPr>
        <p:spPr>
          <a:xfrm>
            <a:off x="4429080" y="128592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Tijdelijke aanduiding voor inhoud 2"/>
          <p:cNvSpPr/>
          <p:nvPr/>
        </p:nvSpPr>
        <p:spPr>
          <a:xfrm rot="20373600">
            <a:off x="642600" y="18568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Yes!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Tijdelijke aanduiding voor inhoud 2"/>
          <p:cNvSpPr/>
          <p:nvPr/>
        </p:nvSpPr>
        <p:spPr>
          <a:xfrm rot="1504200">
            <a:off x="6571800" y="3429000"/>
            <a:ext cx="2000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Yes!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Tijdelijke aanduiding voor inhoud 2"/>
          <p:cNvSpPr/>
          <p:nvPr/>
        </p:nvSpPr>
        <p:spPr>
          <a:xfrm rot="20565000">
            <a:off x="6000480" y="571500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571920" y="2786040"/>
            <a:ext cx="2571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 MT"/>
              </a:rPr>
              <a:t>You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714760" y="2357280"/>
            <a:ext cx="247176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 MT"/>
              </a:rPr>
              <a:t>will,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357280" y="2428560"/>
            <a:ext cx="397224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 MT"/>
              </a:rPr>
              <a:t>indeed!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428800" y="5714640"/>
            <a:ext cx="32576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(98 and 3 / 4 percent guaranteed.)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571400" y="2214360"/>
            <a:ext cx="604332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KID, YOU'LL MOVE MOUNTAINS!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500200" y="2286000"/>
            <a:ext cx="3329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So…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Tijdelijke aanduiding voor inhoud 2"/>
          <p:cNvSpPr/>
          <p:nvPr/>
        </p:nvSpPr>
        <p:spPr>
          <a:xfrm>
            <a:off x="500040" y="714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Tijdelijke aanduiding voor inhoud 2"/>
          <p:cNvSpPr/>
          <p:nvPr/>
        </p:nvSpPr>
        <p:spPr>
          <a:xfrm>
            <a:off x="6786720" y="642960"/>
            <a:ext cx="20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dadad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Tijdelijke aanduiding voor inhoud 2"/>
          <p:cNvSpPr/>
          <p:nvPr/>
        </p:nvSpPr>
        <p:spPr>
          <a:xfrm>
            <a:off x="1071720" y="450072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Tijdelijke aanduiding voor inhoud 2"/>
          <p:cNvSpPr/>
          <p:nvPr/>
        </p:nvSpPr>
        <p:spPr>
          <a:xfrm>
            <a:off x="5286240" y="4643280"/>
            <a:ext cx="1214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Tijdelijke aanduiding voor inhoud 2"/>
          <p:cNvSpPr/>
          <p:nvPr/>
        </p:nvSpPr>
        <p:spPr>
          <a:xfrm>
            <a:off x="4429080" y="128592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Tijdelijke aanduiding voor inhoud 2"/>
          <p:cNvSpPr/>
          <p:nvPr/>
        </p:nvSpPr>
        <p:spPr>
          <a:xfrm rot="20373600">
            <a:off x="642600" y="18568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Tijdelijke aanduiding voor inhoud 2"/>
          <p:cNvSpPr/>
          <p:nvPr/>
        </p:nvSpPr>
        <p:spPr>
          <a:xfrm rot="1504200">
            <a:off x="6571800" y="3429000"/>
            <a:ext cx="2000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Tijdelijke aanduiding voor inhoud 2"/>
          <p:cNvSpPr/>
          <p:nvPr/>
        </p:nvSpPr>
        <p:spPr>
          <a:xfrm rot="20565000">
            <a:off x="6000480" y="571500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look up and down streets. Look 'em over with car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bout some you will say, "I don't choose to go there."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your head full of brains and your shoes full of feet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too smart to go down any not-so-good stree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 may not find an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want to go dow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that case, of cours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head straight out of tow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your name Buxbaum or Bixby or Bra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 Mordecai Ali Van Allen O'Shea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're off to Great Places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day is your day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r mountain is waiti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500200" y="2286000"/>
            <a:ext cx="3329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So…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Tijdelijke aanduiding voor inhoud 2"/>
          <p:cNvSpPr/>
          <p:nvPr/>
        </p:nvSpPr>
        <p:spPr>
          <a:xfrm>
            <a:off x="500040" y="714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Tijdelijke aanduiding voor inhoud 2"/>
          <p:cNvSpPr/>
          <p:nvPr/>
        </p:nvSpPr>
        <p:spPr>
          <a:xfrm>
            <a:off x="6786720" y="642960"/>
            <a:ext cx="20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dadad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Tijdelijke aanduiding voor inhoud 2"/>
          <p:cNvSpPr/>
          <p:nvPr/>
        </p:nvSpPr>
        <p:spPr>
          <a:xfrm>
            <a:off x="1071720" y="450072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Tijdelijke aanduiding voor inhoud 2"/>
          <p:cNvSpPr/>
          <p:nvPr/>
        </p:nvSpPr>
        <p:spPr>
          <a:xfrm>
            <a:off x="5286240" y="4643280"/>
            <a:ext cx="1214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Tijdelijke aanduiding voor inhoud 2"/>
          <p:cNvSpPr/>
          <p:nvPr/>
        </p:nvSpPr>
        <p:spPr>
          <a:xfrm>
            <a:off x="4429080" y="128592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Tijdelijke aanduiding voor inhoud 2"/>
          <p:cNvSpPr/>
          <p:nvPr/>
        </p:nvSpPr>
        <p:spPr>
          <a:xfrm rot="20373600">
            <a:off x="642600" y="18568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Tijdelijke aanduiding voor inhoud 2"/>
          <p:cNvSpPr/>
          <p:nvPr/>
        </p:nvSpPr>
        <p:spPr>
          <a:xfrm rot="1504200">
            <a:off x="6571800" y="3429000"/>
            <a:ext cx="2000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Tijdelijke aanduiding voor inhoud 2"/>
          <p:cNvSpPr/>
          <p:nvPr/>
        </p:nvSpPr>
        <p:spPr>
          <a:xfrm rot="20565000">
            <a:off x="6000480" y="571500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928880" y="4785840"/>
            <a:ext cx="68292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07360" indent="-20736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 MT"/>
              </a:rPr>
              <a:t>...get on your way!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7000560" y="5500800"/>
            <a:ext cx="16858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ffde66"/>
                </a:solidFill>
                <a:uFillTx/>
                <a:latin typeface="Gill Sans MT"/>
                <a:hlinkClick r:id="rId1"/>
              </a:rPr>
              <a:t>Dr. Seu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's opener the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the wide open a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ut there things can happe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frequently d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people as brain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footsy as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when things start to happe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n't worry. Don't ste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go right alo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start happening to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428560" y="1356840"/>
            <a:ext cx="432900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OH!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THE PLACES YOU'LL GO! 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on your way up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seeing great sight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join the high flier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soar to high heigh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won't lag behind, because you'll have the spee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pass the whole gang and you'll soon take the lea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ver you fly, you'll be the best of the bes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ver you go, you will top all the res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428920" y="2857680"/>
            <a:ext cx="475776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xcept when you don'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ecause, sometimes, you won't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'm sorry to say s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, sadly, it's tru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Hang-up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n happen to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get all hung u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a prickle-ly perch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r gang will fly o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left in a Lurc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come down from the Lurc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an unpleasant bump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the chances are, the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at you'll be in a Slump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when you're in a Slump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not in for much fu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n-slumping yoursel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s not easily don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8:59:53Z</dcterms:created>
  <dc:creator>Claire</dc:creator>
  <dc:description/>
  <dc:language>en-US</dc:language>
  <cp:lastModifiedBy>Claire</cp:lastModifiedBy>
  <dcterms:modified xsi:type="dcterms:W3CDTF">2009-02-06T19:30:30Z</dcterms:modified>
  <cp:revision>5</cp:revision>
  <dc:subject/>
  <dc:title>Oh, the Places You’ll Go!</dc:title>
</cp:coreProperties>
</file>