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3878-44E2-47BA-A3A4-527DF0F0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2376-5C14-4438-9EEC-6059B575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6369-4F77-4C07-BE07-FE729829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F26C-E42B-46EE-A216-02031B3A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BD2C-1CCD-4DCB-98BF-D5E62F55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FF0E-7F79-4E79-A425-D207444C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A8B9-8EEE-4F7C-930D-F9C2BCE3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7A62-EA56-47D6-9D6A-42E5EEB0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81D7-5736-46A1-A87C-8363E63E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74D0-A3C9-45AF-9ADA-13021AD7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DF96-24A9-42A6-ACB7-0BCEBBF3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CA18-E843-4032-8AED-41735DC0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12C4-195C-4038-A5B5-1DD4B083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39FF-8EBC-4158-A6DE-4580F1BD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44A1-A7E1-4A44-B4D0-2A8E3C92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D164-9775-450E-A556-C455F678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0826-A947-4933-9CBF-3A63DF29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AFC57-468C-4A5E-893E-906ACD4D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2AEBA-DD43-424F-A82B-0D89826D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AF1E2-B0FA-4964-B933-C38728A6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AE93F-8CD7-489C-B5B2-8DECABF1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BDECE-5A36-485A-A8F3-6FF336EB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7B98-5B32-4765-825C-9A809951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5A9BF-B064-42C2-890D-4A6793F9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65DB7-0A05-48AE-A2C1-CC065B60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CC127-F3A6-4DA8-A036-825D19AB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1B917-3D72-4926-9BDC-27C3AFEF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B008E-3454-41C5-BDA8-8587AB22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DD493-AB88-45A2-ABB0-45DDA7F0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69A3D-B8B8-4451-8F18-4BB2ABA2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5580C-BF58-4094-ACA5-65C56A15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F486A-312A-4B8C-9EF4-C82ED339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A12BF-7FE9-4026-B816-FED7B145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0A53-E1DB-4F08-8327-6234066A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169EC-FC67-4334-92C7-A6F6092C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F7092-4793-474E-B19B-36F600FA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DCB6D-0D76-40F5-8AA7-133FF686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AABF0-793D-477B-BB2E-27E7F55E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E1D86-420F-4376-95BB-FF6CB849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A602B-1BCF-471C-8860-F20B36E8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33562-6FFC-4A72-B24A-43CEE383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FA642-F3C7-4FE4-8332-298E1367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E962E-F308-484A-A75D-53509791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87934-036A-4FC1-8583-539DCAAC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EDD7-EF7E-4427-9ADF-2BA9043E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7C0DA-E91A-481D-875A-992EB481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3D69B-CA14-410B-8CB9-55EFD6EA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D1207-CF45-4E31-813B-CB84F411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3AB92-46B5-4163-98A0-5ADBC04F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048EA-4B87-4592-B7E8-C32C2DE1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E3DFF-38A6-48F2-AB5B-5A3758BC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0872A-5FA1-4618-A48C-2C277BFA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8ACC5-1138-4527-A0FA-EFD4F855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F34A1-5E59-4131-8942-232C4D90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93963-CE0C-43EB-9DF6-70539CE9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FFC3-1E9E-41B3-948A-E1DFE9FF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F5F5A-DA9B-4680-8A1A-BE13059A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7FE1F-1FDA-4166-8E26-255DFFDD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EF3C3-0925-4520-BA44-F783B097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861A7-B249-48D0-A302-58EB4727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4870D-2F1F-412E-A973-AC1AC38E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49E6E-BAE7-4DC2-ADED-458140D8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8DCC9-4F4E-4237-938F-B267C228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567E6-BD9A-4DC4-A49E-7954EBEA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D4355-B3EF-43D7-99D0-B067F0A9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B576C-2312-4542-AF2C-2D84663C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98D5-A3C9-464F-910A-73C3C177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EAFB5-51BA-40DA-AED4-7A35CD19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FBDE5-49AD-4F5E-A32D-2F833E7E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EF15A-5118-4C9A-A878-3FF93890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999AA-4A08-43B3-AB24-91F3AE9F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B9497-B24E-4157-BEA3-703B9EFC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4D376-A0BC-461B-81AB-724D1E14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E668B-353F-4FF5-8375-D2BFB608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AC9E4-277E-43DE-AEB0-5447EA8D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7A14A-52DC-4CD9-8BC0-37720859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8B108-48A4-4017-ABA3-63968274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A7C7-CA83-4BA3-9346-7C4467AB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6519D-2563-495F-84E4-05958873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59A04-2838-4D3C-BAAF-23D919A9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146D9-8B30-4224-B22B-9F441177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45183-4161-4C24-BA23-326ED75F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08683-1072-45E6-8692-E6CABB65F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58BEB-AFAA-4049-93D1-5E845E30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6059D-D246-4060-A5C6-9372BE4F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C2051-7133-4C4D-B359-8BC4B3F8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E8817-EAA6-4093-A182-2A63B9C4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75BF3-34D3-4B20-A4C2-2A4B8CF0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A698-0064-4DBC-8F5D-B5C2A5B0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06648-1DEF-4326-A651-6C1EF611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989DE-FB44-4B80-8D2C-FE7D07A5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00807-FD65-482C-8047-F89DAA21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0C683-5CB3-40FD-90B2-3BCA7E01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275FF-E0FA-4312-93CE-777DA178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64188-81EC-4CAE-86A2-20A4F5F3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5C41E-132B-4E59-ABB0-F381C77A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10BC-49A5-4E4E-9FDD-FAF40FE32AE1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hthoe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Rechthoe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Rechthoek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Rechthoek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5E84-66DC-47CE-BD72-A348F87CB0F5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Rechthoek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Rechthoek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f4e7ed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567D-FC95-44C4-AC7B-773CBEE5F5EF}" type="slidenum">
              <a:rPr b="0" lang="nl-NL" sz="14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Gelijkbenige driehoek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0764-64CD-44EF-9ABB-B462C4BFB556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D90D-3E65-41BF-A369-B55ACD7E85E2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Rechte verbindingslijn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Gelijkbenige driehoek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0DD9-1BEE-4570-B44E-C2F1FF52E813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Rechthoek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f4e7ed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0220-C667-4B0E-BC0D-49DF28865FCD}" type="slidenum">
              <a:rPr b="0" lang="nl-NL" sz="14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2e4">
            <a:alpha val="6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Rechte verbindingslijn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ac66b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9759a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ac66b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0CA4-40B2-4462-BF17-D58929FB0F1D}" type="slidenum">
              <a:rPr b="0" lang="nl-NL" sz="14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schools.fsusd.k12.ca.us/schools/fhs/teacher/link/GigioC/Dreamweaver%202/Oh%20The%20Places%20you&apos;ll%20Go.ht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7030a0"/>
                </a:solidFill>
                <a:latin typeface="Matura MT Script Capitals"/>
              </a:rPr>
              <a:t>Oh, the Places You’ll Go!</a:t>
            </a:r>
            <a:endParaRPr b="0" lang="en-US" sz="40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13f9a"/>
                </a:solidFill>
                <a:latin typeface="Bookman Old Style"/>
              </a:rPr>
              <a:t>Minor MVT -  Young Adult Litera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2" name="Afbeelding 1" descr="product afbeelding"/>
          <p:cNvPicPr/>
          <p:nvPr/>
        </p:nvPicPr>
        <p:blipFill>
          <a:blip r:embed="rId1"/>
          <a:stretch/>
        </p:blipFill>
        <p:spPr>
          <a:xfrm>
            <a:off x="6784920" y="1066680"/>
            <a:ext cx="154152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will come to a place where the streets are not marke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me windows are lighted. But mostly they're darke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place you could sprain both you elbow and chin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 you dare to stay out? Do you dare to go in?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ow much can you lose? How much can you win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IF you go in, should you turn left or right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right-and-three-quarters? Or, maybe, not quite?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go around back and sneak in from behind?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mple it's not, I'm afraid you will find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r a mind-maker-upper to make up his min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can get so confused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at you'll start in to rac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wn long wiggled roads at a break-necking pac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grind on for miles across weirdish wild space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eaded, I fear, toward a most useless place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Waiting Place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142720" y="2571840"/>
            <a:ext cx="654372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..for people just waiting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aiting for a train to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a bus to come, or a plane to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the mail to come, or the rain to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the phone to ring, or the snow to snow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waiting around for a Yes or a N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waiting for their hair to grow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veryone is just wait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aiting for the fish to bi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waiting for wind to fly a ki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waiting around for Friday nigh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waiting, perhaps, for their Uncle Jak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a pot to boil, or a Better Break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a sting of pearls, or a pair of pant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 a wig with curls, or Another Chance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veryone is just wait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643040" y="2214720"/>
            <a:ext cx="5857920" cy="24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NO!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That's not for you!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mehow you'll escap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 that waiting and staying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find the bright plac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re Boom Bands are play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banner flip-flapping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ce more you'll ride high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dy for anything under the sky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dy because you're that kind of a guy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h, the places you'll go! There is fun to be done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 are points to be scored. there are games to be won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the magical things you can do with that bal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ll make you the winning-est winner of all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me! You'll be famous as famous can be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the whole wide world watching you win on TV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357520" y="5214960"/>
            <a:ext cx="332892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xcept when they don't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Because, sometimes, they won't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'm afraid that some tim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play lonely games too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ames you can't wi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'cause you'll play against yo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 Alone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ther you like it or not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one will be something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be quite a lo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when you're alone, there's a very good chanc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meet things that scare you right out of your pants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re are some, down the road between hither and yon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at can scare you so much you won't want to go 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t on you will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ough the weather be fou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 you will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ough your enemies prow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gratulations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day is your day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re off to Great Places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re off and away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have brains in your hea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have feet in your sho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can steer yourself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y direction you choose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re on your own. And you know what you know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YOU are the guy who'll decide where to go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 you will g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ough the Hakken-Kraks how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ward up man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frightening creek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ough your arms may get so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your sneakers may leak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 and on you will hik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I know you'll hike fa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face up to your problem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ever they ar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get mixed up, of cours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s you already know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get mixed u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many strange birds as you go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 be sure when you step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tep with care and great tac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remember that Life'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Great Balancing Act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ust never forget to be dexterous and deft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never mix up your right foot with your lef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714320" y="2499840"/>
            <a:ext cx="568620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12760" indent="-21276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And will you succeed?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500200" y="2286000"/>
            <a:ext cx="33292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atura MT Script Capitals"/>
              </a:rPr>
              <a:t>Yes! 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Tijdelijke aanduiding voor inhoud 2"/>
          <p:cNvSpPr/>
          <p:nvPr/>
        </p:nvSpPr>
        <p:spPr>
          <a:xfrm>
            <a:off x="500040" y="71424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Yes!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Tijdelijke aanduiding voor inhoud 2"/>
          <p:cNvSpPr/>
          <p:nvPr/>
        </p:nvSpPr>
        <p:spPr>
          <a:xfrm>
            <a:off x="6786720" y="642960"/>
            <a:ext cx="2043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dadad"/>
                </a:solidFill>
                <a:latin typeface="Matura MT Script Capitals"/>
              </a:rPr>
              <a:t>Yes!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Tijdelijke aanduiding voor inhoud 2"/>
          <p:cNvSpPr/>
          <p:nvPr/>
        </p:nvSpPr>
        <p:spPr>
          <a:xfrm>
            <a:off x="1071720" y="4500720"/>
            <a:ext cx="200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Yes!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Tijdelijke aanduiding voor inhoud 2"/>
          <p:cNvSpPr/>
          <p:nvPr/>
        </p:nvSpPr>
        <p:spPr>
          <a:xfrm>
            <a:off x="5286240" y="4643280"/>
            <a:ext cx="1214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Yes!</a:t>
            </a:r>
            <a:r>
              <a:rPr b="0" lang="en-US" sz="22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Tijdelijke aanduiding voor inhoud 2"/>
          <p:cNvSpPr/>
          <p:nvPr/>
        </p:nvSpPr>
        <p:spPr>
          <a:xfrm>
            <a:off x="4429080" y="128592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Yes!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Tijdelijke aanduiding voor inhoud 2"/>
          <p:cNvSpPr/>
          <p:nvPr/>
        </p:nvSpPr>
        <p:spPr>
          <a:xfrm rot="20373600">
            <a:off x="642600" y="1856880"/>
            <a:ext cx="1214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Yes!</a:t>
            </a:r>
            <a:r>
              <a:rPr b="0" lang="en-US" sz="22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Tijdelijke aanduiding voor inhoud 2"/>
          <p:cNvSpPr/>
          <p:nvPr/>
        </p:nvSpPr>
        <p:spPr>
          <a:xfrm rot="1504200">
            <a:off x="6571800" y="3429000"/>
            <a:ext cx="2000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Yes!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Tijdelijke aanduiding voor inhoud 2"/>
          <p:cNvSpPr/>
          <p:nvPr/>
        </p:nvSpPr>
        <p:spPr>
          <a:xfrm rot="20565000">
            <a:off x="6000480" y="571500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Yes!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571920" y="2786040"/>
            <a:ext cx="2571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Gill Sans MT"/>
              </a:rPr>
              <a:t>You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714760" y="2357280"/>
            <a:ext cx="247176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Gill Sans MT"/>
              </a:rPr>
              <a:t>will, 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357280" y="2428560"/>
            <a:ext cx="397224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34360" indent="-23436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Gill Sans MT"/>
              </a:rPr>
              <a:t>indeed!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428800" y="5714640"/>
            <a:ext cx="32576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31840" indent="-23184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(98 and 3 / 4 percent guaranteed.)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571400" y="2214360"/>
            <a:ext cx="604332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KID, YOU'LL MOVE MOUNTAINS!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2500200" y="2286000"/>
            <a:ext cx="33292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atura MT Script Capitals"/>
              </a:rPr>
              <a:t>So… 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Tijdelijke aanduiding voor inhoud 2"/>
          <p:cNvSpPr/>
          <p:nvPr/>
        </p:nvSpPr>
        <p:spPr>
          <a:xfrm>
            <a:off x="500040" y="71424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Tijdelijke aanduiding voor inhoud 2"/>
          <p:cNvSpPr/>
          <p:nvPr/>
        </p:nvSpPr>
        <p:spPr>
          <a:xfrm>
            <a:off x="6786720" y="642960"/>
            <a:ext cx="2043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dadad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Tijdelijke aanduiding voor inhoud 2"/>
          <p:cNvSpPr/>
          <p:nvPr/>
        </p:nvSpPr>
        <p:spPr>
          <a:xfrm>
            <a:off x="1071720" y="4500720"/>
            <a:ext cx="200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So…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Tijdelijke aanduiding voor inhoud 2"/>
          <p:cNvSpPr/>
          <p:nvPr/>
        </p:nvSpPr>
        <p:spPr>
          <a:xfrm>
            <a:off x="5286240" y="4643280"/>
            <a:ext cx="1214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So…</a:t>
            </a:r>
            <a:r>
              <a:rPr b="0" lang="en-US" sz="22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Tijdelijke aanduiding voor inhoud 2"/>
          <p:cNvSpPr/>
          <p:nvPr/>
        </p:nvSpPr>
        <p:spPr>
          <a:xfrm>
            <a:off x="4429080" y="128592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Tijdelijke aanduiding voor inhoud 2"/>
          <p:cNvSpPr/>
          <p:nvPr/>
        </p:nvSpPr>
        <p:spPr>
          <a:xfrm rot="20373600">
            <a:off x="642600" y="1856880"/>
            <a:ext cx="1214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So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Tijdelijke aanduiding voor inhoud 2"/>
          <p:cNvSpPr/>
          <p:nvPr/>
        </p:nvSpPr>
        <p:spPr>
          <a:xfrm rot="1504200">
            <a:off x="6571800" y="3429000"/>
            <a:ext cx="2000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So…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Tijdelijke aanduiding voor inhoud 2"/>
          <p:cNvSpPr/>
          <p:nvPr/>
        </p:nvSpPr>
        <p:spPr>
          <a:xfrm rot="20565000">
            <a:off x="6000480" y="571500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look up and down streets. Look 'em over with care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bout some you will say, "I don't choose to go there."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your head full of brains and your shoes full of feet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re too smart to go down any not-so-good stree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you may not find an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want to go down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that case, of cours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head straight out of tow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 your name Buxbaum or Bixby or Bra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 Mordecai Ali Van Allen O'Shea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're off to Great Places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day is your day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r mountain is waiting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500200" y="2286000"/>
            <a:ext cx="33292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Matura MT Script Capitals"/>
              </a:rPr>
              <a:t>So… 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Tijdelijke aanduiding voor inhoud 2"/>
          <p:cNvSpPr/>
          <p:nvPr/>
        </p:nvSpPr>
        <p:spPr>
          <a:xfrm>
            <a:off x="500040" y="71424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Tijdelijke aanduiding voor inhoud 2"/>
          <p:cNvSpPr/>
          <p:nvPr/>
        </p:nvSpPr>
        <p:spPr>
          <a:xfrm>
            <a:off x="6786720" y="642960"/>
            <a:ext cx="2043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dadad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Tijdelijke aanduiding voor inhoud 2"/>
          <p:cNvSpPr/>
          <p:nvPr/>
        </p:nvSpPr>
        <p:spPr>
          <a:xfrm>
            <a:off x="1071720" y="4500720"/>
            <a:ext cx="200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So…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Tijdelijke aanduiding voor inhoud 2"/>
          <p:cNvSpPr/>
          <p:nvPr/>
        </p:nvSpPr>
        <p:spPr>
          <a:xfrm>
            <a:off x="5286240" y="4643280"/>
            <a:ext cx="1214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So…</a:t>
            </a:r>
            <a:r>
              <a:rPr b="0" lang="en-US" sz="22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Tijdelijke aanduiding voor inhoud 2"/>
          <p:cNvSpPr/>
          <p:nvPr/>
        </p:nvSpPr>
        <p:spPr>
          <a:xfrm>
            <a:off x="4429080" y="128592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Tijdelijke aanduiding voor inhoud 2"/>
          <p:cNvSpPr/>
          <p:nvPr/>
        </p:nvSpPr>
        <p:spPr>
          <a:xfrm rot="20373600">
            <a:off x="642600" y="1856880"/>
            <a:ext cx="1214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c0ab"/>
                </a:solidFill>
                <a:latin typeface="Matura MT Script Capitals"/>
              </a:rPr>
              <a:t>So…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Tijdelijke aanduiding voor inhoud 2"/>
          <p:cNvSpPr/>
          <p:nvPr/>
        </p:nvSpPr>
        <p:spPr>
          <a:xfrm rot="1504200">
            <a:off x="6571800" y="3429000"/>
            <a:ext cx="2000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ca7b3"/>
                </a:solidFill>
                <a:latin typeface="Matura MT Script Capitals"/>
              </a:rPr>
              <a:t>So…</a:t>
            </a:r>
            <a:r>
              <a:rPr b="0" lang="en-US" sz="48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Tijdelijke aanduiding voor inhoud 2"/>
          <p:cNvSpPr/>
          <p:nvPr/>
        </p:nvSpPr>
        <p:spPr>
          <a:xfrm rot="20565000">
            <a:off x="6000480" y="571500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030a0"/>
                </a:solidFill>
                <a:latin typeface="Matura MT Script Capitals"/>
              </a:rPr>
              <a:t>So…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928880" y="4785840"/>
            <a:ext cx="68292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07360" indent="-20736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ill Sans MT"/>
              </a:rPr>
              <a:t>...get on your way!</a:t>
            </a: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7000560" y="5500800"/>
            <a:ext cx="16858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ffde66"/>
                </a:solidFill>
                <a:uFillTx/>
                <a:latin typeface="Gill Sans MT"/>
                <a:hlinkClick r:id="rId1"/>
              </a:rPr>
              <a:t>Dr. Seu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's opener the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the wide open a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ut there things can happe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frequently d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people as brain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footsy as yo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when things start to happen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on't worry. Don't stew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ust go right along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start happening too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428560" y="1356840"/>
            <a:ext cx="432900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OH!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Gill Sans MT"/>
              </a:rPr>
              <a:t>THE PLACES YOU'LL GO! 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be on your way up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be seeing great sights!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join the high flier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 soar to high heigh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won't lag behind, because you'll have the spee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pass the whole gang and you'll soon take the lead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rever you fly, you'll be the best of the best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rever you go, you will top all the res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428920" y="2857680"/>
            <a:ext cx="475776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xcept when you don'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Because, sometimes, you won't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'm sorry to say s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t, sadly, it's tru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Hang-up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n happen to yo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can get all hung u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 a prickle-ly perch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your gang will fly on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be left in a Lurch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Bookman Old Styl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ll come down from the Lurch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th an unpleasant bump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the chances are, then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at you'll be in a Slump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d when you're in a Slump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're not in for much fun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n-slumping yourself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s not easily don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8:59:53Z</dcterms:created>
  <dc:creator>Claire</dc:creator>
  <dc:description/>
  <dc:language>en-US</dc:language>
  <cp:lastModifiedBy>Claire</cp:lastModifiedBy>
  <dcterms:modified xsi:type="dcterms:W3CDTF">2009-02-06T19:30:30Z</dcterms:modified>
  <cp:revision>5</cp:revision>
  <dc:subject/>
  <dc:title>Oh, the Places You’ll Go!</dc:title>
</cp:coreProperties>
</file>